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7.wav" ContentType="audio/x-wav"/>
  <Override PartName="/ppt/media/image11.png" ContentType="image/png"/>
  <Override PartName="/ppt/media/image19.jpeg" ContentType="image/jpeg"/>
  <Override PartName="/ppt/media/9.wav" ContentType="audio/x-wav"/>
  <Override PartName="/ppt/media/image14.jpeg" ContentType="image/jpeg"/>
  <Override PartName="/ppt/media/image8.png" ContentType="image/png"/>
  <Override PartName="/ppt/media/image6.jpeg" ContentType="image/jpeg"/>
  <Override PartName="/ppt/media/2.wav" ContentType="audio/x-wav"/>
  <Override PartName="/ppt/media/image12.jpeg" ContentType="image/jpeg"/>
  <Override PartName="/ppt/media/image10.gif" ContentType="image/gif"/>
  <Override PartName="/ppt/media/image7.png" ContentType="image/png"/>
  <Override PartName="/ppt/media/image22.jpeg" ContentType="image/jpeg"/>
  <Override PartName="/ppt/media/image9.png" ContentType="image/png"/>
  <Override PartName="/ppt/media/8.wav" ContentType="audio/x-wav"/>
  <Override PartName="/ppt/media/image23.jpeg" ContentType="image/jpeg"/>
  <Override PartName="/ppt/media/5.wav" ContentType="audio/x-wav"/>
  <Override PartName="/ppt/media/image4.jpeg" ContentType="image/jpeg"/>
  <Override PartName="/ppt/media/image2.png" ContentType="image/png"/>
  <Override PartName="/ppt/media/image3.png" ContentType="image/png"/>
  <Override PartName="/ppt/media/1.wav" ContentType="audio/x-wav"/>
  <Override PartName="/ppt/media/image18.jpeg" ContentType="image/jpeg"/>
  <Override PartName="/ppt/media/4.wav" ContentType="audio/x-wav"/>
  <Override PartName="/ppt/media/3.wav" ContentType="audio/x-wav"/>
  <Override PartName="/ppt/media/image13.jpeg" ContentType="image/jpeg"/>
  <Override PartName="/ppt/media/image5.jpeg" ContentType="image/jpeg"/>
  <Override PartName="/ppt/media/image15.gif" ContentType="image/gif"/>
  <Override PartName="/ppt/media/image16.gif" ContentType="image/gif"/>
  <Override PartName="/ppt/media/image17.png" ContentType="image/png"/>
  <Override PartName="/ppt/media/image1.jpeg" ContentType="image/jpeg"/>
  <Override PartName="/ppt/media/6.wav" ContentType="audio/x-wav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B5D9-E21F-46C6-A365-79B5EE7E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E5F2-D4F5-43B2-B1C5-72ED7443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3F58-5530-44F8-A010-0F210DC6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B06-23D3-43BE-AA2C-4273A19E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F030-84A2-4D6C-8837-7474C897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8089-7770-429F-A02D-D46BF56B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0FA4-2C53-4EF0-B692-3511CEB9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DD4C-77D2-4A73-A9A8-78FB932B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BA2D-1783-48EA-91C4-B53CE8DB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77E7-1108-41B4-8344-0160A0E4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7A18-B8C8-4AB6-8AEF-2DC21800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09E9-CC47-4FF7-83DF-DCE9A548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EA33-005B-44B5-B155-0A1E82C8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950D-5E1F-41A0-8A38-D7520744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96F2-C28D-4928-930A-C9460964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9F57-ED8B-4A11-80B4-C6E7802B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057E-469F-427B-95D5-DBE09505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7586E-801C-46A6-A65C-0FE4C7EE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B41D0-C7A0-4409-92DB-F469BC4D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8FFA8-DF87-4DCB-9433-64E96AAE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3E68D-3B21-4F61-85FE-F00D5573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50E27-4B88-4E49-960C-5E609942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BB72-CC28-410E-BF97-762086D1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9A1C1-7F54-4F6E-A170-54A99B11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A4D0A-DAAF-4139-B5CC-A30CBDE3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D04D7-0A5F-434F-B04A-AF2AB548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6B97B-81A8-4259-AC64-C7112569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44781-82B1-4137-BA3E-4011B5D5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9CE17-EA9E-43A2-AB85-38CD04F5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289AE-0A9B-4572-86BB-EE6859DB9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6F27-E6C2-489C-8421-044D5C2D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1440-0FA0-4BAD-BE40-FD3AC803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EF8E-6B5E-4453-9731-DAD853B3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7E3A-3058-4A96-B744-AF9C29D6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1E6D-1C28-4514-B399-1200DE4C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5727-BB66-4B7A-BC20-57017514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11DE-84E4-4556-8B2C-4FA50636F1B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6220-62A1-4C9E-8C01-7914F0442D80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3C0E-4277-4C83-8CED-93A2CF613724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1.wav"/><Relationship Id="rId5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2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gif"/><Relationship Id="rId7" Type="http://schemas.openxmlformats.org/officeDocument/2006/relationships/image" Target="../media/image11.png"/><Relationship Id="rId8" Type="http://schemas.openxmlformats.org/officeDocument/2006/relationships/audio" Target="../media/3.wav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4.wav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audio" Target="../media/5.wav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audio" Target="../media/6.wav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7.wav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8.wav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9.wav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00720" y="1222200"/>
            <a:ext cx="3240000" cy="18050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301760" y="2084400"/>
            <a:ext cx="2378160" cy="3395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3887640" cy="1719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619280" y="5445000"/>
            <a:ext cx="81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Edelfontmed"/>
                <a:ea typeface="宋体"/>
              </a:rPr>
              <a:t> </a:t>
            </a:r>
            <a:r>
              <a:rPr b="1" lang="es-ES" sz="6000" spc="-1" strike="noStrike">
                <a:solidFill>
                  <a:srgbClr val="0000ff"/>
                </a:solidFill>
                <a:latin typeface="Edelfontmed"/>
                <a:ea typeface="宋体"/>
              </a:rPr>
              <a:t>Picasso  es un pint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hecker dir="horz"/>
    <p:sndAc>
      <p:stSnd>
        <p:snd r:embed="rId4" name="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547640" y="1576440"/>
            <a:ext cx="67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a50021"/>
                </a:solidFill>
                <a:latin typeface="Edelfontmed"/>
                <a:ea typeface="宋体"/>
              </a:rPr>
              <a:t>Este Picasso es un caso</a:t>
            </a:r>
            <a:r>
              <a:rPr b="0" lang="es-ES" sz="4800" spc="-1" strike="noStrike">
                <a:solidFill>
                  <a:srgbClr val="000000"/>
                </a:solidFill>
                <a:latin typeface="Edelfontmed"/>
                <a:ea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  <p:sndAc>
      <p:stSnd>
        <p:snd r:embed="rId2" name="2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-98280" y="-1080"/>
            <a:ext cx="71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Edelfontmed"/>
              </a:rPr>
              <a:t>¡</a:t>
            </a:r>
            <a:r>
              <a:rPr b="1" lang="es-ES" sz="3200" spc="-1" strike="noStrike">
                <a:solidFill>
                  <a:srgbClr val="a50021"/>
                </a:solidFill>
                <a:latin typeface="Edelfontmed"/>
              </a:rPr>
              <a:t>Qué divertido es Picasso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50021"/>
                </a:solidFill>
                <a:latin typeface="Edelfontmed"/>
              </a:rPr>
              <a:t>Es pintor rompecabe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50021"/>
                </a:solidFill>
                <a:latin typeface="Edelfontmed"/>
              </a:rPr>
              <a:t>Que al cuerpo rompe en mil pie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50021"/>
                </a:solidFill>
                <a:latin typeface="Edelfontmed"/>
              </a:rPr>
              <a:t>Y pone el rostro en  los p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50021"/>
                </a:solidFill>
                <a:latin typeface="Edelfontmed"/>
              </a:rPr>
              <a:t>¡Todo lo pinta al revé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50021"/>
                </a:solidFill>
                <a:latin typeface="Edelfontmed"/>
              </a:rPr>
              <a:t>¡Este Picasso es un ca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2865240" cy="3457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5364000" y="2781360"/>
            <a:ext cx="1352880" cy="1238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6227640" y="4292640"/>
            <a:ext cx="2143080" cy="1647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4211640" y="4365720"/>
            <a:ext cx="1609560" cy="1323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2916360" y="1413000"/>
            <a:ext cx="647640" cy="2746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 rot="21316800">
            <a:off x="6933960" y="1643040"/>
            <a:ext cx="123804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-543240"/>
            <a:ext cx="5035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Es un puro dispa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No es que te hiera</a:t>
            </a:r>
            <a:r>
              <a:rPr b="1" lang="es-ES" sz="3200" spc="-1" strike="noStrike">
                <a:solidFill>
                  <a:srgbClr val="fffff7"/>
                </a:solidFill>
                <a:latin typeface="Edelfontmed"/>
              </a:rPr>
              <a:t> o te ma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Pero en lugar </a:t>
            </a:r>
            <a:r>
              <a:rPr b="1" lang="es-ES" sz="3200" spc="-1" strike="noStrike">
                <a:solidFill>
                  <a:srgbClr val="fffff7"/>
                </a:solidFill>
                <a:latin typeface="Edelfontmed"/>
              </a:rPr>
              <a:t>de dos ce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Él te pone </a:t>
            </a:r>
            <a:r>
              <a:rPr b="1" lang="es-ES" sz="3200" spc="-1" strike="noStrike">
                <a:solidFill>
                  <a:srgbClr val="fffff7"/>
                </a:solidFill>
                <a:latin typeface="Edelfontmed"/>
              </a:rPr>
              <a:t>dos orej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¡ vaya caso el </a:t>
            </a:r>
            <a:r>
              <a:rPr b="1" lang="es-ES" sz="3200" spc="-1" strike="noStrike">
                <a:solidFill>
                  <a:srgbClr val="fffff7"/>
                </a:solidFill>
                <a:latin typeface="Edelfontmed"/>
              </a:rPr>
              <a:t>de Picas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5160" y="906840"/>
            <a:ext cx="5968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Te deja que es una p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Te trastoca y desorde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Te pone pies en las  m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Y en vez de dedos gus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¡Si es que Picasso es un caso</a:t>
            </a:r>
            <a:r>
              <a:rPr b="0" lang="es-ES" sz="3200" spc="-1" strike="noStrike">
                <a:solidFill>
                  <a:srgbClr val="000000"/>
                </a:solidFill>
                <a:latin typeface="Edelfontmed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925960" y="476280"/>
            <a:ext cx="2683080" cy="3240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140360" y="34290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4427640" y="2565360"/>
            <a:ext cx="43812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68360" y="-117000"/>
            <a:ext cx="431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Edelfontmed"/>
              </a:rPr>
              <a:t>En la boca pone un oj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Edelfontmed"/>
              </a:rPr>
              <a:t>Y te lo pinta de ro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Edelfontmed"/>
              </a:rPr>
              <a:t>Si se trata de un bigot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Edelfontmed"/>
              </a:rPr>
              <a:t>te lo pondrá en el cog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Edelfontmed"/>
              </a:rPr>
              <a:t>¡Menudo caso es Picas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243400" y="1197000"/>
            <a:ext cx="3368880" cy="4032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835280" y="3500280"/>
            <a:ext cx="212868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-2160"/>
            <a:ext cx="45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¿Eso es hombre o bicicle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¡ Si es que ya nada respet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os ojos que tu dices</a:t>
            </a:r>
            <a:r>
              <a:rPr b="1" i="1" lang="en-US" sz="2400" spc="-1" strike="noStrike">
                <a:solidFill>
                  <a:srgbClr val="000000"/>
                </a:solidFill>
                <a:latin typeface="Edelfontmed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24360" y="5445000"/>
            <a:ext cx="45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delfontmed"/>
              </a:rPr>
              <a:t>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9280" y="5877000"/>
            <a:ext cx="61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o son ojos…….</a:t>
            </a:r>
            <a:r>
              <a:rPr b="1" i="1" lang="es-ES" sz="2400" spc="-1" strike="noStrike">
                <a:solidFill>
                  <a:srgbClr val="fffff7"/>
                </a:solidFill>
                <a:latin typeface="Arial"/>
              </a:rPr>
              <a:t>¡son naric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¿No es un caso este Picas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29160" y="4021920"/>
            <a:ext cx="705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Edelfontmed"/>
              </a:rPr>
              <a:t>Todo lo tuerce o disloc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Edelfontmed"/>
              </a:rPr>
              <a:t>Las piernas, brazos, y boc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Edelfontmed"/>
              </a:rPr>
              <a:t>No es verdad lo que tú v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Edelfontmed"/>
              </a:rPr>
              <a:t>¡El pinta el mundo </a:t>
            </a:r>
            <a:r>
              <a:rPr b="1" lang="en-US" sz="4000" spc="-1" strike="noStrike">
                <a:solidFill>
                  <a:srgbClr val="990033"/>
                </a:solidFill>
                <a:latin typeface="Edelfontmed"/>
              </a:rPr>
              <a:t>al revés</a:t>
            </a:r>
            <a:r>
              <a:rPr b="0" lang="en-US" sz="3200" spc="-1" strike="noStrike">
                <a:solidFill>
                  <a:srgbClr val="990033"/>
                </a:solidFill>
                <a:latin typeface="Edelfontmed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762012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419640" y="28526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5668920"/>
            <a:ext cx="806436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ff"/>
                </a:solidFill>
                <a:latin typeface="Edelfontmed"/>
              </a:rPr>
              <a:t>¡ Qué Picasso es este caso 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66"/>
                                      </p:to>
                                    </p:animClr>
                                    <p:animClr clrSpc="rgb">
                                      <p:cBhvr>
                                        <p:cTn id="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66"/>
                                      </p:to>
                                    </p:animClr>
                                    <p:set>
                                      <p:cBhvr>
                                        <p:cTn id="42" dur="3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9:15:05Z</dcterms:created>
  <dc:creator>Juli</dc:creator>
  <dc:description/>
  <dc:language>en-US</dc:language>
  <cp:lastModifiedBy>Juli</cp:lastModifiedBy>
  <dcterms:modified xsi:type="dcterms:W3CDTF">2008-01-31T19:23:58Z</dcterms:modified>
  <cp:revision>34</cp:revision>
  <dc:subject/>
  <dc:title>Diapositiva 1</dc:title>
</cp:coreProperties>
</file>