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7.wav" ContentType="audio/x-wav"/>
  <Override PartName="/ppt/media/image11.png" ContentType="image/png"/>
  <Override PartName="/ppt/media/image19.jpeg" ContentType="image/jpeg"/>
  <Override PartName="/ppt/media/9.wav" ContentType="audio/x-wav"/>
  <Override PartName="/ppt/media/image14.jpeg" ContentType="image/jpeg"/>
  <Override PartName="/ppt/media/image8.png" ContentType="image/png"/>
  <Override PartName="/ppt/media/image6.jpeg" ContentType="image/jpeg"/>
  <Override PartName="/ppt/media/2.wav" ContentType="audio/x-wav"/>
  <Override PartName="/ppt/media/image12.jpeg" ContentType="image/jpeg"/>
  <Override PartName="/ppt/media/image10.gif" ContentType="image/gif"/>
  <Override PartName="/ppt/media/image7.png" ContentType="image/png"/>
  <Override PartName="/ppt/media/image22.jpeg" ContentType="image/jpeg"/>
  <Override PartName="/ppt/media/image9.png" ContentType="image/png"/>
  <Override PartName="/ppt/media/8.wav" ContentType="audio/x-wav"/>
  <Override PartName="/ppt/media/image23.jpeg" ContentType="image/jpeg"/>
  <Override PartName="/ppt/media/5.wav" ContentType="audio/x-wav"/>
  <Override PartName="/ppt/media/image4.jpeg" ContentType="image/jpeg"/>
  <Override PartName="/ppt/media/image2.png" ContentType="image/png"/>
  <Override PartName="/ppt/media/image3.png" ContentType="image/png"/>
  <Override PartName="/ppt/media/1.wav" ContentType="audio/x-wav"/>
  <Override PartName="/ppt/media/image18.jpeg" ContentType="image/jpeg"/>
  <Override PartName="/ppt/media/4.wav" ContentType="audio/x-wav"/>
  <Override PartName="/ppt/media/3.wav" ContentType="audio/x-wav"/>
  <Override PartName="/ppt/media/image13.jpeg" ContentType="image/jpeg"/>
  <Override PartName="/ppt/media/image5.jpeg" ContentType="image/jpeg"/>
  <Override PartName="/ppt/media/image15.gif" ContentType="image/gif"/>
  <Override PartName="/ppt/media/image16.gif" ContentType="image/gif"/>
  <Override PartName="/ppt/media/image17.png" ContentType="image/png"/>
  <Override PartName="/ppt/media/image1.jpeg" ContentType="image/jpeg"/>
  <Override PartName="/ppt/media/6.wav" ContentType="audio/x-wav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A465-2154-4251-8470-51104C55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EF9-5DDF-4895-BAD5-92986DE9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D19-627E-4156-B8BA-0D4A3542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0A89-40B2-45BE-8BEB-91185DB6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7B28-A3E1-4DE7-9D90-CB50EF91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44FA-F6E3-4CC3-A720-C6379315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9FC4-5942-47C7-8FAA-91806734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825B-A171-4A1F-B013-A56E3155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C7E6-6B48-4F8D-9140-3554963F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57B1-7945-44FD-A1A7-0B6DE625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507D-52FB-4456-88EC-2F29C217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D24F-2357-4B78-AEE8-843B5BE9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B2BA-4762-4B01-8FDC-3A4A50FD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730F-6898-4C5E-A67E-E8C77108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D04C-DBD8-4FCC-B98E-80DDBFDF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3200-5014-4D18-9BB9-938B2AAC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D529-437E-4B8B-889F-AEED3112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CFD33-C122-4AEA-BF12-E7B82196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1B8DB-FD32-45E7-8667-B1E629BD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2C21F-C7B5-477C-9A3F-56E7548B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F800D-7413-475A-AE4C-B6760F2B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21182-D225-471F-80E9-C76AB21B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B624-15BC-4B7A-8DC3-D0879A22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C0565-3F22-4314-845B-741734AB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5AB6D-5E58-4500-AC8A-4B0CC7ED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E0944-CC95-4283-AE4D-8C75499A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B7CEC-52A4-4C08-9C44-57C2BA59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D41A3-0B7A-49C8-AFAB-9709CEEC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B3181-5D0C-4DD7-8B16-720FC67F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A460E-1396-40CE-9B30-3A57F5DA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BE28-FA33-4F41-8A2E-8802BB69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68CD-8348-4143-92FA-AAEB9FD5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B929-C373-4137-ACD7-B8E32F1C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9AB2-690D-4753-B13D-F29F0454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6078-340A-45CB-8C5C-1088F8B3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2CE2-E647-4036-B1DB-E098CDBF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F326-AB7F-4E2D-83C8-E1FE6C0D155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FF90-5AB4-4D2A-9F1C-8A87A065872B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2356-B0FF-488A-97A3-FB6383DC3250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1.wav"/><Relationship Id="rId5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2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gif"/><Relationship Id="rId7" Type="http://schemas.openxmlformats.org/officeDocument/2006/relationships/image" Target="../media/image11.png"/><Relationship Id="rId8" Type="http://schemas.openxmlformats.org/officeDocument/2006/relationships/audio" Target="../media/3.wav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4.wav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audio" Target="../media/5.wav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6.wav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7.wav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8.wav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9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00720" y="1222200"/>
            <a:ext cx="3240000" cy="1805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301760" y="2084400"/>
            <a:ext cx="2378160" cy="3395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3887640" cy="1719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619280" y="5445000"/>
            <a:ext cx="81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Edelfontmed"/>
                <a:ea typeface="宋体"/>
              </a:rPr>
              <a:t> </a:t>
            </a:r>
            <a:r>
              <a:rPr b="1" lang="es-ES" sz="6000" spc="-1" strike="noStrike">
                <a:solidFill>
                  <a:srgbClr val="0000ff"/>
                </a:solidFill>
                <a:latin typeface="Edelfontmed"/>
                <a:ea typeface="宋体"/>
              </a:rPr>
              <a:t>Picasso  es un pin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hecker dir="horz"/>
    <p:sndAc>
      <p:stSnd>
        <p:snd r:embed="rId4" name="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547640" y="1576440"/>
            <a:ext cx="67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a50021"/>
                </a:solidFill>
                <a:latin typeface="Edelfontmed"/>
                <a:ea typeface="宋体"/>
              </a:rPr>
              <a:t>Este Picasso es un caso</a:t>
            </a:r>
            <a:r>
              <a:rPr b="0" lang="es-ES" sz="4800" spc="-1" strike="noStrike">
                <a:solidFill>
                  <a:srgbClr val="000000"/>
                </a:solidFill>
                <a:latin typeface="Edelfontmed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  <p:sndAc>
      <p:stSnd>
        <p:snd r:embed="rId2" name="2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98280" y="-1080"/>
            <a:ext cx="71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Edelfontmed"/>
              </a:rPr>
              <a:t>¡</a:t>
            </a:r>
            <a:r>
              <a:rPr b="1" lang="es-ES" sz="3200" spc="-1" strike="noStrike">
                <a:solidFill>
                  <a:srgbClr val="a50021"/>
                </a:solidFill>
                <a:latin typeface="Edelfontmed"/>
              </a:rPr>
              <a:t>Qué divertido es Picasso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50021"/>
                </a:solidFill>
                <a:latin typeface="Edelfontmed"/>
              </a:rPr>
              <a:t>Es pintor rompecab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50021"/>
                </a:solidFill>
                <a:latin typeface="Edelfontmed"/>
              </a:rPr>
              <a:t>Que al cuerpo rompe en mil pi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50021"/>
                </a:solidFill>
                <a:latin typeface="Edelfontmed"/>
              </a:rPr>
              <a:t>Y pone el rostro en  los p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50021"/>
                </a:solidFill>
                <a:latin typeface="Edelfontmed"/>
              </a:rPr>
              <a:t>¡Todo lo pinta al revé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50021"/>
                </a:solidFill>
                <a:latin typeface="Edelfontmed"/>
              </a:rPr>
              <a:t>¡Este Picasso es un ca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2865240" cy="3457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5364000" y="2781360"/>
            <a:ext cx="1352880" cy="1238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6227640" y="4292640"/>
            <a:ext cx="2143080" cy="1647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4211640" y="4365720"/>
            <a:ext cx="1609560" cy="1323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2916360" y="1413000"/>
            <a:ext cx="647640" cy="2746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 rot="21316800">
            <a:off x="6933960" y="1643040"/>
            <a:ext cx="123804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-543240"/>
            <a:ext cx="5035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Es un puro dispa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No es que te hiera</a:t>
            </a:r>
            <a:r>
              <a:rPr b="1" lang="es-ES" sz="3200" spc="-1" strike="noStrike">
                <a:solidFill>
                  <a:srgbClr val="fffff7"/>
                </a:solidFill>
                <a:latin typeface="Edelfontmed"/>
              </a:rPr>
              <a:t> o te ma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Pero en lugar </a:t>
            </a:r>
            <a:r>
              <a:rPr b="1" lang="es-ES" sz="3200" spc="-1" strike="noStrike">
                <a:solidFill>
                  <a:srgbClr val="fffff7"/>
                </a:solidFill>
                <a:latin typeface="Edelfontmed"/>
              </a:rPr>
              <a:t>de dos ce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Él te pone </a:t>
            </a:r>
            <a:r>
              <a:rPr b="1" lang="es-ES" sz="3200" spc="-1" strike="noStrike">
                <a:solidFill>
                  <a:srgbClr val="fffff7"/>
                </a:solidFill>
                <a:latin typeface="Edelfontmed"/>
              </a:rPr>
              <a:t>dos orej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¡ vaya caso el </a:t>
            </a:r>
            <a:r>
              <a:rPr b="1" lang="es-ES" sz="3200" spc="-1" strike="noStrike">
                <a:solidFill>
                  <a:srgbClr val="fffff7"/>
                </a:solidFill>
                <a:latin typeface="Edelfontmed"/>
              </a:rPr>
              <a:t>de Picas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5160" y="906840"/>
            <a:ext cx="5968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Te deja que es una p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Te trastoca y desorde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Te pone pies en las  m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Y en vez de dedos gus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Edelfontmed"/>
              </a:rPr>
              <a:t>¡Si es que Picasso es un caso</a:t>
            </a:r>
            <a:r>
              <a:rPr b="0" lang="es-ES" sz="3200" spc="-1" strike="noStrike">
                <a:solidFill>
                  <a:srgbClr val="000000"/>
                </a:solidFill>
                <a:latin typeface="Edelfontmed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925960" y="476280"/>
            <a:ext cx="2683080" cy="3240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140360" y="34290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4427640" y="2565360"/>
            <a:ext cx="43812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68360" y="-117000"/>
            <a:ext cx="431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Edelfontmed"/>
              </a:rPr>
              <a:t>En la boca pone un oj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Edelfontmed"/>
              </a:rPr>
              <a:t>Y te lo pinta de ro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Edelfontmed"/>
              </a:rPr>
              <a:t>Si se trata de un bigot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Edelfontmed"/>
              </a:rPr>
              <a:t>te lo pondrá en el cog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Edelfontmed"/>
              </a:rPr>
              <a:t>¡Menudo caso es Picas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243400" y="1197000"/>
            <a:ext cx="3368880" cy="4032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835280" y="3500280"/>
            <a:ext cx="212868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-2160"/>
            <a:ext cx="45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¿Eso es hombre o bicicle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¡ Si es que ya nada respet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os ojos que tu dices</a:t>
            </a:r>
            <a:r>
              <a:rPr b="1" i="1" lang="en-US" sz="2400" spc="-1" strike="noStrike">
                <a:solidFill>
                  <a:srgbClr val="000000"/>
                </a:solidFill>
                <a:latin typeface="Edelfontmed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24360" y="544500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delfontmed"/>
              </a:rPr>
              <a:t>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9280" y="5877000"/>
            <a:ext cx="61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o son ojos…….</a:t>
            </a:r>
            <a:r>
              <a:rPr b="1" i="1" lang="es-ES" sz="2400" spc="-1" strike="noStrike">
                <a:solidFill>
                  <a:srgbClr val="fffff7"/>
                </a:solidFill>
                <a:latin typeface="Arial"/>
              </a:rPr>
              <a:t>¡son naric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¿No es un caso este Picas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29160" y="4021920"/>
            <a:ext cx="705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Edelfontmed"/>
              </a:rPr>
              <a:t>Todo lo tuerce o disloc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Edelfontmed"/>
              </a:rPr>
              <a:t>Las piernas, brazos, y boc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Edelfontmed"/>
              </a:rPr>
              <a:t>No es verdad lo que tú v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Edelfontmed"/>
              </a:rPr>
              <a:t>¡El pinta el mundo </a:t>
            </a:r>
            <a:r>
              <a:rPr b="1" lang="en-US" sz="4000" spc="-1" strike="noStrike">
                <a:solidFill>
                  <a:srgbClr val="990033"/>
                </a:solidFill>
                <a:latin typeface="Edelfontmed"/>
              </a:rPr>
              <a:t>al revés</a:t>
            </a:r>
            <a:r>
              <a:rPr b="0" lang="en-US" sz="3200" spc="-1" strike="noStrike">
                <a:solidFill>
                  <a:srgbClr val="990033"/>
                </a:solidFill>
                <a:latin typeface="Edelfontmed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762012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419640" y="2852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5668920"/>
            <a:ext cx="806436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ff"/>
                </a:solidFill>
                <a:latin typeface="Edelfontmed"/>
              </a:rPr>
              <a:t>¡ Qué Picasso es este caso 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66"/>
                                      </p:to>
                                    </p:animClr>
                                    <p:animClr clrSpc="rgb">
                                      <p:cBhvr>
                                        <p:cTn id="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66"/>
                                      </p:to>
                                    </p:animClr>
                                    <p:set>
                                      <p:cBhvr>
                                        <p:cTn id="42" dur="3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9:15:05Z</dcterms:created>
  <dc:creator>Juli</dc:creator>
  <dc:description/>
  <dc:language>en-US</dc:language>
  <cp:lastModifiedBy>Juli</cp:lastModifiedBy>
  <dcterms:modified xsi:type="dcterms:W3CDTF">2008-01-31T19:23:58Z</dcterms:modified>
  <cp:revision>34</cp:revision>
  <dc:subject/>
  <dc:title>Diapositiva 1</dc:title>
</cp:coreProperties>
</file>