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7.wav" ContentType="audio/x-wav"/>
  <Override PartName="/ppt/media/image11.png" ContentType="image/png"/>
  <Override PartName="/ppt/media/image19.jpeg" ContentType="image/jpeg"/>
  <Override PartName="/ppt/media/9.wav" ContentType="audio/x-wav"/>
  <Override PartName="/ppt/media/image14.jpeg" ContentType="image/jpeg"/>
  <Override PartName="/ppt/media/image8.png" ContentType="image/png"/>
  <Override PartName="/ppt/media/image6.jpeg" ContentType="image/jpeg"/>
  <Override PartName="/ppt/media/2.wav" ContentType="audio/x-wav"/>
  <Override PartName="/ppt/media/image12.jpeg" ContentType="image/jpeg"/>
  <Override PartName="/ppt/media/image10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8.wav" ContentType="audio/x-wav"/>
  <Override PartName="/ppt/media/image23.jpeg" ContentType="image/jpeg"/>
  <Override PartName="/ppt/media/5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1.wav" ContentType="audio/x-wav"/>
  <Override PartName="/ppt/media/image18.jpeg" ContentType="image/jpeg"/>
  <Override PartName="/ppt/media/4.wav" ContentType="audio/x-wav"/>
  <Override PartName="/ppt/media/3.wav" ContentType="audio/x-wav"/>
  <Override PartName="/ppt/media/image13.jpeg" ContentType="image/jpeg"/>
  <Override PartName="/ppt/media/image5.jpeg" ContentType="image/jpeg"/>
  <Override PartName="/ppt/media/image15.gif" ContentType="image/gif"/>
  <Override PartName="/ppt/media/image16.gif" ContentType="image/gif"/>
  <Override PartName="/ppt/media/image17.png" ContentType="image/png"/>
  <Override PartName="/ppt/media/image1.jpeg" ContentType="image/jpeg"/>
  <Override PartName="/ppt/media/6.wav" ContentType="audio/x-wav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225-18A4-46D8-A80B-97651C52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981-491F-4DF1-A96E-E0FAA968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4BE-BF13-48BF-BD38-E7DA9AF1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994-2060-4D71-B2D2-02C42F42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8825-A993-498A-8ED7-972CEC3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A91-7649-4E58-ADF5-E6B9E20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0089-4E5E-4A9A-BC70-01FB438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FA6E-94D1-4DB1-A2F0-E8FCE314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94DD-775A-470A-834C-260232C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5737-8393-4D9B-A8AF-AE84FE0F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67A8-B681-4123-8A18-FCEE2B34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A45-E8B9-4D8F-9FFD-085BAC5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DD7-6E23-433C-B6EA-27475C9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AB7B-AC9E-4E66-B1A0-63F50431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FD5A-68E9-4023-8918-F205FC7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876E-CCB4-473B-823E-79441721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538-677D-4B02-9AC9-BA43AE17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1045-7E0D-4F7C-992D-5B435C24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512D-AF7F-4A89-88F9-94D10C4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6297-D29D-49BE-86EA-3991116F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6D35-4551-4C0F-B197-EB79965D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DEE2-B6CB-4C0A-8378-C6808182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F1E-1801-4EB9-8A1D-B38A84FD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A9C2-191A-4051-8324-4A1D42D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43C5D-79A2-439B-AE7F-44AEFB3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0413-24ED-44A6-9BE7-D7D025E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7836-346C-40C4-91BF-50F9DAA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88A5-E548-4E08-84B9-103755B2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3C1A-CE27-4144-BCD1-4DF6ED8E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D9AA-E162-4F21-8623-369E549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C59-3879-431B-9FB1-F069D641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A3E-FD20-48A6-BDC8-E3B43476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115-08B0-4FA8-B729-8E2D5CE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3D2-74FE-46D2-B50B-7FF0573D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233-A39E-4C04-9AE7-9EDAA16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EE5-FAD4-45A4-9CED-DEB3D21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09CA-B1FA-4F9E-ABA3-C50186C829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130-E2D8-4E0A-A5A1-3A6FC2AE895D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AC1-A4D5-484B-8C56-B04CC7974C02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1.wav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1.png"/><Relationship Id="rId8" Type="http://schemas.openxmlformats.org/officeDocument/2006/relationships/audio" Target="../media/3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4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audio" Target="../media/5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6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7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8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9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00720" y="1222200"/>
            <a:ext cx="3240000" cy="1805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01760" y="2084400"/>
            <a:ext cx="2378160" cy="3395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887640" cy="171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19280" y="544500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Edelfontmed"/>
                <a:ea typeface="宋体"/>
              </a:rPr>
              <a:t> </a:t>
            </a:r>
            <a:r>
              <a:rPr b="1" lang="es-ES" sz="6000" spc="-1" strike="noStrike">
                <a:solidFill>
                  <a:srgbClr val="0000ff"/>
                </a:solidFill>
                <a:latin typeface="Edelfontmed"/>
                <a:ea typeface="宋体"/>
              </a:rPr>
              <a:t>Picasso  es un pi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4" name="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1576440"/>
            <a:ext cx="67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a50021"/>
                </a:solidFill>
                <a:latin typeface="Edelfontmed"/>
                <a:ea typeface="宋体"/>
              </a:rPr>
              <a:t>Este Picasso es un caso</a:t>
            </a:r>
            <a:r>
              <a:rPr b="0" lang="es-ES" sz="4800" spc="-1" strike="noStrike">
                <a:solidFill>
                  <a:srgbClr val="000000"/>
                </a:solidFill>
                <a:latin typeface="Edelfontmed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  <p:sndAc>
      <p:stSnd>
        <p:snd r:embed="rId2" name="2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98280" y="-1080"/>
            <a:ext cx="71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Edelfontmed"/>
              </a:rPr>
              <a:t>¡</a:t>
            </a: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é divertido es Picass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Es pintor rompecab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e al cuerpo rompe en mil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Y pone el rostro en  los 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Todo lo pinta al revé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Este Picasso es un ca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865240" cy="3457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1352880" cy="123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227640" y="4292640"/>
            <a:ext cx="2143080" cy="1647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211640" y="4365720"/>
            <a:ext cx="1609560" cy="1323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916360" y="1413000"/>
            <a:ext cx="647640" cy="274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rot="21316800">
            <a:off x="6933960" y="1643040"/>
            <a:ext cx="12380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-543240"/>
            <a:ext cx="503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Es un puro dis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No es que te hiera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 o te m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Pero en lugar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dos ce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Él te pone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os ore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 vaya caso el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5160" y="906840"/>
            <a:ext cx="596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deja que es un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trastoca y desord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pone pies en las  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Y en vez de dedos gus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Si es que Picasso es un caso</a:t>
            </a: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25960" y="476280"/>
            <a:ext cx="2683080" cy="32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427640" y="2565360"/>
            <a:ext cx="4381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-11700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En la boca pone un oj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Y te lo pinta de ro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Si se trata de un bigo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te lo pondrá en el cog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¡Menudo caso es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243400" y="1197000"/>
            <a:ext cx="3368880" cy="403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835280" y="3500280"/>
            <a:ext cx="212868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16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¿Eso es hombre o bicicl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¡ Si es que ya nada respe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os ojos que tu dices</a:t>
            </a:r>
            <a:r>
              <a:rPr b="1" i="1" lang="en-US" sz="2400" spc="-1" strike="noStrike">
                <a:solidFill>
                  <a:srgbClr val="000000"/>
                </a:solidFill>
                <a:latin typeface="Edelfontme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54450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elfontmed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587700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son ojos…….</a:t>
            </a:r>
            <a:r>
              <a:rPr b="1" i="1" lang="es-ES" sz="2400" spc="-1" strike="noStrike">
                <a:solidFill>
                  <a:srgbClr val="fffff7"/>
                </a:solidFill>
                <a:latin typeface="Arial"/>
              </a:rPr>
              <a:t>¡son nar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¿No es un caso este Pica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29160" y="4021920"/>
            <a:ext cx="70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Todo lo tuerce o dislo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Las piernas, brazos, y bo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No es verdad lo que tú 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¡El pinta el mundo </a:t>
            </a:r>
            <a:r>
              <a:rPr b="1" lang="en-US" sz="4000" spc="-1" strike="noStrike">
                <a:solidFill>
                  <a:srgbClr val="990033"/>
                </a:solidFill>
                <a:latin typeface="Edelfontmed"/>
              </a:rPr>
              <a:t>al revés</a:t>
            </a:r>
            <a:r>
              <a:rPr b="0" lang="en-US" sz="3200" spc="-1" strike="noStrike">
                <a:solidFill>
                  <a:srgbClr val="990033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76201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19640" y="2852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668920"/>
            <a:ext cx="8064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Edelfontmed"/>
              </a:rPr>
              <a:t>¡ Qué Picasso es este caso 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animClr clrSpc="rgb"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42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15:05Z</dcterms:created>
  <dc:creator>Juli</dc:creator>
  <dc:description/>
  <dc:language>en-US</dc:language>
  <cp:lastModifiedBy>Juli</cp:lastModifiedBy>
  <dcterms:modified xsi:type="dcterms:W3CDTF">2008-01-31T19:23:58Z</dcterms:modified>
  <cp:revision>34</cp:revision>
  <dc:subject/>
  <dc:title>Diapositiva 1</dc:title>
</cp:coreProperties>
</file>