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7.wav" ContentType="audio/x-wav"/>
  <Override PartName="/ppt/media/image11.png" ContentType="image/png"/>
  <Override PartName="/ppt/media/image19.jpeg" ContentType="image/jpeg"/>
  <Override PartName="/ppt/media/9.wav" ContentType="audio/x-wav"/>
  <Override PartName="/ppt/media/image14.jpeg" ContentType="image/jpeg"/>
  <Override PartName="/ppt/media/image8.png" ContentType="image/png"/>
  <Override PartName="/ppt/media/image6.jpeg" ContentType="image/jpeg"/>
  <Override PartName="/ppt/media/2.wav" ContentType="audio/x-wav"/>
  <Override PartName="/ppt/media/image12.jpeg" ContentType="image/jpeg"/>
  <Override PartName="/ppt/media/image10.gif" ContentType="image/gif"/>
  <Override PartName="/ppt/media/image7.png" ContentType="image/png"/>
  <Override PartName="/ppt/media/image22.jpeg" ContentType="image/jpeg"/>
  <Override PartName="/ppt/media/image9.png" ContentType="image/png"/>
  <Override PartName="/ppt/media/8.wav" ContentType="audio/x-wav"/>
  <Override PartName="/ppt/media/image23.jpeg" ContentType="image/jpeg"/>
  <Override PartName="/ppt/media/5.wav" ContentType="audio/x-wav"/>
  <Override PartName="/ppt/media/image4.jpeg" ContentType="image/jpeg"/>
  <Override PartName="/ppt/media/image2.png" ContentType="image/png"/>
  <Override PartName="/ppt/media/image3.png" ContentType="image/png"/>
  <Override PartName="/ppt/media/1.wav" ContentType="audio/x-wav"/>
  <Override PartName="/ppt/media/image18.jpeg" ContentType="image/jpeg"/>
  <Override PartName="/ppt/media/4.wav" ContentType="audio/x-wav"/>
  <Override PartName="/ppt/media/3.wav" ContentType="audio/x-wav"/>
  <Override PartName="/ppt/media/image13.jpeg" ContentType="image/jpeg"/>
  <Override PartName="/ppt/media/image5.jpeg" ContentType="image/jpeg"/>
  <Override PartName="/ppt/media/image15.gif" ContentType="image/gif"/>
  <Override PartName="/ppt/media/image16.gif" ContentType="image/gif"/>
  <Override PartName="/ppt/media/image17.png" ContentType="image/png"/>
  <Override PartName="/ppt/media/image1.jpeg" ContentType="image/jpeg"/>
  <Override PartName="/ppt/media/6.wav" ContentType="audio/x-wav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4FDF-2C50-4AAE-8C92-762D7A4F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5FD5-748A-4E4D-9C6E-389E867F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E2B3-1467-4CF4-84A0-8BAD0091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CE42-EDF4-4248-A2A5-3DF7762E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5786-67CA-4CE1-BFD0-E0F468B4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2820-0EDA-4EEE-B796-8A9B2744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399F-A8FD-451D-A706-EA8D7CF7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4D2B-5A17-4881-AD49-076BAB56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541D-4335-4AC2-BB2F-967ABF2C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5A05-C8EE-4677-BAA2-2D88805B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149F-751A-4131-9313-46F18DA7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5EC7-7C7D-4632-8D20-8F8102A4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F93A-783F-4DE8-AE6A-96ACC851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AA65-FD6D-4052-816F-E441A26C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3F7C-FADE-476F-B9EE-CCE2ABCA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BB8A-12A6-469B-A6B3-6013DA79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5A1D-C087-4FD4-9154-E2C4BF67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D3546-0A39-4EE4-9A50-77A17783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F7A99-839C-413C-9774-9B279436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82589-7F48-4C8C-A874-14203929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CD597-E8CE-488C-9117-E2B9581E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40D33-7F1D-4A03-897C-41AE0C8D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C874-CCBC-41B5-A940-A785D407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761E7-7871-4F9A-A57A-CF4C4411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4F495-4042-48AC-93DD-EAB0FFA5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45D51-73A1-4AC1-9FFE-473A3B2F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6565B-DD81-468A-959F-059D3C66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0373B-BB9F-4D92-834B-ADC09895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3BBA7-8B76-4C87-A277-0E4501B9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F8B05-B450-4D89-B1C0-FAF4A945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224B-4933-407A-B445-0E813FED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AEDE-AB0A-4097-8A87-77E9EF83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8C09-A3BC-4568-B2FA-0BDF1268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C0F1-E3B0-449D-B2C7-214F8767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C649-AB0C-46DB-AA6F-EFC6E664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4D55-1A01-4319-9DBF-5D77C57C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FAAD-7A4C-4941-B055-C6ECFE5A011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1D2B-0DC6-4ACE-9FE1-4A51B85BB34A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8C2A-2473-4DF9-8439-7575B93A4147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1.wav"/><Relationship Id="rId5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2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gif"/><Relationship Id="rId7" Type="http://schemas.openxmlformats.org/officeDocument/2006/relationships/image" Target="../media/image11.png"/><Relationship Id="rId8" Type="http://schemas.openxmlformats.org/officeDocument/2006/relationships/audio" Target="../media/3.wav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4.wav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audio" Target="../media/5.wav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audio" Target="../media/6.wav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7.wav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8.wav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9.wav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00720" y="1222200"/>
            <a:ext cx="3240000" cy="18050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301760" y="2084400"/>
            <a:ext cx="2378160" cy="3395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3887640" cy="1719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619280" y="5445000"/>
            <a:ext cx="81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Edelfontmed"/>
                <a:ea typeface="宋体"/>
              </a:rPr>
              <a:t> </a:t>
            </a:r>
            <a:r>
              <a:rPr b="1" lang="es-ES" sz="6000" spc="-1" strike="noStrike">
                <a:solidFill>
                  <a:srgbClr val="0000ff"/>
                </a:solidFill>
                <a:latin typeface="Edelfontmed"/>
                <a:ea typeface="宋体"/>
              </a:rPr>
              <a:t>Picasso  es un pint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hecker dir="horz"/>
    <p:sndAc>
      <p:stSnd>
        <p:snd r:embed="rId4" name="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547640" y="1576440"/>
            <a:ext cx="67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a50021"/>
                </a:solidFill>
                <a:latin typeface="Edelfontmed"/>
                <a:ea typeface="宋体"/>
              </a:rPr>
              <a:t>Este Picasso es un caso</a:t>
            </a:r>
            <a:r>
              <a:rPr b="0" lang="es-ES" sz="4800" spc="-1" strike="noStrike">
                <a:solidFill>
                  <a:srgbClr val="000000"/>
                </a:solidFill>
                <a:latin typeface="Edelfontmed"/>
                <a:ea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  <p:sndAc>
      <p:stSnd>
        <p:snd r:embed="rId2" name="2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-98280" y="-1080"/>
            <a:ext cx="71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Edelfontmed"/>
              </a:rPr>
              <a:t>¡</a:t>
            </a:r>
            <a:r>
              <a:rPr b="1" lang="es-ES" sz="3200" spc="-1" strike="noStrike">
                <a:solidFill>
                  <a:srgbClr val="a50021"/>
                </a:solidFill>
                <a:latin typeface="Edelfontmed"/>
              </a:rPr>
              <a:t>Qué divertido es Picasso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50021"/>
                </a:solidFill>
                <a:latin typeface="Edelfontmed"/>
              </a:rPr>
              <a:t>Es pintor rompecabe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50021"/>
                </a:solidFill>
                <a:latin typeface="Edelfontmed"/>
              </a:rPr>
              <a:t>Que al cuerpo rompe en mil pie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50021"/>
                </a:solidFill>
                <a:latin typeface="Edelfontmed"/>
              </a:rPr>
              <a:t>Y pone el rostro en  los p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50021"/>
                </a:solidFill>
                <a:latin typeface="Edelfontmed"/>
              </a:rPr>
              <a:t>¡Todo lo pinta al revé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50021"/>
                </a:solidFill>
                <a:latin typeface="Edelfontmed"/>
              </a:rPr>
              <a:t>¡Este Picasso es un ca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2865240" cy="3457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5364000" y="2781360"/>
            <a:ext cx="1352880" cy="1238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6227640" y="4292640"/>
            <a:ext cx="2143080" cy="1647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4211640" y="4365720"/>
            <a:ext cx="1609560" cy="1323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2916360" y="1413000"/>
            <a:ext cx="647640" cy="2746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 rot="21316800">
            <a:off x="6933960" y="1643040"/>
            <a:ext cx="123804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-543240"/>
            <a:ext cx="5035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Es un puro dispa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No es que te hiera</a:t>
            </a:r>
            <a:r>
              <a:rPr b="1" lang="es-ES" sz="3200" spc="-1" strike="noStrike">
                <a:solidFill>
                  <a:srgbClr val="fffff7"/>
                </a:solidFill>
                <a:latin typeface="Edelfontmed"/>
              </a:rPr>
              <a:t> o te ma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Pero en lugar </a:t>
            </a:r>
            <a:r>
              <a:rPr b="1" lang="es-ES" sz="3200" spc="-1" strike="noStrike">
                <a:solidFill>
                  <a:srgbClr val="fffff7"/>
                </a:solidFill>
                <a:latin typeface="Edelfontmed"/>
              </a:rPr>
              <a:t>de dos ce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Él te pone </a:t>
            </a:r>
            <a:r>
              <a:rPr b="1" lang="es-ES" sz="3200" spc="-1" strike="noStrike">
                <a:solidFill>
                  <a:srgbClr val="fffff7"/>
                </a:solidFill>
                <a:latin typeface="Edelfontmed"/>
              </a:rPr>
              <a:t>dos orej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¡ vaya caso el </a:t>
            </a:r>
            <a:r>
              <a:rPr b="1" lang="es-ES" sz="3200" spc="-1" strike="noStrike">
                <a:solidFill>
                  <a:srgbClr val="fffff7"/>
                </a:solidFill>
                <a:latin typeface="Edelfontmed"/>
              </a:rPr>
              <a:t>de Picas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5160" y="906840"/>
            <a:ext cx="5968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Te deja que es una p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Te trastoca y desorde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Te pone pies en las  m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Y en vez de dedos gus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¡Si es que Picasso es un caso</a:t>
            </a:r>
            <a:r>
              <a:rPr b="0" lang="es-ES" sz="3200" spc="-1" strike="noStrike">
                <a:solidFill>
                  <a:srgbClr val="000000"/>
                </a:solidFill>
                <a:latin typeface="Edelfontmed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925960" y="476280"/>
            <a:ext cx="2683080" cy="3240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140360" y="34290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4427640" y="2565360"/>
            <a:ext cx="43812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68360" y="-117000"/>
            <a:ext cx="431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Edelfontmed"/>
              </a:rPr>
              <a:t>En la boca pone un oj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Edelfontmed"/>
              </a:rPr>
              <a:t>Y te lo pinta de ro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Edelfontmed"/>
              </a:rPr>
              <a:t>Si se trata de un bigot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Edelfontmed"/>
              </a:rPr>
              <a:t>te lo pondrá en el cog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Edelfontmed"/>
              </a:rPr>
              <a:t>¡Menudo caso es Picas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243400" y="1197000"/>
            <a:ext cx="3368880" cy="4032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835280" y="3500280"/>
            <a:ext cx="212868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-2160"/>
            <a:ext cx="45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¿Eso es hombre o bicicle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¡ Si es que ya nada respet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os ojos que tu dices</a:t>
            </a:r>
            <a:r>
              <a:rPr b="1" i="1" lang="en-US" sz="2400" spc="-1" strike="noStrike">
                <a:solidFill>
                  <a:srgbClr val="000000"/>
                </a:solidFill>
                <a:latin typeface="Edelfontmed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24360" y="5445000"/>
            <a:ext cx="45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delfontmed"/>
              </a:rPr>
              <a:t>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9280" y="5877000"/>
            <a:ext cx="61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o son ojos…….</a:t>
            </a:r>
            <a:r>
              <a:rPr b="1" i="1" lang="es-ES" sz="2400" spc="-1" strike="noStrike">
                <a:solidFill>
                  <a:srgbClr val="fffff7"/>
                </a:solidFill>
                <a:latin typeface="Arial"/>
              </a:rPr>
              <a:t>¡son naric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¿No es un caso este Picas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29160" y="4021920"/>
            <a:ext cx="705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Edelfontmed"/>
              </a:rPr>
              <a:t>Todo lo tuerce o disloc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Edelfontmed"/>
              </a:rPr>
              <a:t>Las piernas, brazos, y boc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Edelfontmed"/>
              </a:rPr>
              <a:t>No es verdad lo que tú v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Edelfontmed"/>
              </a:rPr>
              <a:t>¡El pinta el mundo </a:t>
            </a:r>
            <a:r>
              <a:rPr b="1" lang="en-US" sz="4000" spc="-1" strike="noStrike">
                <a:solidFill>
                  <a:srgbClr val="990033"/>
                </a:solidFill>
                <a:latin typeface="Edelfontmed"/>
              </a:rPr>
              <a:t>al revés</a:t>
            </a:r>
            <a:r>
              <a:rPr b="0" lang="en-US" sz="3200" spc="-1" strike="noStrike">
                <a:solidFill>
                  <a:srgbClr val="990033"/>
                </a:solidFill>
                <a:latin typeface="Edelfontmed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762012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419640" y="28526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5668920"/>
            <a:ext cx="806436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ff"/>
                </a:solidFill>
                <a:latin typeface="Edelfontmed"/>
              </a:rPr>
              <a:t>¡ Qué Picasso es este caso 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66"/>
                                      </p:to>
                                    </p:animClr>
                                    <p:animClr clrSpc="rgb">
                                      <p:cBhvr>
                                        <p:cTn id="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66"/>
                                      </p:to>
                                    </p:animClr>
                                    <p:set>
                                      <p:cBhvr>
                                        <p:cTn id="42" dur="3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9:15:05Z</dcterms:created>
  <dc:creator>Juli</dc:creator>
  <dc:description/>
  <dc:language>en-US</dc:language>
  <cp:lastModifiedBy>Juli</cp:lastModifiedBy>
  <dcterms:modified xsi:type="dcterms:W3CDTF">2008-01-31T19:23:58Z</dcterms:modified>
  <cp:revision>34</cp:revision>
  <dc:subject/>
  <dc:title>Diapositiva 1</dc:title>
</cp:coreProperties>
</file>