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A19F-C71E-4DE2-833D-9585E0BDC4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4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FEE-7A4F-4703-993B-F20083DD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66A-1F16-4FF5-B4BA-9D992F86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921-6CFC-43CD-B887-E0926C18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1F7-8D0A-4B9B-9915-08C3F666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ADC5-C227-4027-B85B-D9883798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F5F7-C8BA-48F9-9E8B-80E93FCC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FE9D-E920-4BA7-8A30-1D78C7FF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861F-2C21-4AB4-A613-A3B1E3B1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0BAF-ACBB-422A-B6F4-A8C6967E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D7C8-0249-4526-A2B8-38C551B8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90A2-7737-4388-957A-2AD7AFC6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447-7A57-47E0-88C1-B99A465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DB90-1966-4462-9AB5-371AB41B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B9CA-13DE-46EC-BE14-43D5CBF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B1F2-D6D9-4334-86B7-6BEEE005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EE10-5579-4B94-8DEE-D68A84E5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F327-4D38-4DAD-BB77-404A5BB3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1AD2-9FDA-4E89-8B87-76576D12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C6B4-2E46-45D4-99A5-D47A158B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BD3D7-C588-46E1-AF9A-B70AAF9F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F16CF-58D5-4CD1-8C6C-3E22A3DF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B4B2-ADBF-4B8F-9C9C-272006EB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9C1-DE4E-407F-A7DE-16E96B06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9B84-CD0E-482B-A219-79026162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7366-9A2E-42EF-824D-72B27B96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6A2B-9FF1-4842-9BCD-0D28E5A9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1E34-5229-41DF-94DD-4700B405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5DF8-5D98-4B6F-9806-2FC57603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A6CA-608B-49A6-8B9B-BE6729C8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A2B0-7D81-4A0A-8E63-AD073ACB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21B3-D429-406A-9482-DAA8965C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68ED-A8C8-4C8C-8048-6264BA74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33BA4-9893-459D-BF76-CE273E60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5FD-5CDF-4BC4-A0AE-00C6170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586C-7B00-4E82-90F7-69DC8431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D983-BD01-4270-B5F6-86DE4C29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6239-C98C-4472-9883-FD67EAAF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20E5-871C-4AD4-A617-00796928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4DB0-3C5D-4CEE-AFB3-C8926038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8DADF-AA3A-457C-BBB0-D9A3EA4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64B4-EF40-4210-ACD4-6409B24D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ECEB-C2E2-4476-9901-EF7D2BC3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B750-8D44-4044-A5AE-0F1D2C3D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D79F6-D21A-4D98-8CEB-6D18CB05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5D7-6F4D-44AD-B929-8F242779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5E7DA-3D56-42C7-A636-B727587D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A0B95-2D6E-4211-98CF-5B13BC46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9DFD-C2ED-47E1-82BB-CFCE2A38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90639-F8B7-45EE-98CA-74AD615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0A5E1-CF0A-4C7F-B4FB-8C6EB1DE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CC32D-C40B-4563-82D3-5ED5548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F3427-DFDC-41C3-97A5-0C7D64C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20DE-3F1F-4EF7-AD23-23F8AA2A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6E4A-D8E4-49C7-9CE5-FCB1BD91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8353-CAF7-4704-8D6D-87AF4B63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F55-4345-47B4-848B-F3AB1AF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A557C-2205-45FD-AD99-1F431256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BA879-531A-48C6-9EED-8E84A353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31E3-9417-4206-A121-8D5F524C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FE86C-FC29-4296-AB63-645950C8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016E2-1C84-480C-A11F-6C6A1B22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0E86B-387F-4F32-9E01-47F868B2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25B9A-E3D5-41B9-9BF5-D64B050E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6960A-7709-4C27-B8AA-E1C44568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1330-3F13-4C9A-BA8A-2634CE0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887CD-4D13-43F8-A849-CB7CCE0A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DD6-9878-465C-98F9-0F2E493B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6D29C-A247-4491-9CC9-0C6CC30D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8503D-EFF4-443B-B4F5-23FAA32D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D5284-3168-45D4-A04C-C4FD7FE5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933-4466-4242-BA5D-E27EBF2D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F5F-C503-4B3F-95CC-E1F8A50E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14EC-8C43-4A66-B528-D0CFFE9134A3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1C13-3747-4305-A295-AD846FCD898A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2D9D-AAA0-43C3-A079-ECE2E1AA552A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A397-4D3C-4FAD-80A9-A6DF8A3EA553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3984-B513-4BA0-8B73-67D4FA1BB957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DFA7-D97B-4147-BA6A-31DE2325C189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A686-43EA-4087-9E56-D2C97FDB1FC3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1F5C-BC84-4FBC-A171-A5FE8D3A5FEF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A07E-C377-4AA3-96DF-DBFC30F835FA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116400" y="8562960"/>
            <a:ext cx="5713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608-6C97-4161-9CA0-7F52FBB8074F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77D4-0AB5-43BF-91DE-7A37736707BC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63E5-A359-4EF4-940B-2E765826385E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Título" descr=""/>
          <p:cNvPicPr/>
          <p:nvPr/>
        </p:nvPicPr>
        <p:blipFill>
          <a:blip r:embed="rId1"/>
          <a:stretch/>
        </p:blipFill>
        <p:spPr>
          <a:xfrm>
            <a:off x="317520" y="4316400"/>
            <a:ext cx="5351400" cy="3206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82 Grupo"/>
          <p:cNvGrpSpPr/>
          <p:nvPr/>
        </p:nvGrpSpPr>
        <p:grpSpPr>
          <a:xfrm>
            <a:off x="1413000" y="2340000"/>
            <a:ext cx="3960720" cy="1511280"/>
            <a:chOff x="1413000" y="2340000"/>
            <a:chExt cx="3960720" cy="1511280"/>
          </a:xfrm>
        </p:grpSpPr>
        <p:sp>
          <p:nvSpPr>
            <p:cNvPr id="336" name="55 Rectángulo"/>
            <p:cNvSpPr/>
            <p:nvPr/>
          </p:nvSpPr>
          <p:spPr>
            <a:xfrm>
              <a:off x="1413000" y="2340000"/>
              <a:ext cx="3960720" cy="151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49 Grupo"/>
            <p:cNvGrpSpPr/>
            <p:nvPr/>
          </p:nvGrpSpPr>
          <p:grpSpPr>
            <a:xfrm>
              <a:off x="1773000" y="2843640"/>
              <a:ext cx="3312720" cy="791640"/>
              <a:chOff x="1773000" y="2843640"/>
              <a:chExt cx="3312720" cy="791640"/>
            </a:xfrm>
          </p:grpSpPr>
          <p:grpSp>
            <p:nvGrpSpPr>
              <p:cNvPr id="338" name="24 Rectángulo redondeado"/>
              <p:cNvGrpSpPr/>
              <p:nvPr/>
            </p:nvGrpSpPr>
            <p:grpSpPr>
              <a:xfrm>
                <a:off x="1773000" y="2843640"/>
                <a:ext cx="1392480" cy="791640"/>
                <a:chOff x="1773000" y="2843640"/>
                <a:chExt cx="1392480" cy="791640"/>
              </a:xfrm>
            </p:grpSpPr>
            <p:pic>
              <p:nvPicPr>
                <p:cNvPr id="339" name="24 Rectángulo redondeado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000" y="2843640"/>
                  <a:ext cx="1392480" cy="79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>
                  <a:off x="1890000" y="2948040"/>
                  <a:ext cx="116028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40 Conector recto"/>
              <p:cNvSpPr/>
              <p:nvPr/>
            </p:nvSpPr>
            <p:spPr>
              <a:xfrm>
                <a:off x="1853280" y="333072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44 Conector recto"/>
              <p:cNvSpPr/>
              <p:nvPr/>
            </p:nvSpPr>
            <p:spPr>
              <a:xfrm>
                <a:off x="3566880" y="338940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45 Rectángulo redondeado"/>
              <p:cNvGrpSpPr/>
              <p:nvPr/>
            </p:nvGrpSpPr>
            <p:grpSpPr>
              <a:xfrm>
                <a:off x="3693240" y="2843640"/>
                <a:ext cx="1392480" cy="791640"/>
                <a:chOff x="3693240" y="2843640"/>
                <a:chExt cx="1392480" cy="791640"/>
              </a:xfrm>
            </p:grpSpPr>
            <p:pic>
              <p:nvPicPr>
                <p:cNvPr id="344" name="45 Rectángulo redondead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3240" y="2843640"/>
                  <a:ext cx="1392480" cy="79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3808800" y="2948040"/>
                  <a:ext cx="116028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46 Conector recto"/>
              <p:cNvSpPr/>
              <p:nvPr/>
            </p:nvSpPr>
            <p:spPr>
              <a:xfrm>
                <a:off x="3772440" y="333072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48 Flecha izquierda"/>
              <p:cNvSpPr/>
              <p:nvPr/>
            </p:nvSpPr>
            <p:spPr>
              <a:xfrm>
                <a:off x="3155760" y="2974320"/>
                <a:ext cx="480240" cy="399240"/>
              </a:xfrm>
              <a:prstGeom prst="leftArrow">
                <a:avLst>
                  <a:gd name="adj1" fmla="val 50000"/>
                  <a:gd name="adj2" fmla="val 57911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596C-4CAB-4CA2-9ADF-2B0E5B6BB1E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350" name="3 CuadroTexto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5 CuadroTexto"/>
          <p:cNvSpPr/>
          <p:nvPr/>
        </p:nvSpPr>
        <p:spPr>
          <a:xfrm>
            <a:off x="620640" y="90000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41 Rectángulo redondeado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43 CuadroTexto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34 CuadroTexto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81 Grupo"/>
          <p:cNvGrpSpPr/>
          <p:nvPr/>
        </p:nvGrpSpPr>
        <p:grpSpPr>
          <a:xfrm>
            <a:off x="476280" y="3924360"/>
            <a:ext cx="2881440" cy="2951280"/>
            <a:chOff x="476280" y="3924360"/>
            <a:chExt cx="2881440" cy="2951280"/>
          </a:xfrm>
        </p:grpSpPr>
        <p:sp>
          <p:nvSpPr>
            <p:cNvPr id="357" name="56 Rectángulo"/>
            <p:cNvSpPr/>
            <p:nvPr/>
          </p:nvSpPr>
          <p:spPr>
            <a:xfrm>
              <a:off x="488880" y="3924360"/>
              <a:ext cx="2868840" cy="295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27 Rectángulo redondeado"/>
            <p:cNvGrpSpPr/>
            <p:nvPr/>
          </p:nvGrpSpPr>
          <p:grpSpPr>
            <a:xfrm>
              <a:off x="476280" y="5132880"/>
              <a:ext cx="1316880" cy="749880"/>
              <a:chOff x="476280" y="5132880"/>
              <a:chExt cx="1316880" cy="749880"/>
            </a:xfrm>
          </p:grpSpPr>
          <p:pic>
            <p:nvPicPr>
              <p:cNvPr id="359" name="27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880"/>
                <a:ext cx="131688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620640" y="5280120"/>
                <a:ext cx="10278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36 CuadroTexto"/>
            <p:cNvSpPr/>
            <p:nvPr/>
          </p:nvSpPr>
          <p:spPr>
            <a:xfrm>
              <a:off x="632520" y="3996000"/>
              <a:ext cx="215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51 Rectángulo redondeado"/>
            <p:cNvGrpSpPr/>
            <p:nvPr/>
          </p:nvGrpSpPr>
          <p:grpSpPr>
            <a:xfrm>
              <a:off x="2054160" y="4559760"/>
              <a:ext cx="1171440" cy="816840"/>
              <a:chOff x="2054160" y="4559760"/>
              <a:chExt cx="1171440" cy="816840"/>
            </a:xfrm>
          </p:grpSpPr>
          <p:pic>
            <p:nvPicPr>
              <p:cNvPr id="363" name="51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760"/>
                <a:ext cx="117144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2169720" y="4675680"/>
                <a:ext cx="94140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58 Rectángulo redondeado"/>
            <p:cNvGrpSpPr/>
            <p:nvPr/>
          </p:nvGrpSpPr>
          <p:grpSpPr>
            <a:xfrm>
              <a:off x="2054160" y="5712120"/>
              <a:ext cx="1171440" cy="816840"/>
              <a:chOff x="2054160" y="5712120"/>
              <a:chExt cx="1171440" cy="816840"/>
            </a:xfrm>
          </p:grpSpPr>
          <p:pic>
            <p:nvPicPr>
              <p:cNvPr id="366" name="58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2120"/>
                <a:ext cx="117144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2169720" y="5827320"/>
                <a:ext cx="94140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8" name="70 Flecha izquierda"/>
            <p:cNvSpPr/>
            <p:nvPr/>
          </p:nvSpPr>
          <p:spPr>
            <a:xfrm rot="19598400">
              <a:off x="1622160" y="4897080"/>
              <a:ext cx="500760" cy="358560"/>
            </a:xfrm>
            <a:prstGeom prst="leftArrow">
              <a:avLst>
                <a:gd name="adj1" fmla="val 50000"/>
                <a:gd name="adj2" fmla="val 498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79 Flecha izquierda"/>
            <p:cNvSpPr/>
            <p:nvPr/>
          </p:nvSpPr>
          <p:spPr>
            <a:xfrm rot="2404200">
              <a:off x="1622160" y="5761080"/>
              <a:ext cx="500760" cy="358560"/>
            </a:xfrm>
            <a:prstGeom prst="leftArrow">
              <a:avLst>
                <a:gd name="adj1" fmla="val 50000"/>
                <a:gd name="adj2" fmla="val 498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83 Grupo"/>
          <p:cNvGrpSpPr/>
          <p:nvPr/>
        </p:nvGrpSpPr>
        <p:grpSpPr>
          <a:xfrm>
            <a:off x="3500280" y="3924360"/>
            <a:ext cx="2881440" cy="2951280"/>
            <a:chOff x="3500280" y="3924360"/>
            <a:chExt cx="2881440" cy="2951280"/>
          </a:xfrm>
        </p:grpSpPr>
        <p:sp>
          <p:nvSpPr>
            <p:cNvPr id="371" name="57 Rectángulo"/>
            <p:cNvSpPr/>
            <p:nvPr/>
          </p:nvSpPr>
          <p:spPr>
            <a:xfrm>
              <a:off x="3507480" y="3924360"/>
              <a:ext cx="2867400" cy="295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35 CuadroTexto"/>
            <p:cNvSpPr/>
            <p:nvPr/>
          </p:nvSpPr>
          <p:spPr>
            <a:xfrm>
              <a:off x="3733920" y="3997800"/>
              <a:ext cx="226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" name="59 Rectángulo redondeado"/>
            <p:cNvGrpSpPr/>
            <p:nvPr/>
          </p:nvGrpSpPr>
          <p:grpSpPr>
            <a:xfrm>
              <a:off x="5156280" y="5169600"/>
              <a:ext cx="1225440" cy="835200"/>
              <a:chOff x="5156280" y="5169600"/>
              <a:chExt cx="1225440" cy="835200"/>
            </a:xfrm>
          </p:grpSpPr>
          <p:pic>
            <p:nvPicPr>
              <p:cNvPr id="374" name="59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9600"/>
                <a:ext cx="122544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5275080" y="5284800"/>
                <a:ext cx="9921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60 Rectángulo redondeado"/>
            <p:cNvGrpSpPr/>
            <p:nvPr/>
          </p:nvGrpSpPr>
          <p:grpSpPr>
            <a:xfrm>
              <a:off x="3573000" y="5834160"/>
              <a:ext cx="1377000" cy="829080"/>
              <a:chOff x="3573000" y="5834160"/>
              <a:chExt cx="1377000" cy="829080"/>
            </a:xfrm>
          </p:grpSpPr>
          <p:pic>
            <p:nvPicPr>
              <p:cNvPr id="377" name="60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000" y="5834160"/>
                <a:ext cx="13770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3727440" y="5985720"/>
                <a:ext cx="106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61 Rectángulo redondeado"/>
            <p:cNvGrpSpPr/>
            <p:nvPr/>
          </p:nvGrpSpPr>
          <p:grpSpPr>
            <a:xfrm>
              <a:off x="3500280" y="4651200"/>
              <a:ext cx="1377000" cy="835200"/>
              <a:chOff x="3500280" y="4651200"/>
              <a:chExt cx="1377000" cy="835200"/>
            </a:xfrm>
          </p:grpSpPr>
          <p:pic>
            <p:nvPicPr>
              <p:cNvPr id="380" name="61 Rectángulo redondeado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700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3651840" y="4804920"/>
                <a:ext cx="106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78 Flecha izquierda"/>
            <p:cNvSpPr/>
            <p:nvPr/>
          </p:nvSpPr>
          <p:spPr>
            <a:xfrm rot="1387200">
              <a:off x="4767840" y="4970520"/>
              <a:ext cx="527400" cy="368280"/>
            </a:xfrm>
            <a:prstGeom prst="leftArrow">
              <a:avLst>
                <a:gd name="adj1" fmla="val 50000"/>
                <a:gd name="adj2" fmla="val 5111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80 Flecha izquierda"/>
            <p:cNvSpPr/>
            <p:nvPr/>
          </p:nvSpPr>
          <p:spPr>
            <a:xfrm rot="19598400">
              <a:off x="4850280" y="5954400"/>
              <a:ext cx="527400" cy="368280"/>
            </a:xfrm>
            <a:prstGeom prst="leftArrow">
              <a:avLst>
                <a:gd name="adj1" fmla="val 50000"/>
                <a:gd name="adj2" fmla="val 5111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34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35 Botón de acción: Volver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B99D-CFE4-4813-9C0C-D9D1388A546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3 CuadroTexto"/>
          <p:cNvGrpSpPr/>
          <p:nvPr/>
        </p:nvGrpSpPr>
        <p:grpSpPr>
          <a:xfrm>
            <a:off x="463680" y="237960"/>
            <a:ext cx="5351400" cy="816120"/>
            <a:chOff x="463680" y="237960"/>
            <a:chExt cx="5351400" cy="816120"/>
          </a:xfrm>
        </p:grpSpPr>
        <p:pic>
          <p:nvPicPr>
            <p:cNvPr id="388" name="3 CuadroTexto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5140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49360" y="324000"/>
              <a:ext cx="518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5 CuadroTexto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82 Grupo"/>
          <p:cNvGrpSpPr/>
          <p:nvPr/>
        </p:nvGrpSpPr>
        <p:grpSpPr>
          <a:xfrm>
            <a:off x="1197000" y="2268360"/>
            <a:ext cx="4464000" cy="1440000"/>
            <a:chOff x="1197000" y="2268360"/>
            <a:chExt cx="4464000" cy="1440000"/>
          </a:xfrm>
        </p:grpSpPr>
        <p:sp>
          <p:nvSpPr>
            <p:cNvPr id="394" name="56 Rectángulo"/>
            <p:cNvSpPr/>
            <p:nvPr/>
          </p:nvSpPr>
          <p:spPr>
            <a:xfrm>
              <a:off x="1197000" y="2268360"/>
              <a:ext cx="4464000" cy="144000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51 Rectángulo redondeado"/>
            <p:cNvGrpSpPr/>
            <p:nvPr/>
          </p:nvGrpSpPr>
          <p:grpSpPr>
            <a:xfrm>
              <a:off x="1469160" y="2761200"/>
              <a:ext cx="1542240" cy="743760"/>
              <a:chOff x="1469160" y="2761200"/>
              <a:chExt cx="1542240" cy="743760"/>
            </a:xfrm>
          </p:grpSpPr>
          <p:pic>
            <p:nvPicPr>
              <p:cNvPr id="396" name="51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9160" y="2761200"/>
                <a:ext cx="154224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585080" y="2872080"/>
                <a:ext cx="13118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33 CuadroTexto"/>
            <p:cNvSpPr/>
            <p:nvPr/>
          </p:nvSpPr>
          <p:spPr>
            <a:xfrm>
              <a:off x="1341000" y="2412360"/>
              <a:ext cx="41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37 Rectángulo redondeado"/>
            <p:cNvGrpSpPr/>
            <p:nvPr/>
          </p:nvGrpSpPr>
          <p:grpSpPr>
            <a:xfrm>
              <a:off x="3706560" y="2761200"/>
              <a:ext cx="1536120" cy="743760"/>
              <a:chOff x="3706560" y="2761200"/>
              <a:chExt cx="1536120" cy="743760"/>
            </a:xfrm>
          </p:grpSpPr>
          <p:pic>
            <p:nvPicPr>
              <p:cNvPr id="400" name="3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560" y="2761200"/>
                <a:ext cx="153612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3817080" y="2872080"/>
                <a:ext cx="13118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39 Flecha derecha"/>
            <p:cNvSpPr/>
            <p:nvPr/>
          </p:nvSpPr>
          <p:spPr>
            <a:xfrm>
              <a:off x="3068640" y="2916000"/>
              <a:ext cx="576000" cy="360360"/>
            </a:xfrm>
            <a:prstGeom prst="rightArrow">
              <a:avLst>
                <a:gd name="adj1" fmla="val 50000"/>
                <a:gd name="adj2" fmla="val 4998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77 Grupo"/>
          <p:cNvGrpSpPr/>
          <p:nvPr/>
        </p:nvGrpSpPr>
        <p:grpSpPr>
          <a:xfrm>
            <a:off x="333360" y="3995640"/>
            <a:ext cx="2951280" cy="2737080"/>
            <a:chOff x="333360" y="3995640"/>
            <a:chExt cx="2951280" cy="2737080"/>
          </a:xfrm>
        </p:grpSpPr>
        <p:sp>
          <p:nvSpPr>
            <p:cNvPr id="404" name="62 Rectángulo"/>
            <p:cNvSpPr/>
            <p:nvPr/>
          </p:nvSpPr>
          <p:spPr>
            <a:xfrm>
              <a:off x="333360" y="3995640"/>
              <a:ext cx="2951280" cy="27370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64 Rectángulo redondeado"/>
            <p:cNvGrpSpPr/>
            <p:nvPr/>
          </p:nvGrpSpPr>
          <p:grpSpPr>
            <a:xfrm>
              <a:off x="389880" y="5352480"/>
              <a:ext cx="1323000" cy="743760"/>
              <a:chOff x="389880" y="5352480"/>
              <a:chExt cx="1323000" cy="743760"/>
            </a:xfrm>
          </p:grpSpPr>
          <p:pic>
            <p:nvPicPr>
              <p:cNvPr id="406" name="64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89880" y="5352480"/>
                <a:ext cx="132300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505080" y="546444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68 Rectángulo redondeado"/>
            <p:cNvGrpSpPr/>
            <p:nvPr/>
          </p:nvGrpSpPr>
          <p:grpSpPr>
            <a:xfrm>
              <a:off x="1828800" y="4699800"/>
              <a:ext cx="1323000" cy="749880"/>
              <a:chOff x="1828800" y="4699800"/>
              <a:chExt cx="1323000" cy="749880"/>
            </a:xfrm>
          </p:grpSpPr>
          <p:pic>
            <p:nvPicPr>
              <p:cNvPr id="409" name="68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699800"/>
                <a:ext cx="13230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1945080" y="481572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69 Rectángulo redondeado"/>
            <p:cNvGrpSpPr/>
            <p:nvPr/>
          </p:nvGrpSpPr>
          <p:grpSpPr>
            <a:xfrm>
              <a:off x="1901880" y="5852160"/>
              <a:ext cx="1323000" cy="749880"/>
              <a:chOff x="1901880" y="5852160"/>
              <a:chExt cx="1323000" cy="749880"/>
            </a:xfrm>
          </p:grpSpPr>
          <p:pic>
            <p:nvPicPr>
              <p:cNvPr id="412" name="69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2160"/>
                <a:ext cx="13230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2016720" y="596844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71 Flecha derecha"/>
            <p:cNvSpPr/>
            <p:nvPr/>
          </p:nvSpPr>
          <p:spPr>
            <a:xfrm rot="19758600">
              <a:off x="1379160" y="5141520"/>
              <a:ext cx="574560" cy="21096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72 Flecha derecha"/>
            <p:cNvSpPr/>
            <p:nvPr/>
          </p:nvSpPr>
          <p:spPr>
            <a:xfrm rot="1751400">
              <a:off x="1425240" y="6066000"/>
              <a:ext cx="576000" cy="225360"/>
            </a:xfrm>
            <a:prstGeom prst="rightArrow">
              <a:avLst>
                <a:gd name="adj1" fmla="val 50000"/>
                <a:gd name="adj2" fmla="val 49959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75 CuadroTexto"/>
            <p:cNvSpPr/>
            <p:nvPr/>
          </p:nvSpPr>
          <p:spPr>
            <a:xfrm>
              <a:off x="333360" y="4067640"/>
              <a:ext cx="251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81 Grupo"/>
          <p:cNvGrpSpPr/>
          <p:nvPr/>
        </p:nvGrpSpPr>
        <p:grpSpPr>
          <a:xfrm>
            <a:off x="3357720" y="3995640"/>
            <a:ext cx="3024000" cy="2737080"/>
            <a:chOff x="3357720" y="3995640"/>
            <a:chExt cx="3024000" cy="2737080"/>
          </a:xfrm>
        </p:grpSpPr>
        <p:sp>
          <p:nvSpPr>
            <p:cNvPr id="418" name="63 Rectángulo"/>
            <p:cNvSpPr/>
            <p:nvPr/>
          </p:nvSpPr>
          <p:spPr>
            <a:xfrm>
              <a:off x="3368520" y="3995640"/>
              <a:ext cx="2942280" cy="27370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65 Rectángulo redondeado"/>
            <p:cNvGrpSpPr/>
            <p:nvPr/>
          </p:nvGrpSpPr>
          <p:grpSpPr>
            <a:xfrm>
              <a:off x="3357720" y="4699800"/>
              <a:ext cx="1384920" cy="749880"/>
              <a:chOff x="3357720" y="4699800"/>
              <a:chExt cx="1384920" cy="749880"/>
            </a:xfrm>
          </p:grpSpPr>
          <p:pic>
            <p:nvPicPr>
              <p:cNvPr id="420" name="65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699800"/>
                <a:ext cx="138492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68240" y="4815720"/>
                <a:ext cx="116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66 Rectángulo redondeado"/>
            <p:cNvGrpSpPr/>
            <p:nvPr/>
          </p:nvGrpSpPr>
          <p:grpSpPr>
            <a:xfrm>
              <a:off x="3357720" y="5852160"/>
              <a:ext cx="1317960" cy="749880"/>
              <a:chOff x="3357720" y="5852160"/>
              <a:chExt cx="1317960" cy="749880"/>
            </a:xfrm>
          </p:grpSpPr>
          <p:pic>
            <p:nvPicPr>
              <p:cNvPr id="423" name="66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2160"/>
                <a:ext cx="131796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3468240" y="5968440"/>
                <a:ext cx="1091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67 Rectángulo redondeado"/>
            <p:cNvGrpSpPr/>
            <p:nvPr/>
          </p:nvGrpSpPr>
          <p:grpSpPr>
            <a:xfrm>
              <a:off x="4863960" y="5352480"/>
              <a:ext cx="1384920" cy="743760"/>
              <a:chOff x="4863960" y="5352480"/>
              <a:chExt cx="1384920" cy="743760"/>
            </a:xfrm>
          </p:grpSpPr>
          <p:pic>
            <p:nvPicPr>
              <p:cNvPr id="426" name="67 Rectángulo redondeado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2480"/>
                <a:ext cx="138492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4974840" y="5464440"/>
                <a:ext cx="116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73 Flecha derecha"/>
            <p:cNvSpPr/>
            <p:nvPr/>
          </p:nvSpPr>
          <p:spPr>
            <a:xfrm rot="2013000">
              <a:off x="4670280" y="5073120"/>
              <a:ext cx="574200" cy="210960"/>
            </a:xfrm>
            <a:prstGeom prst="rightArrow">
              <a:avLst>
                <a:gd name="adj1" fmla="val 50000"/>
                <a:gd name="adj2" fmla="val 4985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74 Flecha derecha"/>
            <p:cNvSpPr/>
            <p:nvPr/>
          </p:nvSpPr>
          <p:spPr>
            <a:xfrm rot="19758600">
              <a:off x="4673160" y="6145200"/>
              <a:ext cx="574200" cy="210960"/>
            </a:xfrm>
            <a:prstGeom prst="rightArrow">
              <a:avLst>
                <a:gd name="adj1" fmla="val 50000"/>
                <a:gd name="adj2" fmla="val 4985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76 CuadroTexto"/>
            <p:cNvSpPr/>
            <p:nvPr/>
          </p:nvSpPr>
          <p:spPr>
            <a:xfrm>
              <a:off x="3511800" y="4067640"/>
              <a:ext cx="28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29 Botón de acción: Volver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30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31 Botón de acción: Volver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Marcador de pie de página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3100-0820-42A7-BE17-D656FD07602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437" name="3 CuadroTexto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5 CuadroTexto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52 Grupo"/>
          <p:cNvGrpSpPr/>
          <p:nvPr/>
        </p:nvGrpSpPr>
        <p:grpSpPr>
          <a:xfrm>
            <a:off x="1052640" y="2843280"/>
            <a:ext cx="4464000" cy="3384360"/>
            <a:chOff x="1052640" y="2843280"/>
            <a:chExt cx="4464000" cy="3384360"/>
          </a:xfrm>
        </p:grpSpPr>
        <p:grpSp>
          <p:nvGrpSpPr>
            <p:cNvPr id="443" name="29 Rectángulo redondeado"/>
            <p:cNvGrpSpPr/>
            <p:nvPr/>
          </p:nvGrpSpPr>
          <p:grpSpPr>
            <a:xfrm>
              <a:off x="1052640" y="2843280"/>
              <a:ext cx="1967760" cy="1257480"/>
              <a:chOff x="1052640" y="2843280"/>
              <a:chExt cx="1967760" cy="1257480"/>
            </a:xfrm>
          </p:grpSpPr>
          <p:pic>
            <p:nvPicPr>
              <p:cNvPr id="444" name="29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1186920" y="298008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30 Rectángulo redondeado"/>
            <p:cNvGrpSpPr/>
            <p:nvPr/>
          </p:nvGrpSpPr>
          <p:grpSpPr>
            <a:xfrm>
              <a:off x="3548880" y="4970160"/>
              <a:ext cx="1967760" cy="1257480"/>
              <a:chOff x="3548880" y="4970160"/>
              <a:chExt cx="1967760" cy="1257480"/>
            </a:xfrm>
          </p:grpSpPr>
          <p:pic>
            <p:nvPicPr>
              <p:cNvPr id="447" name="30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16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3684240" y="510228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31 Rectángulo redondeado"/>
            <p:cNvGrpSpPr/>
            <p:nvPr/>
          </p:nvGrpSpPr>
          <p:grpSpPr>
            <a:xfrm>
              <a:off x="3548880" y="3532680"/>
              <a:ext cx="1967760" cy="1257480"/>
              <a:chOff x="3548880" y="3532680"/>
              <a:chExt cx="1967760" cy="1257480"/>
            </a:xfrm>
          </p:grpSpPr>
          <p:pic>
            <p:nvPicPr>
              <p:cNvPr id="450" name="3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68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3684240" y="366444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2" name="34 Conector recto"/>
            <p:cNvSpPr/>
            <p:nvPr/>
          </p:nvSpPr>
          <p:spPr>
            <a:xfrm>
              <a:off x="1132560" y="333720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36 Conector recto"/>
            <p:cNvSpPr/>
            <p:nvPr/>
          </p:nvSpPr>
          <p:spPr>
            <a:xfrm>
              <a:off x="3630600" y="402228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38 Conector recto"/>
            <p:cNvSpPr/>
            <p:nvPr/>
          </p:nvSpPr>
          <p:spPr>
            <a:xfrm>
              <a:off x="3630600" y="545904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42 Conector recto"/>
            <p:cNvSpPr/>
            <p:nvPr/>
          </p:nvSpPr>
          <p:spPr>
            <a:xfrm>
              <a:off x="2589120" y="4022280"/>
              <a:ext cx="1041480" cy="54756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45 Conector recto"/>
            <p:cNvSpPr/>
            <p:nvPr/>
          </p:nvSpPr>
          <p:spPr>
            <a:xfrm>
              <a:off x="2520000" y="4090320"/>
              <a:ext cx="0" cy="16434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47 Conector recto"/>
            <p:cNvSpPr/>
            <p:nvPr/>
          </p:nvSpPr>
          <p:spPr>
            <a:xfrm>
              <a:off x="2520000" y="5734080"/>
              <a:ext cx="111024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17 Botón de acción: Volver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CA8D-4FB0-49DE-8ABF-BFC5442D02A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461" name="3 CuadroTexto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5 CuadroTexto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92 Grupo"/>
          <p:cNvGrpSpPr/>
          <p:nvPr/>
        </p:nvGrpSpPr>
        <p:grpSpPr>
          <a:xfrm>
            <a:off x="692280" y="3059280"/>
            <a:ext cx="5473440" cy="2520720"/>
            <a:chOff x="692280" y="3059280"/>
            <a:chExt cx="5473440" cy="2520720"/>
          </a:xfrm>
        </p:grpSpPr>
        <p:grpSp>
          <p:nvGrpSpPr>
            <p:cNvPr id="467" name="53 Rectángulo redondeado"/>
            <p:cNvGrpSpPr/>
            <p:nvPr/>
          </p:nvGrpSpPr>
          <p:grpSpPr>
            <a:xfrm>
              <a:off x="692280" y="4745520"/>
              <a:ext cx="1698120" cy="834480"/>
              <a:chOff x="692280" y="4745520"/>
              <a:chExt cx="1698120" cy="834480"/>
            </a:xfrm>
          </p:grpSpPr>
          <p:pic>
            <p:nvPicPr>
              <p:cNvPr id="468" name="53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80640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55 Conector recto"/>
            <p:cNvSpPr/>
            <p:nvPr/>
          </p:nvSpPr>
          <p:spPr>
            <a:xfrm>
              <a:off x="84168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57 Rectángulo redondeado"/>
            <p:cNvGrpSpPr/>
            <p:nvPr/>
          </p:nvGrpSpPr>
          <p:grpSpPr>
            <a:xfrm>
              <a:off x="4467600" y="4745520"/>
              <a:ext cx="1698120" cy="834480"/>
              <a:chOff x="4467600" y="4745520"/>
              <a:chExt cx="1698120" cy="834480"/>
            </a:xfrm>
          </p:grpSpPr>
          <p:pic>
            <p:nvPicPr>
              <p:cNvPr id="472" name="5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60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458172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4" name="58 Rectángulo redondeado"/>
            <p:cNvGrpSpPr/>
            <p:nvPr/>
          </p:nvGrpSpPr>
          <p:grpSpPr>
            <a:xfrm>
              <a:off x="2579760" y="4745520"/>
              <a:ext cx="1698120" cy="834480"/>
              <a:chOff x="2579760" y="4745520"/>
              <a:chExt cx="1698120" cy="834480"/>
            </a:xfrm>
          </p:grpSpPr>
          <p:pic>
            <p:nvPicPr>
              <p:cNvPr id="475" name="58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269388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78 Conector recto"/>
            <p:cNvSpPr/>
            <p:nvPr/>
          </p:nvSpPr>
          <p:spPr>
            <a:xfrm>
              <a:off x="272952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79 Conector recto"/>
            <p:cNvSpPr/>
            <p:nvPr/>
          </p:nvSpPr>
          <p:spPr>
            <a:xfrm>
              <a:off x="461700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83 Rectángulo redondeado"/>
            <p:cNvGrpSpPr/>
            <p:nvPr/>
          </p:nvGrpSpPr>
          <p:grpSpPr>
            <a:xfrm>
              <a:off x="4467600" y="4002480"/>
              <a:ext cx="1674360" cy="497160"/>
              <a:chOff x="4467600" y="4002480"/>
              <a:chExt cx="1674360" cy="497160"/>
            </a:xfrm>
          </p:grpSpPr>
          <p:pic>
            <p:nvPicPr>
              <p:cNvPr id="480" name="83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600" y="400248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4440" y="410040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84 Rectángulo redondeado"/>
            <p:cNvGrpSpPr/>
            <p:nvPr/>
          </p:nvGrpSpPr>
          <p:grpSpPr>
            <a:xfrm>
              <a:off x="4467600" y="3059280"/>
              <a:ext cx="1674360" cy="497160"/>
              <a:chOff x="4467600" y="3059280"/>
              <a:chExt cx="1674360" cy="497160"/>
            </a:xfrm>
          </p:grpSpPr>
          <p:pic>
            <p:nvPicPr>
              <p:cNvPr id="483" name="84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600" y="305928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4564440" y="315468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85 Rectángulo redondeado"/>
            <p:cNvGrpSpPr/>
            <p:nvPr/>
          </p:nvGrpSpPr>
          <p:grpSpPr>
            <a:xfrm>
              <a:off x="4467600" y="3533760"/>
              <a:ext cx="1674360" cy="497160"/>
              <a:chOff x="4467600" y="3533760"/>
              <a:chExt cx="1674360" cy="497160"/>
            </a:xfrm>
          </p:grpSpPr>
          <p:pic>
            <p:nvPicPr>
              <p:cNvPr id="486" name="85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600" y="353376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4564440" y="362736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87 Flecha derecha"/>
            <p:cNvSpPr/>
            <p:nvPr/>
          </p:nvSpPr>
          <p:spPr>
            <a:xfrm>
              <a:off x="2310120" y="5028840"/>
              <a:ext cx="342000" cy="263160"/>
            </a:xfrm>
            <a:prstGeom prst="rightArrow">
              <a:avLst>
                <a:gd name="adj1" fmla="val 50000"/>
                <a:gd name="adj2" fmla="val 5180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88 Flecha derecha"/>
            <p:cNvSpPr/>
            <p:nvPr/>
          </p:nvSpPr>
          <p:spPr>
            <a:xfrm>
              <a:off x="4197960" y="5097240"/>
              <a:ext cx="342000" cy="261720"/>
            </a:xfrm>
            <a:prstGeom prst="rightArrow">
              <a:avLst>
                <a:gd name="adj1" fmla="val 50000"/>
                <a:gd name="adj2" fmla="val 5179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89 Flecha abajo"/>
            <p:cNvSpPr/>
            <p:nvPr/>
          </p:nvSpPr>
          <p:spPr>
            <a:xfrm>
              <a:off x="5316840" y="3273480"/>
              <a:ext cx="140040" cy="3376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90 Flecha abajo"/>
            <p:cNvSpPr/>
            <p:nvPr/>
          </p:nvSpPr>
          <p:spPr>
            <a:xfrm>
              <a:off x="5316840" y="3813840"/>
              <a:ext cx="140040" cy="3376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21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22 Botón de acción: Volver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15F7-B024-4B65-B4FA-EA1F9EED0CF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496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4 CuadroTexto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3657-8C4E-4F21-8BAA-BD7786399D71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502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4 CuadroTexto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4AEC-DEB1-44B4-BB9E-8D5B88E58E2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508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4 CuadroTexto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1 Marcador de pie de página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169A-1D1D-41BE-BB7B-6C311695FB1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3 CuadroTexto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0557-CF01-4787-97DF-A1101101340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3 CuadroTexto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4 Diagrama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69" name="5 Rectángulo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507-A225-4EBF-A191-193645E8F1A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72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4 CuadroTexto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BE54-B699-4DB1-8D19-62D1DF67478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78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4 CuadroTexto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1 Marcador de pie de página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D4C7-48CC-4F07-87AF-D6B42C3D90D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85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4 CuadroTexto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DA3-A23A-44B9-81D2-E26E93EB042C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90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4 CuadroTexto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BEE8-EBB3-49A1-BEEC-A63868335FAA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3 CuadroTexto"/>
          <p:cNvSpPr/>
          <p:nvPr/>
        </p:nvSpPr>
        <p:spPr>
          <a:xfrm>
            <a:off x="692280" y="611280"/>
            <a:ext cx="5832360" cy="84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 u="sng">
                <a:solidFill>
                  <a:srgbClr val="00c8c3"/>
                </a:solidFill>
                <a:uFillTx/>
                <a:latin typeface="Berlin Sans FB Demi"/>
                <a:hlinkClick r:id="rId1" action="ppaction://hlinksldjump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7df56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7df56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4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986C-D385-48EA-AF3E-7B84228AB07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3 CuadroTexto"/>
          <p:cNvGrpSpPr/>
          <p:nvPr/>
        </p:nvGrpSpPr>
        <p:grpSpPr>
          <a:xfrm>
            <a:off x="1109520" y="311040"/>
            <a:ext cx="4419720" cy="878040"/>
            <a:chOff x="1109520" y="311040"/>
            <a:chExt cx="4419720" cy="878040"/>
          </a:xfrm>
        </p:grpSpPr>
        <p:pic>
          <p:nvPicPr>
            <p:cNvPr id="299" name="3 CuadroTexto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97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197000" y="395280"/>
              <a:ext cx="42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5 CuadroTexto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40 Grupo"/>
          <p:cNvGrpSpPr/>
          <p:nvPr/>
        </p:nvGrpSpPr>
        <p:grpSpPr>
          <a:xfrm>
            <a:off x="836640" y="3708360"/>
            <a:ext cx="5113440" cy="2951280"/>
            <a:chOff x="836640" y="3708360"/>
            <a:chExt cx="5113440" cy="2951280"/>
          </a:xfrm>
        </p:grpSpPr>
        <p:grpSp>
          <p:nvGrpSpPr>
            <p:cNvPr id="303" name="6 Rectángulo redondeado"/>
            <p:cNvGrpSpPr/>
            <p:nvPr/>
          </p:nvGrpSpPr>
          <p:grpSpPr>
            <a:xfrm>
              <a:off x="836640" y="3708360"/>
              <a:ext cx="1568880" cy="841320"/>
              <a:chOff x="836640" y="3708360"/>
              <a:chExt cx="1568880" cy="841320"/>
            </a:xfrm>
          </p:grpSpPr>
          <p:pic>
            <p:nvPicPr>
              <p:cNvPr id="304" name="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954360" y="3823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7 Rectángulo redondeado"/>
            <p:cNvGrpSpPr/>
            <p:nvPr/>
          </p:nvGrpSpPr>
          <p:grpSpPr>
            <a:xfrm>
              <a:off x="4381200" y="3708360"/>
              <a:ext cx="1568880" cy="841320"/>
              <a:chOff x="4381200" y="3708360"/>
              <a:chExt cx="1568880" cy="841320"/>
            </a:xfrm>
          </p:grpSpPr>
          <p:pic>
            <p:nvPicPr>
              <p:cNvPr id="307" name="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200" y="370836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4498560" y="3823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8 Rectángulo redondeado"/>
            <p:cNvGrpSpPr/>
            <p:nvPr/>
          </p:nvGrpSpPr>
          <p:grpSpPr>
            <a:xfrm>
              <a:off x="1426320" y="4797720"/>
              <a:ext cx="1568880" cy="841320"/>
              <a:chOff x="1426320" y="4797720"/>
              <a:chExt cx="1568880" cy="841320"/>
            </a:xfrm>
          </p:grpSpPr>
          <p:pic>
            <p:nvPicPr>
              <p:cNvPr id="310" name="8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47977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1545120" y="4912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9 Rectángulo redondeado"/>
            <p:cNvGrpSpPr/>
            <p:nvPr/>
          </p:nvGrpSpPr>
          <p:grpSpPr>
            <a:xfrm>
              <a:off x="1426320" y="5818320"/>
              <a:ext cx="1568880" cy="841320"/>
              <a:chOff x="1426320" y="5818320"/>
              <a:chExt cx="1568880" cy="841320"/>
            </a:xfrm>
          </p:grpSpPr>
          <p:pic>
            <p:nvPicPr>
              <p:cNvPr id="313" name="9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6320" y="58183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545120" y="593424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10 Rectángulo redondeado"/>
            <p:cNvGrpSpPr/>
            <p:nvPr/>
          </p:nvGrpSpPr>
          <p:grpSpPr>
            <a:xfrm>
              <a:off x="3420000" y="4797720"/>
              <a:ext cx="1568880" cy="841320"/>
              <a:chOff x="3420000" y="4797720"/>
              <a:chExt cx="1568880" cy="841320"/>
            </a:xfrm>
          </p:grpSpPr>
          <p:pic>
            <p:nvPicPr>
              <p:cNvPr id="316" name="10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0000" y="47977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538800" y="4912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11 Rectángulo redondeado"/>
            <p:cNvGrpSpPr/>
            <p:nvPr/>
          </p:nvGrpSpPr>
          <p:grpSpPr>
            <a:xfrm>
              <a:off x="3420000" y="5818320"/>
              <a:ext cx="1568880" cy="841320"/>
              <a:chOff x="3420000" y="5818320"/>
              <a:chExt cx="1568880" cy="841320"/>
            </a:xfrm>
          </p:grpSpPr>
          <p:pic>
            <p:nvPicPr>
              <p:cNvPr id="319" name="11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3420000" y="58183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3538800" y="593424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1" name="13 Conector recto" descr=""/>
            <p:cNvPicPr/>
            <p:nvPr/>
          </p:nvPicPr>
          <p:blipFill>
            <a:blip r:embed="rId8"/>
            <a:stretch/>
          </p:blipFill>
          <p:spPr>
            <a:xfrm>
              <a:off x="1143000" y="4463280"/>
              <a:ext cx="47160" cy="17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14 Conector recto" descr=""/>
            <p:cNvPicPr/>
            <p:nvPr/>
          </p:nvPicPr>
          <p:blipFill>
            <a:blip r:embed="rId9"/>
            <a:stretch/>
          </p:blipFill>
          <p:spPr>
            <a:xfrm>
              <a:off x="5207040" y="4463280"/>
              <a:ext cx="47160" cy="17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15 Conector recto" descr=""/>
            <p:cNvPicPr/>
            <p:nvPr/>
          </p:nvPicPr>
          <p:blipFill>
            <a:blip r:embed="rId10"/>
            <a:stretch/>
          </p:blipFill>
          <p:spPr>
            <a:xfrm>
              <a:off x="4741200" y="4451760"/>
              <a:ext cx="554400" cy="4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19 Conector recto" descr=""/>
            <p:cNvPicPr/>
            <p:nvPr/>
          </p:nvPicPr>
          <p:blipFill>
            <a:blip r:embed="rId11"/>
            <a:stretch/>
          </p:blipFill>
          <p:spPr>
            <a:xfrm>
              <a:off x="1196280" y="4451760"/>
              <a:ext cx="47772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23 Conector recto" descr=""/>
            <p:cNvPicPr/>
            <p:nvPr/>
          </p:nvPicPr>
          <p:blipFill>
            <a:blip r:embed="rId12"/>
            <a:stretch/>
          </p:blipFill>
          <p:spPr>
            <a:xfrm>
              <a:off x="4977000" y="6106320"/>
              <a:ext cx="30636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26 Conector recto" descr=""/>
            <p:cNvPicPr/>
            <p:nvPr/>
          </p:nvPicPr>
          <p:blipFill>
            <a:blip r:embed="rId13"/>
            <a:stretch/>
          </p:blipFill>
          <p:spPr>
            <a:xfrm>
              <a:off x="1208160" y="6106320"/>
              <a:ext cx="306360" cy="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28 Conector recto"/>
            <p:cNvSpPr/>
            <p:nvPr/>
          </p:nvSpPr>
          <p:spPr>
            <a:xfrm>
              <a:off x="1511640" y="50835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30 Conector recto"/>
            <p:cNvSpPr/>
            <p:nvPr/>
          </p:nvSpPr>
          <p:spPr>
            <a:xfrm>
              <a:off x="3431880" y="5083560"/>
              <a:ext cx="14760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38 Conector recto"/>
            <p:cNvSpPr/>
            <p:nvPr/>
          </p:nvSpPr>
          <p:spPr>
            <a:xfrm>
              <a:off x="1511640" y="61059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39 Conector recto"/>
            <p:cNvSpPr/>
            <p:nvPr/>
          </p:nvSpPr>
          <p:spPr>
            <a:xfrm>
              <a:off x="3505680" y="61059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41 Rectángulo redondeado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43 CuadroTexto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24 Botón de acción: Volver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2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1-10-02T18:26:07Z</dcterms:modified>
  <cp:revision>32</cp:revision>
  <dc:subject/>
  <dc:title>Leer Para comprender y aprender</dc:title>
</cp:coreProperties>
</file>