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6B34-C190-450A-99F6-DB0060847D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4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F9A-DD29-4EF5-8606-EB51FB99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392-AF83-4AE5-9012-FB5E212B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1D1-2A7E-438E-89DF-44F84F83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5B3-E094-43FF-ACCB-12705EFD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B3D-A9A1-4944-ADCC-031B768F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087-1307-41B3-ADE5-156D4B83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2F92-7237-4FE1-B78A-754A2F37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547C-0E72-4B65-B735-C9D948BD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8B49-11A8-47CC-9AB7-62FF8FD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A2B4-DFB3-467D-BB2A-12469D41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37DD-41CD-4C5F-9486-CF09A28C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4CC-BA11-45AB-9ECB-3E94CBB1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E6B-7715-499F-95A8-B92B031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9B24-5DFE-45F9-8F17-4AB3D8F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4AE-C083-46C5-B3CE-175473F4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5F5-0BE5-461B-9FD0-AD62C5D3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4A91-1B0F-44CE-89DD-3A8EEAB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55D1-0C18-48D2-B6E0-41B11718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37AB-7D18-4B33-8B19-7DC7CBBF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F6BE-B472-4B0A-850A-D8A469BD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5072-C965-479F-9B43-A23CC0C5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9110-060E-4E86-8839-A3E93DA7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4C8-625B-45B0-AF74-21AF33AA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DF72-FC66-4450-B241-34B20E9A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0AA6-5E64-4670-8585-7F13A77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7BA8-111F-49F8-92DD-F5D99FB2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1CE5-7C08-46FB-B51D-79D1F87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EC3C-D96E-4927-B95D-E6CB994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C7F5-31B3-4572-AB48-47E2598B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9CF7-A50D-4E0F-89B1-5DD4DE94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926A-4439-4383-893C-D04CEE21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AEB63-8F2E-46B4-A5CA-348E2D01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AEB1-B77A-4C55-8315-C09CB9EC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FC4-3FAB-42DE-9F86-46C31E8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B5DA-A482-4F66-8670-036B001E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D03D-095E-420D-9954-5CE1E96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C4A16-80C0-4B68-B942-2D81375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8D71-747C-4049-9BD1-3E502E7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56B6-6E02-40C8-AF63-8B50FA5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64A9-D109-4B82-8117-811329E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2A24-951F-41AB-95A3-AFDF637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07E7-AAC7-4982-93BA-EE1D9944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265D-3155-4F0F-9FC8-75DB9C8D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F6A6-B54F-4FB3-93EF-233D3149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437-460D-4E5B-ABBC-23161C4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0A8E-EF3B-42D4-9E1B-2BAFBB5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FD65-7BA8-4964-84FD-DC78796F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42C1-4C5B-4015-AC2A-4795C09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1660-A6B8-444E-99FF-D2C9350B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E8F5-DEAD-4E6A-8E5C-B7189C4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3F0C-D406-4076-9B95-B64F2184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13D9-15F5-47D3-8074-412AD0E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F38E-4D37-4340-8ED9-F5BF32D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5678-0D8D-4550-A436-3661C342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9C15-46A3-4256-8D46-05322091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EA9-5778-44B2-B5BC-4B621CC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BA2D-4158-4085-8A9B-5C3D47C1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A4043-4318-4B58-8698-E40EB167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A7D9-31E2-4F5F-ADCD-48F7598A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1D515-7125-4F11-AC5E-18CA361B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0D1E-6F3B-49C3-9398-5D0296AF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FC585-0473-46F7-A8A4-295289D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CE25-CE90-4A92-8856-8450DEE5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B161A-3D72-4146-B694-5E7641C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8AFC-7F69-4DEE-8F0B-4F59187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E0D5-EE4B-447F-8178-9B223E5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98B-4251-41A0-9512-4686EAE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A32F-8B08-4C39-93C4-9D242CB3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46EC-24FE-4202-A25E-C15AF949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FB07-F311-4CE0-BEDE-535B14B7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DDE-B2EB-429A-B98D-52C1178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0C2-DDDA-4960-839D-49E02C80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BE3E-D785-45FC-B904-785BBB7AC357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6E66-90DC-4CF1-B01A-0E37972DD885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CE3E-BD0B-4B64-8040-9B2561E3D120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DC2C-867A-44C8-93D6-5AFB0BD8CA91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D36-6CF7-4DAC-9EBA-314490E1C380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55A-7D31-49BA-857D-27196F6BE71C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10CE-754B-4D7D-94E9-0985FC14EA6D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47D-B4C4-47AD-B424-F0CF7D9373A8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2B77-8DE8-4E0D-B5B5-EB4AC96C4AD1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116400" y="8562960"/>
            <a:ext cx="571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C03-BCC8-4907-9414-9AAFB72AE638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FA84-C5A6-43CE-BB4F-EEA527F4B729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043-17F1-4C00-8DF5-2C230B0BBA15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17520" y="4316400"/>
            <a:ext cx="5351400" cy="3206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82 Grupo"/>
          <p:cNvGrpSpPr/>
          <p:nvPr/>
        </p:nvGrpSpPr>
        <p:grpSpPr>
          <a:xfrm>
            <a:off x="1413000" y="2340000"/>
            <a:ext cx="3960720" cy="1511280"/>
            <a:chOff x="1413000" y="2340000"/>
            <a:chExt cx="3960720" cy="1511280"/>
          </a:xfrm>
        </p:grpSpPr>
        <p:sp>
          <p:nvSpPr>
            <p:cNvPr id="336" name="55 Rectángulo"/>
            <p:cNvSpPr/>
            <p:nvPr/>
          </p:nvSpPr>
          <p:spPr>
            <a:xfrm>
              <a:off x="1413000" y="2340000"/>
              <a:ext cx="3960720" cy="151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49 Grupo"/>
            <p:cNvGrpSpPr/>
            <p:nvPr/>
          </p:nvGrpSpPr>
          <p:grpSpPr>
            <a:xfrm>
              <a:off x="1773000" y="2843640"/>
              <a:ext cx="3312720" cy="791640"/>
              <a:chOff x="1773000" y="2843640"/>
              <a:chExt cx="3312720" cy="791640"/>
            </a:xfrm>
          </p:grpSpPr>
          <p:grpSp>
            <p:nvGrpSpPr>
              <p:cNvPr id="338" name="24 Rectángulo redondeado"/>
              <p:cNvGrpSpPr/>
              <p:nvPr/>
            </p:nvGrpSpPr>
            <p:grpSpPr>
              <a:xfrm>
                <a:off x="1773000" y="2843640"/>
                <a:ext cx="1392480" cy="791640"/>
                <a:chOff x="1773000" y="2843640"/>
                <a:chExt cx="1392480" cy="791640"/>
              </a:xfrm>
            </p:grpSpPr>
            <p:pic>
              <p:nvPicPr>
                <p:cNvPr id="339" name="24 Rectángulo redondeado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00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18900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40 Conector recto"/>
              <p:cNvSpPr/>
              <p:nvPr/>
            </p:nvSpPr>
            <p:spPr>
              <a:xfrm>
                <a:off x="185328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44 Conector recto"/>
              <p:cNvSpPr/>
              <p:nvPr/>
            </p:nvSpPr>
            <p:spPr>
              <a:xfrm>
                <a:off x="3566880" y="338940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45 Rectángulo redondeado"/>
              <p:cNvGrpSpPr/>
              <p:nvPr/>
            </p:nvGrpSpPr>
            <p:grpSpPr>
              <a:xfrm>
                <a:off x="3693240" y="2843640"/>
                <a:ext cx="1392480" cy="791640"/>
                <a:chOff x="3693240" y="2843640"/>
                <a:chExt cx="1392480" cy="791640"/>
              </a:xfrm>
            </p:grpSpPr>
            <p:pic>
              <p:nvPicPr>
                <p:cNvPr id="344" name="45 Rectángulo redondead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3240" y="2843640"/>
                  <a:ext cx="1392480" cy="79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3808800" y="2948040"/>
                  <a:ext cx="116028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46 Conector recto"/>
              <p:cNvSpPr/>
              <p:nvPr/>
            </p:nvSpPr>
            <p:spPr>
              <a:xfrm>
                <a:off x="3772440" y="3330720"/>
                <a:ext cx="123444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48 Flecha izquierda"/>
              <p:cNvSpPr/>
              <p:nvPr/>
            </p:nvSpPr>
            <p:spPr>
              <a:xfrm>
                <a:off x="3155760" y="2974320"/>
                <a:ext cx="480240" cy="399240"/>
              </a:xfrm>
              <a:prstGeom prst="leftArrow">
                <a:avLst>
                  <a:gd name="adj1" fmla="val 50000"/>
                  <a:gd name="adj2" fmla="val 57911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11D-F327-44A5-8E6B-A3C3E1A601D9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350" name="3 CuadroTexto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5 CuadroTexto"/>
          <p:cNvSpPr/>
          <p:nvPr/>
        </p:nvSpPr>
        <p:spPr>
          <a:xfrm>
            <a:off x="620640" y="90000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34 CuadroTexto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81 Grupo"/>
          <p:cNvGrpSpPr/>
          <p:nvPr/>
        </p:nvGrpSpPr>
        <p:grpSpPr>
          <a:xfrm>
            <a:off x="476280" y="3924360"/>
            <a:ext cx="2881440" cy="2951280"/>
            <a:chOff x="476280" y="3924360"/>
            <a:chExt cx="2881440" cy="2951280"/>
          </a:xfrm>
        </p:grpSpPr>
        <p:sp>
          <p:nvSpPr>
            <p:cNvPr id="357" name="56 Rectángulo"/>
            <p:cNvSpPr/>
            <p:nvPr/>
          </p:nvSpPr>
          <p:spPr>
            <a:xfrm>
              <a:off x="488880" y="3924360"/>
              <a:ext cx="286884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27 Rectángulo redondeado"/>
            <p:cNvGrpSpPr/>
            <p:nvPr/>
          </p:nvGrpSpPr>
          <p:grpSpPr>
            <a:xfrm>
              <a:off x="476280" y="5132880"/>
              <a:ext cx="1316880" cy="749880"/>
              <a:chOff x="476280" y="5132880"/>
              <a:chExt cx="1316880" cy="749880"/>
            </a:xfrm>
          </p:grpSpPr>
          <p:pic>
            <p:nvPicPr>
              <p:cNvPr id="359" name="27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880"/>
                <a:ext cx="1316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620640" y="5280120"/>
                <a:ext cx="10278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36 CuadroTexto"/>
            <p:cNvSpPr/>
            <p:nvPr/>
          </p:nvSpPr>
          <p:spPr>
            <a:xfrm>
              <a:off x="632520" y="3996000"/>
              <a:ext cx="215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51 Rectángulo redondeado"/>
            <p:cNvGrpSpPr/>
            <p:nvPr/>
          </p:nvGrpSpPr>
          <p:grpSpPr>
            <a:xfrm>
              <a:off x="2054160" y="4559760"/>
              <a:ext cx="1171440" cy="816840"/>
              <a:chOff x="2054160" y="4559760"/>
              <a:chExt cx="1171440" cy="816840"/>
            </a:xfrm>
          </p:grpSpPr>
          <p:pic>
            <p:nvPicPr>
              <p:cNvPr id="363" name="51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76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169720" y="467568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58 Rectángulo redondeado"/>
            <p:cNvGrpSpPr/>
            <p:nvPr/>
          </p:nvGrpSpPr>
          <p:grpSpPr>
            <a:xfrm>
              <a:off x="2054160" y="5712120"/>
              <a:ext cx="1171440" cy="816840"/>
              <a:chOff x="2054160" y="5712120"/>
              <a:chExt cx="1171440" cy="816840"/>
            </a:xfrm>
          </p:grpSpPr>
          <p:pic>
            <p:nvPicPr>
              <p:cNvPr id="366" name="58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2120"/>
                <a:ext cx="117144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2169720" y="5827320"/>
                <a:ext cx="94140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70 Flecha izquierda"/>
            <p:cNvSpPr/>
            <p:nvPr/>
          </p:nvSpPr>
          <p:spPr>
            <a:xfrm rot="19598400">
              <a:off x="1622160" y="4897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79 Flecha izquierda"/>
            <p:cNvSpPr/>
            <p:nvPr/>
          </p:nvSpPr>
          <p:spPr>
            <a:xfrm rot="2404200">
              <a:off x="1622160" y="5761080"/>
              <a:ext cx="500760" cy="358560"/>
            </a:xfrm>
            <a:prstGeom prst="leftArrow">
              <a:avLst>
                <a:gd name="adj1" fmla="val 50000"/>
                <a:gd name="adj2" fmla="val 498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83 Grupo"/>
          <p:cNvGrpSpPr/>
          <p:nvPr/>
        </p:nvGrpSpPr>
        <p:grpSpPr>
          <a:xfrm>
            <a:off x="3500280" y="3924360"/>
            <a:ext cx="2881440" cy="2951280"/>
            <a:chOff x="3500280" y="3924360"/>
            <a:chExt cx="2881440" cy="2951280"/>
          </a:xfrm>
        </p:grpSpPr>
        <p:sp>
          <p:nvSpPr>
            <p:cNvPr id="371" name="57 Rectángulo"/>
            <p:cNvSpPr/>
            <p:nvPr/>
          </p:nvSpPr>
          <p:spPr>
            <a:xfrm>
              <a:off x="3507480" y="3924360"/>
              <a:ext cx="2867400" cy="29512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35 CuadroTexto"/>
            <p:cNvSpPr/>
            <p:nvPr/>
          </p:nvSpPr>
          <p:spPr>
            <a:xfrm>
              <a:off x="3733920" y="3997800"/>
              <a:ext cx="22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59 Rectángulo redondeado"/>
            <p:cNvGrpSpPr/>
            <p:nvPr/>
          </p:nvGrpSpPr>
          <p:grpSpPr>
            <a:xfrm>
              <a:off x="5156280" y="5169600"/>
              <a:ext cx="1225440" cy="835200"/>
              <a:chOff x="5156280" y="5169600"/>
              <a:chExt cx="1225440" cy="835200"/>
            </a:xfrm>
          </p:grpSpPr>
          <p:pic>
            <p:nvPicPr>
              <p:cNvPr id="374" name="59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9600"/>
                <a:ext cx="122544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275080" y="5284800"/>
                <a:ext cx="992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60 Rectángulo redondeado"/>
            <p:cNvGrpSpPr/>
            <p:nvPr/>
          </p:nvGrpSpPr>
          <p:grpSpPr>
            <a:xfrm>
              <a:off x="3573000" y="5834160"/>
              <a:ext cx="1377000" cy="829080"/>
              <a:chOff x="3573000" y="5834160"/>
              <a:chExt cx="1377000" cy="829080"/>
            </a:xfrm>
          </p:grpSpPr>
          <p:pic>
            <p:nvPicPr>
              <p:cNvPr id="377" name="60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000" y="5834160"/>
                <a:ext cx="13770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3727440" y="59857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61 Rectángulo redondeado"/>
            <p:cNvGrpSpPr/>
            <p:nvPr/>
          </p:nvGrpSpPr>
          <p:grpSpPr>
            <a:xfrm>
              <a:off x="3500280" y="4651200"/>
              <a:ext cx="1377000" cy="835200"/>
              <a:chOff x="3500280" y="4651200"/>
              <a:chExt cx="1377000" cy="835200"/>
            </a:xfrm>
          </p:grpSpPr>
          <p:pic>
            <p:nvPicPr>
              <p:cNvPr id="380" name="61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700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3651840" y="4804920"/>
                <a:ext cx="106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78 Flecha izquierda"/>
            <p:cNvSpPr/>
            <p:nvPr/>
          </p:nvSpPr>
          <p:spPr>
            <a:xfrm rot="1387200">
              <a:off x="4767840" y="497052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80 Flecha izquierda"/>
            <p:cNvSpPr/>
            <p:nvPr/>
          </p:nvSpPr>
          <p:spPr>
            <a:xfrm rot="19598400">
              <a:off x="4850280" y="5954400"/>
              <a:ext cx="527400" cy="368280"/>
            </a:xfrm>
            <a:prstGeom prst="leftArrow">
              <a:avLst>
                <a:gd name="adj1" fmla="val 50000"/>
                <a:gd name="adj2" fmla="val 5111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3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35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4C48-0AB6-420A-AB04-7588C234FBE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3 CuadroTexto"/>
          <p:cNvGrpSpPr/>
          <p:nvPr/>
        </p:nvGrpSpPr>
        <p:grpSpPr>
          <a:xfrm>
            <a:off x="463680" y="237960"/>
            <a:ext cx="5351400" cy="816120"/>
            <a:chOff x="463680" y="237960"/>
            <a:chExt cx="5351400" cy="816120"/>
          </a:xfrm>
        </p:grpSpPr>
        <p:pic>
          <p:nvPicPr>
            <p:cNvPr id="388" name="3 CuadroTexto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514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49360" y="324000"/>
              <a:ext cx="518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5 CuadroTexto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82 Grupo"/>
          <p:cNvGrpSpPr/>
          <p:nvPr/>
        </p:nvGrpSpPr>
        <p:grpSpPr>
          <a:xfrm>
            <a:off x="1197000" y="2268360"/>
            <a:ext cx="4464000" cy="1440000"/>
            <a:chOff x="1197000" y="2268360"/>
            <a:chExt cx="4464000" cy="1440000"/>
          </a:xfrm>
        </p:grpSpPr>
        <p:sp>
          <p:nvSpPr>
            <p:cNvPr id="394" name="56 Rectángulo"/>
            <p:cNvSpPr/>
            <p:nvPr/>
          </p:nvSpPr>
          <p:spPr>
            <a:xfrm>
              <a:off x="1197000" y="2268360"/>
              <a:ext cx="4464000" cy="144000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51 Rectángulo redondeado"/>
            <p:cNvGrpSpPr/>
            <p:nvPr/>
          </p:nvGrpSpPr>
          <p:grpSpPr>
            <a:xfrm>
              <a:off x="1469160" y="2761200"/>
              <a:ext cx="1542240" cy="743760"/>
              <a:chOff x="1469160" y="2761200"/>
              <a:chExt cx="1542240" cy="743760"/>
            </a:xfrm>
          </p:grpSpPr>
          <p:pic>
            <p:nvPicPr>
              <p:cNvPr id="396" name="51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9160" y="2761200"/>
                <a:ext cx="154224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585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33 CuadroTexto"/>
            <p:cNvSpPr/>
            <p:nvPr/>
          </p:nvSpPr>
          <p:spPr>
            <a:xfrm>
              <a:off x="1341000" y="2412360"/>
              <a:ext cx="41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37 Rectángulo redondeado"/>
            <p:cNvGrpSpPr/>
            <p:nvPr/>
          </p:nvGrpSpPr>
          <p:grpSpPr>
            <a:xfrm>
              <a:off x="3706560" y="2761200"/>
              <a:ext cx="1536120" cy="743760"/>
              <a:chOff x="3706560" y="2761200"/>
              <a:chExt cx="1536120" cy="743760"/>
            </a:xfrm>
          </p:grpSpPr>
          <p:pic>
            <p:nvPicPr>
              <p:cNvPr id="400" name="3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560" y="2761200"/>
                <a:ext cx="15361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3817080" y="2872080"/>
                <a:ext cx="131184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39 Flecha derecha"/>
            <p:cNvSpPr/>
            <p:nvPr/>
          </p:nvSpPr>
          <p:spPr>
            <a:xfrm>
              <a:off x="3068640" y="2916000"/>
              <a:ext cx="576000" cy="36036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77 Grupo"/>
          <p:cNvGrpSpPr/>
          <p:nvPr/>
        </p:nvGrpSpPr>
        <p:grpSpPr>
          <a:xfrm>
            <a:off x="333360" y="3995640"/>
            <a:ext cx="2951280" cy="2737080"/>
            <a:chOff x="333360" y="3995640"/>
            <a:chExt cx="2951280" cy="2737080"/>
          </a:xfrm>
        </p:grpSpPr>
        <p:sp>
          <p:nvSpPr>
            <p:cNvPr id="404" name="62 Rectángulo"/>
            <p:cNvSpPr/>
            <p:nvPr/>
          </p:nvSpPr>
          <p:spPr>
            <a:xfrm>
              <a:off x="333360" y="3995640"/>
              <a:ext cx="2951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64 Rectángulo redondeado"/>
            <p:cNvGrpSpPr/>
            <p:nvPr/>
          </p:nvGrpSpPr>
          <p:grpSpPr>
            <a:xfrm>
              <a:off x="389880" y="5352480"/>
              <a:ext cx="1323000" cy="743760"/>
              <a:chOff x="389880" y="5352480"/>
              <a:chExt cx="1323000" cy="743760"/>
            </a:xfrm>
          </p:grpSpPr>
          <p:pic>
            <p:nvPicPr>
              <p:cNvPr id="406" name="64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880" y="5352480"/>
                <a:ext cx="132300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505080" y="5464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68 Rectángulo redondeado"/>
            <p:cNvGrpSpPr/>
            <p:nvPr/>
          </p:nvGrpSpPr>
          <p:grpSpPr>
            <a:xfrm>
              <a:off x="1828800" y="4699800"/>
              <a:ext cx="1323000" cy="749880"/>
              <a:chOff x="1828800" y="4699800"/>
              <a:chExt cx="1323000" cy="749880"/>
            </a:xfrm>
          </p:grpSpPr>
          <p:pic>
            <p:nvPicPr>
              <p:cNvPr id="409" name="68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69980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945080" y="481572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69 Rectángulo redondeado"/>
            <p:cNvGrpSpPr/>
            <p:nvPr/>
          </p:nvGrpSpPr>
          <p:grpSpPr>
            <a:xfrm>
              <a:off x="1901880" y="5852160"/>
              <a:ext cx="1323000" cy="749880"/>
              <a:chOff x="1901880" y="5852160"/>
              <a:chExt cx="1323000" cy="749880"/>
            </a:xfrm>
          </p:grpSpPr>
          <p:pic>
            <p:nvPicPr>
              <p:cNvPr id="412" name="69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2160"/>
                <a:ext cx="13230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2016720" y="5968440"/>
                <a:ext cx="1095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71 Flecha derecha"/>
            <p:cNvSpPr/>
            <p:nvPr/>
          </p:nvSpPr>
          <p:spPr>
            <a:xfrm rot="19758600">
              <a:off x="1379160" y="5141520"/>
              <a:ext cx="574560" cy="21096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72 Flecha derecha"/>
            <p:cNvSpPr/>
            <p:nvPr/>
          </p:nvSpPr>
          <p:spPr>
            <a:xfrm rot="1751400">
              <a:off x="1425240" y="6066000"/>
              <a:ext cx="576000" cy="225360"/>
            </a:xfrm>
            <a:prstGeom prst="rightArrow">
              <a:avLst>
                <a:gd name="adj1" fmla="val 50000"/>
                <a:gd name="adj2" fmla="val 49959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75 CuadroTexto"/>
            <p:cNvSpPr/>
            <p:nvPr/>
          </p:nvSpPr>
          <p:spPr>
            <a:xfrm>
              <a:off x="333360" y="4067640"/>
              <a:ext cx="251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81 Grupo"/>
          <p:cNvGrpSpPr/>
          <p:nvPr/>
        </p:nvGrpSpPr>
        <p:grpSpPr>
          <a:xfrm>
            <a:off x="3357720" y="3995640"/>
            <a:ext cx="3024000" cy="2737080"/>
            <a:chOff x="3357720" y="3995640"/>
            <a:chExt cx="3024000" cy="2737080"/>
          </a:xfrm>
        </p:grpSpPr>
        <p:sp>
          <p:nvSpPr>
            <p:cNvPr id="418" name="63 Rectángulo"/>
            <p:cNvSpPr/>
            <p:nvPr/>
          </p:nvSpPr>
          <p:spPr>
            <a:xfrm>
              <a:off x="3368520" y="3995640"/>
              <a:ext cx="2942280" cy="273708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65 Rectángulo redondeado"/>
            <p:cNvGrpSpPr/>
            <p:nvPr/>
          </p:nvGrpSpPr>
          <p:grpSpPr>
            <a:xfrm>
              <a:off x="3357720" y="4699800"/>
              <a:ext cx="1384920" cy="749880"/>
              <a:chOff x="3357720" y="4699800"/>
              <a:chExt cx="1384920" cy="749880"/>
            </a:xfrm>
          </p:grpSpPr>
          <p:pic>
            <p:nvPicPr>
              <p:cNvPr id="420" name="6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699800"/>
                <a:ext cx="13849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68240" y="481572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66 Rectángulo redondeado"/>
            <p:cNvGrpSpPr/>
            <p:nvPr/>
          </p:nvGrpSpPr>
          <p:grpSpPr>
            <a:xfrm>
              <a:off x="3357720" y="5852160"/>
              <a:ext cx="1317960" cy="749880"/>
              <a:chOff x="3357720" y="5852160"/>
              <a:chExt cx="1317960" cy="749880"/>
            </a:xfrm>
          </p:grpSpPr>
          <p:pic>
            <p:nvPicPr>
              <p:cNvPr id="423" name="6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2160"/>
                <a:ext cx="1317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468240" y="5968440"/>
                <a:ext cx="1091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67 Rectángulo redondeado"/>
            <p:cNvGrpSpPr/>
            <p:nvPr/>
          </p:nvGrpSpPr>
          <p:grpSpPr>
            <a:xfrm>
              <a:off x="4863960" y="5352480"/>
              <a:ext cx="1384920" cy="743760"/>
              <a:chOff x="4863960" y="5352480"/>
              <a:chExt cx="1384920" cy="743760"/>
            </a:xfrm>
          </p:grpSpPr>
          <p:pic>
            <p:nvPicPr>
              <p:cNvPr id="426" name="67 Rectángulo redondeado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2480"/>
                <a:ext cx="1384920" cy="7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4974840" y="5464440"/>
                <a:ext cx="116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73 Flecha derecha"/>
            <p:cNvSpPr/>
            <p:nvPr/>
          </p:nvSpPr>
          <p:spPr>
            <a:xfrm rot="2013000">
              <a:off x="4670280" y="507312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74 Flecha derecha"/>
            <p:cNvSpPr/>
            <p:nvPr/>
          </p:nvSpPr>
          <p:spPr>
            <a:xfrm rot="19758600">
              <a:off x="4673160" y="6145200"/>
              <a:ext cx="574200" cy="210960"/>
            </a:xfrm>
            <a:prstGeom prst="rightArrow">
              <a:avLst>
                <a:gd name="adj1" fmla="val 50000"/>
                <a:gd name="adj2" fmla="val 4985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76 CuadroTexto"/>
            <p:cNvSpPr/>
            <p:nvPr/>
          </p:nvSpPr>
          <p:spPr>
            <a:xfrm>
              <a:off x="3511800" y="4067640"/>
              <a:ext cx="28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29 Botón de acción: Volver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30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1 Botón de acción: Volver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4AC7-443A-4FA7-97BE-FE00072107D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37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5 CuadroTexto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52 Grupo"/>
          <p:cNvGrpSpPr/>
          <p:nvPr/>
        </p:nvGrpSpPr>
        <p:grpSpPr>
          <a:xfrm>
            <a:off x="1052640" y="2843280"/>
            <a:ext cx="4464000" cy="3384360"/>
            <a:chOff x="1052640" y="2843280"/>
            <a:chExt cx="4464000" cy="3384360"/>
          </a:xfrm>
        </p:grpSpPr>
        <p:grpSp>
          <p:nvGrpSpPr>
            <p:cNvPr id="443" name="29 Rectángulo redondeado"/>
            <p:cNvGrpSpPr/>
            <p:nvPr/>
          </p:nvGrpSpPr>
          <p:grpSpPr>
            <a:xfrm>
              <a:off x="1052640" y="2843280"/>
              <a:ext cx="1967760" cy="1257480"/>
              <a:chOff x="1052640" y="2843280"/>
              <a:chExt cx="1967760" cy="1257480"/>
            </a:xfrm>
          </p:grpSpPr>
          <p:pic>
            <p:nvPicPr>
              <p:cNvPr id="444" name="29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1186920" y="29800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30 Rectángulo redondeado"/>
            <p:cNvGrpSpPr/>
            <p:nvPr/>
          </p:nvGrpSpPr>
          <p:grpSpPr>
            <a:xfrm>
              <a:off x="3548880" y="4970160"/>
              <a:ext cx="1967760" cy="1257480"/>
              <a:chOff x="3548880" y="4970160"/>
              <a:chExt cx="1967760" cy="1257480"/>
            </a:xfrm>
          </p:grpSpPr>
          <p:pic>
            <p:nvPicPr>
              <p:cNvPr id="447" name="30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16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3684240" y="510228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31 Rectángulo redondeado"/>
            <p:cNvGrpSpPr/>
            <p:nvPr/>
          </p:nvGrpSpPr>
          <p:grpSpPr>
            <a:xfrm>
              <a:off x="3548880" y="3532680"/>
              <a:ext cx="1967760" cy="1257480"/>
              <a:chOff x="3548880" y="3532680"/>
              <a:chExt cx="1967760" cy="1257480"/>
            </a:xfrm>
          </p:grpSpPr>
          <p:pic>
            <p:nvPicPr>
              <p:cNvPr id="450" name="3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680"/>
                <a:ext cx="196776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684240" y="3664440"/>
                <a:ext cx="1695600" cy="9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34 Conector recto"/>
            <p:cNvSpPr/>
            <p:nvPr/>
          </p:nvSpPr>
          <p:spPr>
            <a:xfrm>
              <a:off x="1132560" y="333720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36 Conector recto"/>
            <p:cNvSpPr/>
            <p:nvPr/>
          </p:nvSpPr>
          <p:spPr>
            <a:xfrm>
              <a:off x="3630600" y="402228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38 Conector recto"/>
            <p:cNvSpPr/>
            <p:nvPr/>
          </p:nvSpPr>
          <p:spPr>
            <a:xfrm>
              <a:off x="3630600" y="5459040"/>
              <a:ext cx="180324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42 Conector recto"/>
            <p:cNvSpPr/>
            <p:nvPr/>
          </p:nvSpPr>
          <p:spPr>
            <a:xfrm>
              <a:off x="2589120" y="4022280"/>
              <a:ext cx="1041480" cy="54756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45 Conector recto"/>
            <p:cNvSpPr/>
            <p:nvPr/>
          </p:nvSpPr>
          <p:spPr>
            <a:xfrm>
              <a:off x="2520000" y="4090320"/>
              <a:ext cx="0" cy="16434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47 Conector recto"/>
            <p:cNvSpPr/>
            <p:nvPr/>
          </p:nvSpPr>
          <p:spPr>
            <a:xfrm>
              <a:off x="2520000" y="5734080"/>
              <a:ext cx="111024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17 Botón de acción: Volver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380D-BC2D-4A48-900A-AB67CC02D22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3 CuadroTexto"/>
          <p:cNvGrpSpPr/>
          <p:nvPr/>
        </p:nvGrpSpPr>
        <p:grpSpPr>
          <a:xfrm>
            <a:off x="536400" y="165240"/>
            <a:ext cx="5351760" cy="815760"/>
            <a:chOff x="536400" y="165240"/>
            <a:chExt cx="5351760" cy="815760"/>
          </a:xfrm>
        </p:grpSpPr>
        <p:pic>
          <p:nvPicPr>
            <p:cNvPr id="461" name="3 CuadroTexto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517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20640" y="2509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5 CuadroTexto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41 Rectángulo redondeado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43 CuadroTexto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92 Grupo"/>
          <p:cNvGrpSpPr/>
          <p:nvPr/>
        </p:nvGrpSpPr>
        <p:grpSpPr>
          <a:xfrm>
            <a:off x="692280" y="3059280"/>
            <a:ext cx="5473440" cy="2520720"/>
            <a:chOff x="692280" y="3059280"/>
            <a:chExt cx="5473440" cy="2520720"/>
          </a:xfrm>
        </p:grpSpPr>
        <p:grpSp>
          <p:nvGrpSpPr>
            <p:cNvPr id="467" name="53 Rectángulo redondeado"/>
            <p:cNvGrpSpPr/>
            <p:nvPr/>
          </p:nvGrpSpPr>
          <p:grpSpPr>
            <a:xfrm>
              <a:off x="692280" y="4745520"/>
              <a:ext cx="1698120" cy="834480"/>
              <a:chOff x="692280" y="4745520"/>
              <a:chExt cx="1698120" cy="834480"/>
            </a:xfrm>
          </p:grpSpPr>
          <p:pic>
            <p:nvPicPr>
              <p:cNvPr id="468" name="53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80640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55 Conector recto"/>
            <p:cNvSpPr/>
            <p:nvPr/>
          </p:nvSpPr>
          <p:spPr>
            <a:xfrm>
              <a:off x="84168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57 Rectángulo redondeado"/>
            <p:cNvGrpSpPr/>
            <p:nvPr/>
          </p:nvGrpSpPr>
          <p:grpSpPr>
            <a:xfrm>
              <a:off x="4467600" y="4745520"/>
              <a:ext cx="1698120" cy="834480"/>
              <a:chOff x="4467600" y="4745520"/>
              <a:chExt cx="1698120" cy="834480"/>
            </a:xfrm>
          </p:grpSpPr>
          <p:pic>
            <p:nvPicPr>
              <p:cNvPr id="472" name="5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60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458172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58 Rectángulo redondeado"/>
            <p:cNvGrpSpPr/>
            <p:nvPr/>
          </p:nvGrpSpPr>
          <p:grpSpPr>
            <a:xfrm>
              <a:off x="2579760" y="4745520"/>
              <a:ext cx="1698120" cy="834480"/>
              <a:chOff x="2579760" y="4745520"/>
              <a:chExt cx="1698120" cy="834480"/>
            </a:xfrm>
          </p:grpSpPr>
          <p:pic>
            <p:nvPicPr>
              <p:cNvPr id="475" name="5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520"/>
                <a:ext cx="1698120" cy="83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2693880" y="4859640"/>
                <a:ext cx="14698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78 Conector recto"/>
            <p:cNvSpPr/>
            <p:nvPr/>
          </p:nvSpPr>
          <p:spPr>
            <a:xfrm>
              <a:off x="272952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79 Conector recto"/>
            <p:cNvSpPr/>
            <p:nvPr/>
          </p:nvSpPr>
          <p:spPr>
            <a:xfrm>
              <a:off x="4617000" y="5097240"/>
              <a:ext cx="146844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83 Rectángulo redondeado"/>
            <p:cNvGrpSpPr/>
            <p:nvPr/>
          </p:nvGrpSpPr>
          <p:grpSpPr>
            <a:xfrm>
              <a:off x="4467600" y="4002480"/>
              <a:ext cx="1674360" cy="497160"/>
              <a:chOff x="4467600" y="4002480"/>
              <a:chExt cx="1674360" cy="497160"/>
            </a:xfrm>
          </p:grpSpPr>
          <p:pic>
            <p:nvPicPr>
              <p:cNvPr id="480" name="83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600" y="40024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4440" y="410040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84 Rectángulo redondeado"/>
            <p:cNvGrpSpPr/>
            <p:nvPr/>
          </p:nvGrpSpPr>
          <p:grpSpPr>
            <a:xfrm>
              <a:off x="4467600" y="3059280"/>
              <a:ext cx="1674360" cy="497160"/>
              <a:chOff x="4467600" y="3059280"/>
              <a:chExt cx="1674360" cy="497160"/>
            </a:xfrm>
          </p:grpSpPr>
          <p:pic>
            <p:nvPicPr>
              <p:cNvPr id="483" name="84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600" y="305928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4564440" y="315468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85 Rectángulo redondeado"/>
            <p:cNvGrpSpPr/>
            <p:nvPr/>
          </p:nvGrpSpPr>
          <p:grpSpPr>
            <a:xfrm>
              <a:off x="4467600" y="3533760"/>
              <a:ext cx="1674360" cy="497160"/>
              <a:chOff x="4467600" y="3533760"/>
              <a:chExt cx="1674360" cy="497160"/>
            </a:xfrm>
          </p:grpSpPr>
          <p:pic>
            <p:nvPicPr>
              <p:cNvPr id="486" name="85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600" y="3533760"/>
                <a:ext cx="167436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4564440" y="3627360"/>
                <a:ext cx="147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87 Flecha derecha"/>
            <p:cNvSpPr/>
            <p:nvPr/>
          </p:nvSpPr>
          <p:spPr>
            <a:xfrm>
              <a:off x="2310120" y="5028840"/>
              <a:ext cx="342000" cy="263160"/>
            </a:xfrm>
            <a:prstGeom prst="rightArrow">
              <a:avLst>
                <a:gd name="adj1" fmla="val 50000"/>
                <a:gd name="adj2" fmla="val 5180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88 Flecha derecha"/>
            <p:cNvSpPr/>
            <p:nvPr/>
          </p:nvSpPr>
          <p:spPr>
            <a:xfrm>
              <a:off x="4197960" y="5097240"/>
              <a:ext cx="342000" cy="261720"/>
            </a:xfrm>
            <a:prstGeom prst="rightArrow">
              <a:avLst>
                <a:gd name="adj1" fmla="val 50000"/>
                <a:gd name="adj2" fmla="val 5179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89 Flecha abajo"/>
            <p:cNvSpPr/>
            <p:nvPr/>
          </p:nvSpPr>
          <p:spPr>
            <a:xfrm>
              <a:off x="5316840" y="327348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90 Flecha abajo"/>
            <p:cNvSpPr/>
            <p:nvPr/>
          </p:nvSpPr>
          <p:spPr>
            <a:xfrm>
              <a:off x="5316840" y="3813840"/>
              <a:ext cx="140040" cy="337680"/>
            </a:xfrm>
            <a:prstGeom prst="downArrow">
              <a:avLst>
                <a:gd name="adj1" fmla="val 50000"/>
                <a:gd name="adj2" fmla="val 4833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21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22 Botón de acción: Volver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3819-1154-484B-84D1-830F1986221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496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4 CuadroTexto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9EFC-B85C-44B9-88C6-02041BA9CB1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4 CuadroTexto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A23-DAB6-4626-95EC-7420908D1E5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50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4 CuadroTexto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 Marcador de pie de página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BC1-D8AA-4ED0-9627-A94D16B9CC74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3 CuadroTexto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3E64-2AC2-4EF7-AB70-C9213868FF8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3 CuadroTexto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4 Diagrama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69" name="5 Rectángulo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BC6-AF90-4A17-9158-F44C3A30FC7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2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4 CuadroTexto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8CC-E5FE-4954-9F81-51439778DBD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78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4 CuadroTexto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1 Marcador de pie de página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A7DA-B4C8-447F-A368-6F55A73B9814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85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4 CuadroTexto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1CB-DEDB-4F46-A443-4A27902D1E4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3 Rectángulo redondeado"/>
          <p:cNvGrpSpPr/>
          <p:nvPr/>
        </p:nvGrpSpPr>
        <p:grpSpPr>
          <a:xfrm>
            <a:off x="390600" y="457200"/>
            <a:ext cx="5857920" cy="1103400"/>
            <a:chOff x="390600" y="457200"/>
            <a:chExt cx="5857920" cy="1103400"/>
          </a:xfrm>
        </p:grpSpPr>
        <p:pic>
          <p:nvPicPr>
            <p:cNvPr id="290" name="3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7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2360" y="585720"/>
              <a:ext cx="5597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4 CuadroTexto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725F-99EB-46A7-A4B5-7DC3995EC27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3 CuadroTexto"/>
          <p:cNvSpPr/>
          <p:nvPr/>
        </p:nvSpPr>
        <p:spPr>
          <a:xfrm>
            <a:off x="692280" y="611280"/>
            <a:ext cx="5832360" cy="84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 u="sng">
                <a:solidFill>
                  <a:srgbClr val="00c8c3"/>
                </a:solidFill>
                <a:uFillTx/>
                <a:latin typeface="Berlin Sans FB Demi"/>
                <a:hlinkClick r:id="rId1" action="ppaction://hlinksldjump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7df56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7df56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4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2 Marcador de número de diapositiva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A26F-DE47-41F6-A808-2C967DB444B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3 CuadroTexto"/>
          <p:cNvGrpSpPr/>
          <p:nvPr/>
        </p:nvGrpSpPr>
        <p:grpSpPr>
          <a:xfrm>
            <a:off x="1109520" y="311040"/>
            <a:ext cx="4419720" cy="878040"/>
            <a:chOff x="1109520" y="311040"/>
            <a:chExt cx="4419720" cy="878040"/>
          </a:xfrm>
        </p:grpSpPr>
        <p:pic>
          <p:nvPicPr>
            <p:cNvPr id="299" name="3 CuadroTexto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97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97000" y="395280"/>
              <a:ext cx="42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5 CuadroTexto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40 Grupo"/>
          <p:cNvGrpSpPr/>
          <p:nvPr/>
        </p:nvGrpSpPr>
        <p:grpSpPr>
          <a:xfrm>
            <a:off x="836640" y="3708360"/>
            <a:ext cx="5113440" cy="2951280"/>
            <a:chOff x="836640" y="3708360"/>
            <a:chExt cx="5113440" cy="2951280"/>
          </a:xfrm>
        </p:grpSpPr>
        <p:grpSp>
          <p:nvGrpSpPr>
            <p:cNvPr id="303" name="6 Rectángulo redondeado"/>
            <p:cNvGrpSpPr/>
            <p:nvPr/>
          </p:nvGrpSpPr>
          <p:grpSpPr>
            <a:xfrm>
              <a:off x="836640" y="3708360"/>
              <a:ext cx="1568880" cy="841320"/>
              <a:chOff x="836640" y="3708360"/>
              <a:chExt cx="1568880" cy="841320"/>
            </a:xfrm>
          </p:grpSpPr>
          <p:pic>
            <p:nvPicPr>
              <p:cNvPr id="304" name="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9543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7 Rectángulo redondeado"/>
            <p:cNvGrpSpPr/>
            <p:nvPr/>
          </p:nvGrpSpPr>
          <p:grpSpPr>
            <a:xfrm>
              <a:off x="4381200" y="3708360"/>
              <a:ext cx="1568880" cy="841320"/>
              <a:chOff x="4381200" y="3708360"/>
              <a:chExt cx="1568880" cy="841320"/>
            </a:xfrm>
          </p:grpSpPr>
          <p:pic>
            <p:nvPicPr>
              <p:cNvPr id="307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200" y="370836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4498560" y="3823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8 Rectángulo redondeado"/>
            <p:cNvGrpSpPr/>
            <p:nvPr/>
          </p:nvGrpSpPr>
          <p:grpSpPr>
            <a:xfrm>
              <a:off x="1426320" y="4797720"/>
              <a:ext cx="1568880" cy="841320"/>
              <a:chOff x="1426320" y="4797720"/>
              <a:chExt cx="1568880" cy="841320"/>
            </a:xfrm>
          </p:grpSpPr>
          <p:pic>
            <p:nvPicPr>
              <p:cNvPr id="310" name="8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154512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9 Rectángulo redondeado"/>
            <p:cNvGrpSpPr/>
            <p:nvPr/>
          </p:nvGrpSpPr>
          <p:grpSpPr>
            <a:xfrm>
              <a:off x="1426320" y="5818320"/>
              <a:ext cx="1568880" cy="841320"/>
              <a:chOff x="1426320" y="5818320"/>
              <a:chExt cx="1568880" cy="841320"/>
            </a:xfrm>
          </p:grpSpPr>
          <p:pic>
            <p:nvPicPr>
              <p:cNvPr id="313" name="9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632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54512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10 Rectángulo redondeado"/>
            <p:cNvGrpSpPr/>
            <p:nvPr/>
          </p:nvGrpSpPr>
          <p:grpSpPr>
            <a:xfrm>
              <a:off x="3420000" y="4797720"/>
              <a:ext cx="1568880" cy="841320"/>
              <a:chOff x="3420000" y="4797720"/>
              <a:chExt cx="1568880" cy="841320"/>
            </a:xfrm>
          </p:grpSpPr>
          <p:pic>
            <p:nvPicPr>
              <p:cNvPr id="316" name="10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0000" y="47977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538800" y="491292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11 Rectángulo redondeado"/>
            <p:cNvGrpSpPr/>
            <p:nvPr/>
          </p:nvGrpSpPr>
          <p:grpSpPr>
            <a:xfrm>
              <a:off x="3420000" y="5818320"/>
              <a:ext cx="1568880" cy="841320"/>
              <a:chOff x="3420000" y="5818320"/>
              <a:chExt cx="1568880" cy="841320"/>
            </a:xfrm>
          </p:grpSpPr>
          <p:pic>
            <p:nvPicPr>
              <p:cNvPr id="319" name="11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3420000" y="5818320"/>
                <a:ext cx="156888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3538800" y="5934240"/>
                <a:ext cx="1335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1" name="13 Conector recto" descr=""/>
            <p:cNvPicPr/>
            <p:nvPr/>
          </p:nvPicPr>
          <p:blipFill>
            <a:blip r:embed="rId8"/>
            <a:stretch/>
          </p:blipFill>
          <p:spPr>
            <a:xfrm>
              <a:off x="114300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14 Conector recto" descr=""/>
            <p:cNvPicPr/>
            <p:nvPr/>
          </p:nvPicPr>
          <p:blipFill>
            <a:blip r:embed="rId9"/>
            <a:stretch/>
          </p:blipFill>
          <p:spPr>
            <a:xfrm>
              <a:off x="5207040" y="4463280"/>
              <a:ext cx="47160" cy="17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15 Conector recto" descr=""/>
            <p:cNvPicPr/>
            <p:nvPr/>
          </p:nvPicPr>
          <p:blipFill>
            <a:blip r:embed="rId10"/>
            <a:stretch/>
          </p:blipFill>
          <p:spPr>
            <a:xfrm>
              <a:off x="4741200" y="4451760"/>
              <a:ext cx="55440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19 Conector recto" descr=""/>
            <p:cNvPicPr/>
            <p:nvPr/>
          </p:nvPicPr>
          <p:blipFill>
            <a:blip r:embed="rId11"/>
            <a:stretch/>
          </p:blipFill>
          <p:spPr>
            <a:xfrm>
              <a:off x="1196280" y="4451760"/>
              <a:ext cx="47772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23 Conector recto" descr=""/>
            <p:cNvPicPr/>
            <p:nvPr/>
          </p:nvPicPr>
          <p:blipFill>
            <a:blip r:embed="rId12"/>
            <a:stretch/>
          </p:blipFill>
          <p:spPr>
            <a:xfrm>
              <a:off x="497700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26 Conector recto" descr=""/>
            <p:cNvPicPr/>
            <p:nvPr/>
          </p:nvPicPr>
          <p:blipFill>
            <a:blip r:embed="rId13"/>
            <a:stretch/>
          </p:blipFill>
          <p:spPr>
            <a:xfrm>
              <a:off x="1208160" y="6106320"/>
              <a:ext cx="306360" cy="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28 Conector recto"/>
            <p:cNvSpPr/>
            <p:nvPr/>
          </p:nvSpPr>
          <p:spPr>
            <a:xfrm>
              <a:off x="1511640" y="50835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30 Conector recto"/>
            <p:cNvSpPr/>
            <p:nvPr/>
          </p:nvSpPr>
          <p:spPr>
            <a:xfrm>
              <a:off x="3431880" y="5083560"/>
              <a:ext cx="14760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38 Conector recto"/>
            <p:cNvSpPr/>
            <p:nvPr/>
          </p:nvSpPr>
          <p:spPr>
            <a:xfrm>
              <a:off x="151164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39 Conector recto"/>
            <p:cNvSpPr/>
            <p:nvPr/>
          </p:nvSpPr>
          <p:spPr>
            <a:xfrm>
              <a:off x="3505680" y="6105960"/>
              <a:ext cx="14022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41 Rectángulo redondeado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43 CuadroTexto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24 Botón de acción: Volver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25 Rectángulo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  <a:ea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1-10-02T18:26:07Z</dcterms:modified>
  <cp:revision>32</cp:revision>
  <dc:subject/>
  <dc:title>Leer Para comprender y aprender</dc:title>
</cp:coreProperties>
</file>