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1AE6-C414-4EBF-9C8B-FA856AD457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4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AF3-8D92-47E6-85E6-C4CABB86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1B8-F471-452E-9E58-59237E4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3B-A664-4974-88BE-332EE06D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BE6-01A7-4A79-9B7D-3AA69467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A41C-5C9C-4EF6-8075-FEA2D362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A8D1-7177-479D-960B-A819EB9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870-DA7A-4FE9-B597-4428BC3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80F-C179-4340-A798-1F15581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A1E-1EEA-4F2B-9D94-5D3CB84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FA4-64A5-4D67-A421-1DB711CA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6A62-50F5-4B3A-8209-9F7F50D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E92-8A9A-412A-AC71-C94A078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A08-0E23-41C5-964D-22C2A71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3FF-863A-49C2-AC67-31A06A8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409-9F88-49E3-8969-7F568162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9B9-27D2-4946-8A35-5F65CB8A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3D9-7385-4398-9EEF-2D901279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855D-E94A-45CB-88ED-BDD1310C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C025-CD34-463E-B491-D9DA0A1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0971-CB84-4FCB-A368-8A26FA7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0CE9-1F7D-4AE6-8339-6B4247F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491C-752E-488C-B604-29F5126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85F-BEC3-447D-8132-2E922DC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35CD-9DD6-48DF-B071-344FA2D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3100-29A8-4F56-8E09-C47A07E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62ED-F72A-40EE-A8D0-EE4775E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725D-E2BF-48B0-8EBA-2F44BC4A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48A2-50ED-4A52-80B8-A5B71BDA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E1A7-E18F-482D-AF9F-4292F94F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F82B-F376-4D07-B445-FCD01842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D42A-0554-4D70-BC31-3BC75C46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7F4A-B209-48BF-A062-B07197E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B35A-0FA2-4C64-A06E-E8774A24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0BB-962F-4C51-A2F9-CE653D0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BBF2-BD3D-45F1-B4B9-3CE9C29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DF64-1507-435A-8743-096FC756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4797-73E4-4B64-BDF9-E32D731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BF46-AB04-4491-8F14-EC25903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09B2-F5D4-4FD7-ACFD-11D71D3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C911-E867-43A6-9F81-D28A305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E1AB-DB3C-4982-A23B-E87C514C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C4AD-E433-4A69-B31C-FBA90A0F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D39F-EEAA-4C6F-9852-0542E811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B1CA-1910-4444-B385-34A1A6E8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36E-D995-49FF-8DB3-38423B2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6EE8-E996-4867-9092-EFC731D0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6F86-C681-4D82-A245-925B9F6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FB77-EF99-4818-A953-6502F08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1621-1D51-46D7-8F0F-7898859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CCE2-EC96-4DBB-A299-1C05C92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5D80-9060-4C21-B72A-EEC0F9F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7569-1BDF-4FAC-BAD2-9C16F4B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F932-E2E1-41E4-A8DF-237FA3D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8EF3-8FBA-49AA-86F7-76276EB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597C-3D35-4CBD-B99B-7288A08C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454-B494-4157-BDDF-9E2FECE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8528-3200-44EA-B3D0-9352673F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E36A9-B482-4C55-89A4-297DB1CB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5FEB-0BE6-44F3-A012-08C5928D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29F2-FD52-4550-9DC4-3D8604B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E7AD-8406-4885-961E-EC17405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E5314-9069-41B0-95A9-E824EC9F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C6C0-7021-40C7-A34A-95EADF5F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7292-7D2D-4856-9B78-65C28BA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CB0A9-3561-4E9C-B2B3-1D2EB8E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C03E-8DA2-47A4-97D9-DCEE81E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53D-344A-4276-ABC5-54F9898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010C-78E7-4DA2-8457-7F0391C1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BDF6-7B80-436E-93B0-80530776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BF77-69A5-4991-A455-D8A48583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BB9-0F10-4989-9090-EF7A3A0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B96-57BB-4C27-BB1F-E6C2C00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241-132C-4647-B48E-7876EC041D1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9F9-1461-45E2-B0DC-8843FE38FB9F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9698-0FE6-489E-A6DA-7A3B65FD5642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F6F7-E6CF-4F93-A4CB-7C8DF7712753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6E0C-57CC-4C19-8398-8C65984CFA3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20FC-3E33-42D5-888B-AD46E5EC6589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003-D7E8-4244-8259-E43E412CE280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721-50AD-4548-9FCF-8DEF26DE515B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C400-4659-4C36-BE2B-21647DBA1AB5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16400" y="8562960"/>
            <a:ext cx="571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438-E66E-4540-844B-6D520E9C9717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E8C-964E-4A4B-BDC4-0054BEE532B1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9F9-BD05-41CE-AC3E-50E7A30C9506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17520" y="4316400"/>
            <a:ext cx="5351400" cy="3206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82 Grupo"/>
          <p:cNvGrpSpPr/>
          <p:nvPr/>
        </p:nvGrpSpPr>
        <p:grpSpPr>
          <a:xfrm>
            <a:off x="1413000" y="2340000"/>
            <a:ext cx="3960720" cy="1511280"/>
            <a:chOff x="1413000" y="2340000"/>
            <a:chExt cx="3960720" cy="1511280"/>
          </a:xfrm>
        </p:grpSpPr>
        <p:sp>
          <p:nvSpPr>
            <p:cNvPr id="336" name="55 Rectángulo"/>
            <p:cNvSpPr/>
            <p:nvPr/>
          </p:nvSpPr>
          <p:spPr>
            <a:xfrm>
              <a:off x="1413000" y="2340000"/>
              <a:ext cx="3960720" cy="151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49 Grupo"/>
            <p:cNvGrpSpPr/>
            <p:nvPr/>
          </p:nvGrpSpPr>
          <p:grpSpPr>
            <a:xfrm>
              <a:off x="1773000" y="2843640"/>
              <a:ext cx="3312720" cy="791640"/>
              <a:chOff x="1773000" y="2843640"/>
              <a:chExt cx="3312720" cy="791640"/>
            </a:xfrm>
          </p:grpSpPr>
          <p:grpSp>
            <p:nvGrpSpPr>
              <p:cNvPr id="338" name="24 Rectángulo redondeado"/>
              <p:cNvGrpSpPr/>
              <p:nvPr/>
            </p:nvGrpSpPr>
            <p:grpSpPr>
              <a:xfrm>
                <a:off x="1773000" y="2843640"/>
                <a:ext cx="1392480" cy="791640"/>
                <a:chOff x="1773000" y="2843640"/>
                <a:chExt cx="1392480" cy="791640"/>
              </a:xfrm>
            </p:grpSpPr>
            <p:pic>
              <p:nvPicPr>
                <p:cNvPr id="339" name="24 Rectángulo redondead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00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18900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40 Conector recto"/>
              <p:cNvSpPr/>
              <p:nvPr/>
            </p:nvSpPr>
            <p:spPr>
              <a:xfrm>
                <a:off x="185328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44 Conector recto"/>
              <p:cNvSpPr/>
              <p:nvPr/>
            </p:nvSpPr>
            <p:spPr>
              <a:xfrm>
                <a:off x="3566880" y="338940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45 Rectángulo redondeado"/>
              <p:cNvGrpSpPr/>
              <p:nvPr/>
            </p:nvGrpSpPr>
            <p:grpSpPr>
              <a:xfrm>
                <a:off x="3693240" y="2843640"/>
                <a:ext cx="1392480" cy="791640"/>
                <a:chOff x="3693240" y="2843640"/>
                <a:chExt cx="1392480" cy="791640"/>
              </a:xfrm>
            </p:grpSpPr>
            <p:pic>
              <p:nvPicPr>
                <p:cNvPr id="344" name="45 Rectángulo redondead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324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8088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46 Conector recto"/>
              <p:cNvSpPr/>
              <p:nvPr/>
            </p:nvSpPr>
            <p:spPr>
              <a:xfrm>
                <a:off x="377244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48 Flecha izquierda"/>
              <p:cNvSpPr/>
              <p:nvPr/>
            </p:nvSpPr>
            <p:spPr>
              <a:xfrm>
                <a:off x="3155760" y="2974320"/>
                <a:ext cx="480240" cy="399240"/>
              </a:xfrm>
              <a:prstGeom prst="leftArrow">
                <a:avLst>
                  <a:gd name="adj1" fmla="val 50000"/>
                  <a:gd name="adj2" fmla="val 57911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5F38-F2EE-4EFE-A8D3-F924EBE64BB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350" name="3 CuadroTexto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5 CuadroTexto"/>
          <p:cNvSpPr/>
          <p:nvPr/>
        </p:nvSpPr>
        <p:spPr>
          <a:xfrm>
            <a:off x="620640" y="90000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34 CuadroTexto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81 Grupo"/>
          <p:cNvGrpSpPr/>
          <p:nvPr/>
        </p:nvGrpSpPr>
        <p:grpSpPr>
          <a:xfrm>
            <a:off x="476280" y="3924360"/>
            <a:ext cx="2881440" cy="2951280"/>
            <a:chOff x="476280" y="3924360"/>
            <a:chExt cx="2881440" cy="2951280"/>
          </a:xfrm>
        </p:grpSpPr>
        <p:sp>
          <p:nvSpPr>
            <p:cNvPr id="357" name="56 Rectángulo"/>
            <p:cNvSpPr/>
            <p:nvPr/>
          </p:nvSpPr>
          <p:spPr>
            <a:xfrm>
              <a:off x="488880" y="3924360"/>
              <a:ext cx="286884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27 Rectángulo redondeado"/>
            <p:cNvGrpSpPr/>
            <p:nvPr/>
          </p:nvGrpSpPr>
          <p:grpSpPr>
            <a:xfrm>
              <a:off x="476280" y="5132880"/>
              <a:ext cx="1316880" cy="749880"/>
              <a:chOff x="476280" y="5132880"/>
              <a:chExt cx="1316880" cy="749880"/>
            </a:xfrm>
          </p:grpSpPr>
          <p:pic>
            <p:nvPicPr>
              <p:cNvPr id="359" name="27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880"/>
                <a:ext cx="1316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20640" y="5280120"/>
                <a:ext cx="10278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36 CuadroTexto"/>
            <p:cNvSpPr/>
            <p:nvPr/>
          </p:nvSpPr>
          <p:spPr>
            <a:xfrm>
              <a:off x="632520" y="3996000"/>
              <a:ext cx="215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51 Rectángulo redondeado"/>
            <p:cNvGrpSpPr/>
            <p:nvPr/>
          </p:nvGrpSpPr>
          <p:grpSpPr>
            <a:xfrm>
              <a:off x="2054160" y="4559760"/>
              <a:ext cx="1171440" cy="816840"/>
              <a:chOff x="2054160" y="4559760"/>
              <a:chExt cx="1171440" cy="816840"/>
            </a:xfrm>
          </p:grpSpPr>
          <p:pic>
            <p:nvPicPr>
              <p:cNvPr id="363" name="51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76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169720" y="467568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58 Rectángulo redondeado"/>
            <p:cNvGrpSpPr/>
            <p:nvPr/>
          </p:nvGrpSpPr>
          <p:grpSpPr>
            <a:xfrm>
              <a:off x="2054160" y="5712120"/>
              <a:ext cx="1171440" cy="816840"/>
              <a:chOff x="2054160" y="5712120"/>
              <a:chExt cx="1171440" cy="816840"/>
            </a:xfrm>
          </p:grpSpPr>
          <p:pic>
            <p:nvPicPr>
              <p:cNvPr id="366" name="58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212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169720" y="582732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70 Flecha izquierda"/>
            <p:cNvSpPr/>
            <p:nvPr/>
          </p:nvSpPr>
          <p:spPr>
            <a:xfrm rot="19598400">
              <a:off x="1622160" y="4897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79 Flecha izquierda"/>
            <p:cNvSpPr/>
            <p:nvPr/>
          </p:nvSpPr>
          <p:spPr>
            <a:xfrm rot="2404200">
              <a:off x="1622160" y="5761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83 Grupo"/>
          <p:cNvGrpSpPr/>
          <p:nvPr/>
        </p:nvGrpSpPr>
        <p:grpSpPr>
          <a:xfrm>
            <a:off x="3500280" y="3924360"/>
            <a:ext cx="2881440" cy="2951280"/>
            <a:chOff x="3500280" y="3924360"/>
            <a:chExt cx="2881440" cy="2951280"/>
          </a:xfrm>
        </p:grpSpPr>
        <p:sp>
          <p:nvSpPr>
            <p:cNvPr id="371" name="57 Rectángulo"/>
            <p:cNvSpPr/>
            <p:nvPr/>
          </p:nvSpPr>
          <p:spPr>
            <a:xfrm>
              <a:off x="3507480" y="3924360"/>
              <a:ext cx="286740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35 CuadroTexto"/>
            <p:cNvSpPr/>
            <p:nvPr/>
          </p:nvSpPr>
          <p:spPr>
            <a:xfrm>
              <a:off x="3733920" y="3997800"/>
              <a:ext cx="22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59 Rectángulo redondeado"/>
            <p:cNvGrpSpPr/>
            <p:nvPr/>
          </p:nvGrpSpPr>
          <p:grpSpPr>
            <a:xfrm>
              <a:off x="5156280" y="5169600"/>
              <a:ext cx="1225440" cy="835200"/>
              <a:chOff x="5156280" y="5169600"/>
              <a:chExt cx="1225440" cy="835200"/>
            </a:xfrm>
          </p:grpSpPr>
          <p:pic>
            <p:nvPicPr>
              <p:cNvPr id="374" name="59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9600"/>
                <a:ext cx="122544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275080" y="5284800"/>
                <a:ext cx="992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60 Rectángulo redondeado"/>
            <p:cNvGrpSpPr/>
            <p:nvPr/>
          </p:nvGrpSpPr>
          <p:grpSpPr>
            <a:xfrm>
              <a:off x="3573000" y="5834160"/>
              <a:ext cx="1377000" cy="829080"/>
              <a:chOff x="3573000" y="5834160"/>
              <a:chExt cx="1377000" cy="829080"/>
            </a:xfrm>
          </p:grpSpPr>
          <p:pic>
            <p:nvPicPr>
              <p:cNvPr id="377" name="60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000" y="5834160"/>
                <a:ext cx="13770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3727440" y="59857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61 Rectángulo redondeado"/>
            <p:cNvGrpSpPr/>
            <p:nvPr/>
          </p:nvGrpSpPr>
          <p:grpSpPr>
            <a:xfrm>
              <a:off x="3500280" y="4651200"/>
              <a:ext cx="1377000" cy="835200"/>
              <a:chOff x="3500280" y="4651200"/>
              <a:chExt cx="1377000" cy="835200"/>
            </a:xfrm>
          </p:grpSpPr>
          <p:pic>
            <p:nvPicPr>
              <p:cNvPr id="380" name="61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700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3651840" y="48049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78 Flecha izquierda"/>
            <p:cNvSpPr/>
            <p:nvPr/>
          </p:nvSpPr>
          <p:spPr>
            <a:xfrm rot="1387200">
              <a:off x="4767840" y="497052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80 Flecha izquierda"/>
            <p:cNvSpPr/>
            <p:nvPr/>
          </p:nvSpPr>
          <p:spPr>
            <a:xfrm rot="19598400">
              <a:off x="4850280" y="595440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3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35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8561-EE43-4983-8A8A-A044A330BB8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3 CuadroTexto"/>
          <p:cNvGrpSpPr/>
          <p:nvPr/>
        </p:nvGrpSpPr>
        <p:grpSpPr>
          <a:xfrm>
            <a:off x="463680" y="237960"/>
            <a:ext cx="5351400" cy="816120"/>
            <a:chOff x="463680" y="237960"/>
            <a:chExt cx="5351400" cy="816120"/>
          </a:xfrm>
        </p:grpSpPr>
        <p:pic>
          <p:nvPicPr>
            <p:cNvPr id="388" name="3 CuadroTexto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51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49360" y="324000"/>
              <a:ext cx="518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5 CuadroTexto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82 Grupo"/>
          <p:cNvGrpSpPr/>
          <p:nvPr/>
        </p:nvGrpSpPr>
        <p:grpSpPr>
          <a:xfrm>
            <a:off x="1197000" y="2268360"/>
            <a:ext cx="4464000" cy="1440000"/>
            <a:chOff x="1197000" y="2268360"/>
            <a:chExt cx="4464000" cy="1440000"/>
          </a:xfrm>
        </p:grpSpPr>
        <p:sp>
          <p:nvSpPr>
            <p:cNvPr id="394" name="56 Rectángulo"/>
            <p:cNvSpPr/>
            <p:nvPr/>
          </p:nvSpPr>
          <p:spPr>
            <a:xfrm>
              <a:off x="1197000" y="2268360"/>
              <a:ext cx="4464000" cy="144000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51 Rectángulo redondeado"/>
            <p:cNvGrpSpPr/>
            <p:nvPr/>
          </p:nvGrpSpPr>
          <p:grpSpPr>
            <a:xfrm>
              <a:off x="1469160" y="2761200"/>
              <a:ext cx="1542240" cy="743760"/>
              <a:chOff x="1469160" y="2761200"/>
              <a:chExt cx="1542240" cy="743760"/>
            </a:xfrm>
          </p:grpSpPr>
          <p:pic>
            <p:nvPicPr>
              <p:cNvPr id="396" name="51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160" y="2761200"/>
                <a:ext cx="154224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585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33 CuadroTexto"/>
            <p:cNvSpPr/>
            <p:nvPr/>
          </p:nvSpPr>
          <p:spPr>
            <a:xfrm>
              <a:off x="1341000" y="2412360"/>
              <a:ext cx="41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37 Rectángulo redondeado"/>
            <p:cNvGrpSpPr/>
            <p:nvPr/>
          </p:nvGrpSpPr>
          <p:grpSpPr>
            <a:xfrm>
              <a:off x="3706560" y="2761200"/>
              <a:ext cx="1536120" cy="743760"/>
              <a:chOff x="3706560" y="2761200"/>
              <a:chExt cx="1536120" cy="743760"/>
            </a:xfrm>
          </p:grpSpPr>
          <p:pic>
            <p:nvPicPr>
              <p:cNvPr id="400" name="3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560" y="2761200"/>
                <a:ext cx="15361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3817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39 Flecha derecha"/>
            <p:cNvSpPr/>
            <p:nvPr/>
          </p:nvSpPr>
          <p:spPr>
            <a:xfrm>
              <a:off x="3068640" y="2916000"/>
              <a:ext cx="576000" cy="36036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77 Grupo"/>
          <p:cNvGrpSpPr/>
          <p:nvPr/>
        </p:nvGrpSpPr>
        <p:grpSpPr>
          <a:xfrm>
            <a:off x="333360" y="3995640"/>
            <a:ext cx="2951280" cy="2737080"/>
            <a:chOff x="333360" y="3995640"/>
            <a:chExt cx="2951280" cy="2737080"/>
          </a:xfrm>
        </p:grpSpPr>
        <p:sp>
          <p:nvSpPr>
            <p:cNvPr id="404" name="62 Rectángulo"/>
            <p:cNvSpPr/>
            <p:nvPr/>
          </p:nvSpPr>
          <p:spPr>
            <a:xfrm>
              <a:off x="333360" y="3995640"/>
              <a:ext cx="2951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64 Rectángulo redondeado"/>
            <p:cNvGrpSpPr/>
            <p:nvPr/>
          </p:nvGrpSpPr>
          <p:grpSpPr>
            <a:xfrm>
              <a:off x="389880" y="5352480"/>
              <a:ext cx="1323000" cy="743760"/>
              <a:chOff x="389880" y="5352480"/>
              <a:chExt cx="1323000" cy="743760"/>
            </a:xfrm>
          </p:grpSpPr>
          <p:pic>
            <p:nvPicPr>
              <p:cNvPr id="406" name="64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880" y="5352480"/>
                <a:ext cx="132300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505080" y="5464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68 Rectángulo redondeado"/>
            <p:cNvGrpSpPr/>
            <p:nvPr/>
          </p:nvGrpSpPr>
          <p:grpSpPr>
            <a:xfrm>
              <a:off x="1828800" y="4699800"/>
              <a:ext cx="1323000" cy="749880"/>
              <a:chOff x="1828800" y="4699800"/>
              <a:chExt cx="1323000" cy="749880"/>
            </a:xfrm>
          </p:grpSpPr>
          <p:pic>
            <p:nvPicPr>
              <p:cNvPr id="409" name="68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69980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945080" y="481572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69 Rectángulo redondeado"/>
            <p:cNvGrpSpPr/>
            <p:nvPr/>
          </p:nvGrpSpPr>
          <p:grpSpPr>
            <a:xfrm>
              <a:off x="1901880" y="5852160"/>
              <a:ext cx="1323000" cy="749880"/>
              <a:chOff x="1901880" y="5852160"/>
              <a:chExt cx="1323000" cy="749880"/>
            </a:xfrm>
          </p:grpSpPr>
          <p:pic>
            <p:nvPicPr>
              <p:cNvPr id="412" name="69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216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2016720" y="5968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71 Flecha derecha"/>
            <p:cNvSpPr/>
            <p:nvPr/>
          </p:nvSpPr>
          <p:spPr>
            <a:xfrm rot="19758600">
              <a:off x="1379160" y="5141520"/>
              <a:ext cx="574560" cy="21096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72 Flecha derecha"/>
            <p:cNvSpPr/>
            <p:nvPr/>
          </p:nvSpPr>
          <p:spPr>
            <a:xfrm rot="1751400">
              <a:off x="1425240" y="6066000"/>
              <a:ext cx="576000" cy="22536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75 CuadroTexto"/>
            <p:cNvSpPr/>
            <p:nvPr/>
          </p:nvSpPr>
          <p:spPr>
            <a:xfrm>
              <a:off x="333360" y="4067640"/>
              <a:ext cx="25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81 Grupo"/>
          <p:cNvGrpSpPr/>
          <p:nvPr/>
        </p:nvGrpSpPr>
        <p:grpSpPr>
          <a:xfrm>
            <a:off x="3357720" y="3995640"/>
            <a:ext cx="3024000" cy="2737080"/>
            <a:chOff x="3357720" y="3995640"/>
            <a:chExt cx="3024000" cy="2737080"/>
          </a:xfrm>
        </p:grpSpPr>
        <p:sp>
          <p:nvSpPr>
            <p:cNvPr id="418" name="63 Rectángulo"/>
            <p:cNvSpPr/>
            <p:nvPr/>
          </p:nvSpPr>
          <p:spPr>
            <a:xfrm>
              <a:off x="3368520" y="3995640"/>
              <a:ext cx="2942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65 Rectángulo redondeado"/>
            <p:cNvGrpSpPr/>
            <p:nvPr/>
          </p:nvGrpSpPr>
          <p:grpSpPr>
            <a:xfrm>
              <a:off x="3357720" y="4699800"/>
              <a:ext cx="1384920" cy="749880"/>
              <a:chOff x="3357720" y="4699800"/>
              <a:chExt cx="1384920" cy="749880"/>
            </a:xfrm>
          </p:grpSpPr>
          <p:pic>
            <p:nvPicPr>
              <p:cNvPr id="420" name="6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699800"/>
                <a:ext cx="13849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68240" y="481572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66 Rectángulo redondeado"/>
            <p:cNvGrpSpPr/>
            <p:nvPr/>
          </p:nvGrpSpPr>
          <p:grpSpPr>
            <a:xfrm>
              <a:off x="3357720" y="5852160"/>
              <a:ext cx="1317960" cy="749880"/>
              <a:chOff x="3357720" y="5852160"/>
              <a:chExt cx="1317960" cy="749880"/>
            </a:xfrm>
          </p:grpSpPr>
          <p:pic>
            <p:nvPicPr>
              <p:cNvPr id="423" name="6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2160"/>
                <a:ext cx="1317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68240" y="5968440"/>
                <a:ext cx="109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67 Rectángulo redondeado"/>
            <p:cNvGrpSpPr/>
            <p:nvPr/>
          </p:nvGrpSpPr>
          <p:grpSpPr>
            <a:xfrm>
              <a:off x="4863960" y="5352480"/>
              <a:ext cx="1384920" cy="743760"/>
              <a:chOff x="4863960" y="5352480"/>
              <a:chExt cx="1384920" cy="743760"/>
            </a:xfrm>
          </p:grpSpPr>
          <p:pic>
            <p:nvPicPr>
              <p:cNvPr id="426" name="67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2480"/>
                <a:ext cx="13849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974840" y="546444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73 Flecha derecha"/>
            <p:cNvSpPr/>
            <p:nvPr/>
          </p:nvSpPr>
          <p:spPr>
            <a:xfrm rot="2013000">
              <a:off x="4670280" y="507312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74 Flecha derecha"/>
            <p:cNvSpPr/>
            <p:nvPr/>
          </p:nvSpPr>
          <p:spPr>
            <a:xfrm rot="19758600">
              <a:off x="4673160" y="614520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76 CuadroTexto"/>
            <p:cNvSpPr/>
            <p:nvPr/>
          </p:nvSpPr>
          <p:spPr>
            <a:xfrm>
              <a:off x="3511800" y="4067640"/>
              <a:ext cx="28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29 Botón de acción: Volver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30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1 Botón de acción: Volver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656-DA64-49C2-BAE8-F5CB6BEFF2F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37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5 CuadroTexto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52 Grupo"/>
          <p:cNvGrpSpPr/>
          <p:nvPr/>
        </p:nvGrpSpPr>
        <p:grpSpPr>
          <a:xfrm>
            <a:off x="1052640" y="2843280"/>
            <a:ext cx="4464000" cy="3384360"/>
            <a:chOff x="1052640" y="2843280"/>
            <a:chExt cx="4464000" cy="3384360"/>
          </a:xfrm>
        </p:grpSpPr>
        <p:grpSp>
          <p:nvGrpSpPr>
            <p:cNvPr id="443" name="29 Rectángulo redondeado"/>
            <p:cNvGrpSpPr/>
            <p:nvPr/>
          </p:nvGrpSpPr>
          <p:grpSpPr>
            <a:xfrm>
              <a:off x="1052640" y="2843280"/>
              <a:ext cx="1967760" cy="1257480"/>
              <a:chOff x="1052640" y="2843280"/>
              <a:chExt cx="1967760" cy="1257480"/>
            </a:xfrm>
          </p:grpSpPr>
          <p:pic>
            <p:nvPicPr>
              <p:cNvPr id="444" name="29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186920" y="29800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30 Rectángulo redondeado"/>
            <p:cNvGrpSpPr/>
            <p:nvPr/>
          </p:nvGrpSpPr>
          <p:grpSpPr>
            <a:xfrm>
              <a:off x="3548880" y="4970160"/>
              <a:ext cx="1967760" cy="1257480"/>
              <a:chOff x="3548880" y="4970160"/>
              <a:chExt cx="1967760" cy="1257480"/>
            </a:xfrm>
          </p:grpSpPr>
          <p:pic>
            <p:nvPicPr>
              <p:cNvPr id="447" name="30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16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3684240" y="51022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31 Rectángulo redondeado"/>
            <p:cNvGrpSpPr/>
            <p:nvPr/>
          </p:nvGrpSpPr>
          <p:grpSpPr>
            <a:xfrm>
              <a:off x="3548880" y="3532680"/>
              <a:ext cx="1967760" cy="1257480"/>
              <a:chOff x="3548880" y="3532680"/>
              <a:chExt cx="1967760" cy="1257480"/>
            </a:xfrm>
          </p:grpSpPr>
          <p:pic>
            <p:nvPicPr>
              <p:cNvPr id="450" name="3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6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684240" y="366444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34 Conector recto"/>
            <p:cNvSpPr/>
            <p:nvPr/>
          </p:nvSpPr>
          <p:spPr>
            <a:xfrm>
              <a:off x="1132560" y="333720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36 Conector recto"/>
            <p:cNvSpPr/>
            <p:nvPr/>
          </p:nvSpPr>
          <p:spPr>
            <a:xfrm>
              <a:off x="3630600" y="402228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38 Conector recto"/>
            <p:cNvSpPr/>
            <p:nvPr/>
          </p:nvSpPr>
          <p:spPr>
            <a:xfrm>
              <a:off x="3630600" y="545904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42 Conector recto"/>
            <p:cNvSpPr/>
            <p:nvPr/>
          </p:nvSpPr>
          <p:spPr>
            <a:xfrm>
              <a:off x="2589120" y="4022280"/>
              <a:ext cx="1041480" cy="54756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45 Conector recto"/>
            <p:cNvSpPr/>
            <p:nvPr/>
          </p:nvSpPr>
          <p:spPr>
            <a:xfrm>
              <a:off x="2520000" y="4090320"/>
              <a:ext cx="0" cy="16434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47 Conector recto"/>
            <p:cNvSpPr/>
            <p:nvPr/>
          </p:nvSpPr>
          <p:spPr>
            <a:xfrm>
              <a:off x="2520000" y="5734080"/>
              <a:ext cx="111024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17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0B7-1047-453A-B85D-6779089F83D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61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5 CuadroTexto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92 Grupo"/>
          <p:cNvGrpSpPr/>
          <p:nvPr/>
        </p:nvGrpSpPr>
        <p:grpSpPr>
          <a:xfrm>
            <a:off x="692280" y="3059280"/>
            <a:ext cx="5473440" cy="2520720"/>
            <a:chOff x="692280" y="3059280"/>
            <a:chExt cx="5473440" cy="2520720"/>
          </a:xfrm>
        </p:grpSpPr>
        <p:grpSp>
          <p:nvGrpSpPr>
            <p:cNvPr id="467" name="53 Rectángulo redondeado"/>
            <p:cNvGrpSpPr/>
            <p:nvPr/>
          </p:nvGrpSpPr>
          <p:grpSpPr>
            <a:xfrm>
              <a:off x="692280" y="4745520"/>
              <a:ext cx="1698120" cy="834480"/>
              <a:chOff x="692280" y="4745520"/>
              <a:chExt cx="1698120" cy="834480"/>
            </a:xfrm>
          </p:grpSpPr>
          <p:pic>
            <p:nvPicPr>
              <p:cNvPr id="468" name="53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0640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55 Conector recto"/>
            <p:cNvSpPr/>
            <p:nvPr/>
          </p:nvSpPr>
          <p:spPr>
            <a:xfrm>
              <a:off x="84168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57 Rectángulo redondeado"/>
            <p:cNvGrpSpPr/>
            <p:nvPr/>
          </p:nvGrpSpPr>
          <p:grpSpPr>
            <a:xfrm>
              <a:off x="4467600" y="4745520"/>
              <a:ext cx="1698120" cy="834480"/>
              <a:chOff x="4467600" y="4745520"/>
              <a:chExt cx="1698120" cy="834480"/>
            </a:xfrm>
          </p:grpSpPr>
          <p:pic>
            <p:nvPicPr>
              <p:cNvPr id="472" name="5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60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458172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58 Rectángulo redondeado"/>
            <p:cNvGrpSpPr/>
            <p:nvPr/>
          </p:nvGrpSpPr>
          <p:grpSpPr>
            <a:xfrm>
              <a:off x="2579760" y="4745520"/>
              <a:ext cx="1698120" cy="834480"/>
              <a:chOff x="2579760" y="4745520"/>
              <a:chExt cx="1698120" cy="834480"/>
            </a:xfrm>
          </p:grpSpPr>
          <p:pic>
            <p:nvPicPr>
              <p:cNvPr id="475" name="5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269388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78 Conector recto"/>
            <p:cNvSpPr/>
            <p:nvPr/>
          </p:nvSpPr>
          <p:spPr>
            <a:xfrm>
              <a:off x="272952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79 Conector recto"/>
            <p:cNvSpPr/>
            <p:nvPr/>
          </p:nvSpPr>
          <p:spPr>
            <a:xfrm>
              <a:off x="461700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83 Rectángulo redondeado"/>
            <p:cNvGrpSpPr/>
            <p:nvPr/>
          </p:nvGrpSpPr>
          <p:grpSpPr>
            <a:xfrm>
              <a:off x="4467600" y="4002480"/>
              <a:ext cx="1674360" cy="497160"/>
              <a:chOff x="4467600" y="4002480"/>
              <a:chExt cx="1674360" cy="497160"/>
            </a:xfrm>
          </p:grpSpPr>
          <p:pic>
            <p:nvPicPr>
              <p:cNvPr id="480" name="83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600" y="40024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4440" y="410040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84 Rectángulo redondeado"/>
            <p:cNvGrpSpPr/>
            <p:nvPr/>
          </p:nvGrpSpPr>
          <p:grpSpPr>
            <a:xfrm>
              <a:off x="4467600" y="3059280"/>
              <a:ext cx="1674360" cy="497160"/>
              <a:chOff x="4467600" y="3059280"/>
              <a:chExt cx="1674360" cy="497160"/>
            </a:xfrm>
          </p:grpSpPr>
          <p:pic>
            <p:nvPicPr>
              <p:cNvPr id="483" name="84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600" y="30592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4564440" y="315468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85 Rectángulo redondeado"/>
            <p:cNvGrpSpPr/>
            <p:nvPr/>
          </p:nvGrpSpPr>
          <p:grpSpPr>
            <a:xfrm>
              <a:off x="4467600" y="3533760"/>
              <a:ext cx="1674360" cy="497160"/>
              <a:chOff x="4467600" y="3533760"/>
              <a:chExt cx="1674360" cy="497160"/>
            </a:xfrm>
          </p:grpSpPr>
          <p:pic>
            <p:nvPicPr>
              <p:cNvPr id="486" name="8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600" y="353376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4564440" y="362736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87 Flecha derecha"/>
            <p:cNvSpPr/>
            <p:nvPr/>
          </p:nvSpPr>
          <p:spPr>
            <a:xfrm>
              <a:off x="2310120" y="5028840"/>
              <a:ext cx="342000" cy="263160"/>
            </a:xfrm>
            <a:prstGeom prst="rightArrow">
              <a:avLst>
                <a:gd name="adj1" fmla="val 50000"/>
                <a:gd name="adj2" fmla="val 5180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88 Flecha derecha"/>
            <p:cNvSpPr/>
            <p:nvPr/>
          </p:nvSpPr>
          <p:spPr>
            <a:xfrm>
              <a:off x="4197960" y="5097240"/>
              <a:ext cx="342000" cy="261720"/>
            </a:xfrm>
            <a:prstGeom prst="rightArrow">
              <a:avLst>
                <a:gd name="adj1" fmla="val 50000"/>
                <a:gd name="adj2" fmla="val 5179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89 Flecha abajo"/>
            <p:cNvSpPr/>
            <p:nvPr/>
          </p:nvSpPr>
          <p:spPr>
            <a:xfrm>
              <a:off x="5316840" y="327348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90 Flecha abajo"/>
            <p:cNvSpPr/>
            <p:nvPr/>
          </p:nvSpPr>
          <p:spPr>
            <a:xfrm>
              <a:off x="5316840" y="381384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21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22 Botón de acción: Volver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005-9BBD-436A-BF07-01A8614644A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496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4 CuadroTexto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6EE-CD31-4BF4-A86B-2B75A115F1F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4 CuadroTexto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20A-AF21-455C-B2A8-32F7129EBB5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4 CuadroTexto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 Marcador de pie de página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6A8D-2C25-40FB-8914-B5724D30442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3 CuadroTexto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802A-B699-4723-AD81-AF3A8FE69C0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3 CuadroTexto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4 Diagrama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69" name="5 Rectángulo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5F5-B2E2-46FD-985C-7C859216D11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4 CuadroTexto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7DB-54E0-43BC-BC89-6223A49DF48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4 CuadroTexto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B19-11A3-428C-9D66-BB2F0E32C43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85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4 CuadroTexto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860-A5BA-428C-8DFC-26E4281B342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90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4 CuadroTexto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2E36-CFEC-4217-AC4C-AF2946154344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3 CuadroTexto"/>
          <p:cNvSpPr/>
          <p:nvPr/>
        </p:nvSpPr>
        <p:spPr>
          <a:xfrm>
            <a:off x="692280" y="611280"/>
            <a:ext cx="583236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c8c3"/>
                </a:solidFill>
                <a:uFillTx/>
                <a:latin typeface="Berlin Sans FB Demi"/>
                <a:hlinkClick r:id="rId1" action="ppaction://hlinksldjump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607-C722-4522-A2BA-446AC5FA2CA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3 CuadroTexto"/>
          <p:cNvGrpSpPr/>
          <p:nvPr/>
        </p:nvGrpSpPr>
        <p:grpSpPr>
          <a:xfrm>
            <a:off x="1109520" y="311040"/>
            <a:ext cx="4419720" cy="878040"/>
            <a:chOff x="1109520" y="311040"/>
            <a:chExt cx="4419720" cy="878040"/>
          </a:xfrm>
        </p:grpSpPr>
        <p:pic>
          <p:nvPicPr>
            <p:cNvPr id="299" name="3 CuadroTexto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97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97000" y="395280"/>
              <a:ext cx="42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5 CuadroTexto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40 Grupo"/>
          <p:cNvGrpSpPr/>
          <p:nvPr/>
        </p:nvGrpSpPr>
        <p:grpSpPr>
          <a:xfrm>
            <a:off x="836640" y="3708360"/>
            <a:ext cx="5113440" cy="2951280"/>
            <a:chOff x="836640" y="3708360"/>
            <a:chExt cx="5113440" cy="2951280"/>
          </a:xfrm>
        </p:grpSpPr>
        <p:grpSp>
          <p:nvGrpSpPr>
            <p:cNvPr id="303" name="6 Rectángulo redondeado"/>
            <p:cNvGrpSpPr/>
            <p:nvPr/>
          </p:nvGrpSpPr>
          <p:grpSpPr>
            <a:xfrm>
              <a:off x="836640" y="3708360"/>
              <a:ext cx="1568880" cy="841320"/>
              <a:chOff x="836640" y="3708360"/>
              <a:chExt cx="1568880" cy="841320"/>
            </a:xfrm>
          </p:grpSpPr>
          <p:pic>
            <p:nvPicPr>
              <p:cNvPr id="304" name="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9543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7 Rectángulo redondeado"/>
            <p:cNvGrpSpPr/>
            <p:nvPr/>
          </p:nvGrpSpPr>
          <p:grpSpPr>
            <a:xfrm>
              <a:off x="4381200" y="3708360"/>
              <a:ext cx="1568880" cy="841320"/>
              <a:chOff x="4381200" y="3708360"/>
              <a:chExt cx="1568880" cy="841320"/>
            </a:xfrm>
          </p:grpSpPr>
          <p:pic>
            <p:nvPicPr>
              <p:cNvPr id="307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20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4985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8 Rectángulo redondeado"/>
            <p:cNvGrpSpPr/>
            <p:nvPr/>
          </p:nvGrpSpPr>
          <p:grpSpPr>
            <a:xfrm>
              <a:off x="1426320" y="4797720"/>
              <a:ext cx="1568880" cy="841320"/>
              <a:chOff x="1426320" y="4797720"/>
              <a:chExt cx="1568880" cy="841320"/>
            </a:xfrm>
          </p:grpSpPr>
          <p:pic>
            <p:nvPicPr>
              <p:cNvPr id="310" name="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54512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9 Rectángulo redondeado"/>
            <p:cNvGrpSpPr/>
            <p:nvPr/>
          </p:nvGrpSpPr>
          <p:grpSpPr>
            <a:xfrm>
              <a:off x="1426320" y="5818320"/>
              <a:ext cx="1568880" cy="841320"/>
              <a:chOff x="1426320" y="5818320"/>
              <a:chExt cx="1568880" cy="841320"/>
            </a:xfrm>
          </p:grpSpPr>
          <p:pic>
            <p:nvPicPr>
              <p:cNvPr id="313" name="9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632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54512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10 Rectángulo redondeado"/>
            <p:cNvGrpSpPr/>
            <p:nvPr/>
          </p:nvGrpSpPr>
          <p:grpSpPr>
            <a:xfrm>
              <a:off x="3420000" y="4797720"/>
              <a:ext cx="1568880" cy="841320"/>
              <a:chOff x="3420000" y="4797720"/>
              <a:chExt cx="1568880" cy="841320"/>
            </a:xfrm>
          </p:grpSpPr>
          <p:pic>
            <p:nvPicPr>
              <p:cNvPr id="316" name="10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000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53880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11 Rectángulo redondeado"/>
            <p:cNvGrpSpPr/>
            <p:nvPr/>
          </p:nvGrpSpPr>
          <p:grpSpPr>
            <a:xfrm>
              <a:off x="3420000" y="5818320"/>
              <a:ext cx="1568880" cy="841320"/>
              <a:chOff x="3420000" y="5818320"/>
              <a:chExt cx="1568880" cy="841320"/>
            </a:xfrm>
          </p:grpSpPr>
          <p:pic>
            <p:nvPicPr>
              <p:cNvPr id="319" name="11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000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53880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1" name="13 Conector recto" descr=""/>
            <p:cNvPicPr/>
            <p:nvPr/>
          </p:nvPicPr>
          <p:blipFill>
            <a:blip r:embed="rId8"/>
            <a:stretch/>
          </p:blipFill>
          <p:spPr>
            <a:xfrm>
              <a:off x="114300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14 Conector recto" descr=""/>
            <p:cNvPicPr/>
            <p:nvPr/>
          </p:nvPicPr>
          <p:blipFill>
            <a:blip r:embed="rId9"/>
            <a:stretch/>
          </p:blipFill>
          <p:spPr>
            <a:xfrm>
              <a:off x="520704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15 Conector recto" descr=""/>
            <p:cNvPicPr/>
            <p:nvPr/>
          </p:nvPicPr>
          <p:blipFill>
            <a:blip r:embed="rId10"/>
            <a:stretch/>
          </p:blipFill>
          <p:spPr>
            <a:xfrm>
              <a:off x="4741200" y="4451760"/>
              <a:ext cx="55440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19 Conector recto" descr=""/>
            <p:cNvPicPr/>
            <p:nvPr/>
          </p:nvPicPr>
          <p:blipFill>
            <a:blip r:embed="rId11"/>
            <a:stretch/>
          </p:blipFill>
          <p:spPr>
            <a:xfrm>
              <a:off x="1196280" y="4451760"/>
              <a:ext cx="4777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23 Conector recto" descr=""/>
            <p:cNvPicPr/>
            <p:nvPr/>
          </p:nvPicPr>
          <p:blipFill>
            <a:blip r:embed="rId12"/>
            <a:stretch/>
          </p:blipFill>
          <p:spPr>
            <a:xfrm>
              <a:off x="497700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26 Conector recto" descr=""/>
            <p:cNvPicPr/>
            <p:nvPr/>
          </p:nvPicPr>
          <p:blipFill>
            <a:blip r:embed="rId13"/>
            <a:stretch/>
          </p:blipFill>
          <p:spPr>
            <a:xfrm>
              <a:off x="120816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28 Conector recto"/>
            <p:cNvSpPr/>
            <p:nvPr/>
          </p:nvSpPr>
          <p:spPr>
            <a:xfrm>
              <a:off x="1511640" y="50835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30 Conector recto"/>
            <p:cNvSpPr/>
            <p:nvPr/>
          </p:nvSpPr>
          <p:spPr>
            <a:xfrm>
              <a:off x="3431880" y="5083560"/>
              <a:ext cx="14760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38 Conector recto"/>
            <p:cNvSpPr/>
            <p:nvPr/>
          </p:nvSpPr>
          <p:spPr>
            <a:xfrm>
              <a:off x="151164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39 Conector recto"/>
            <p:cNvSpPr/>
            <p:nvPr/>
          </p:nvSpPr>
          <p:spPr>
            <a:xfrm>
              <a:off x="350568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24 Botón de acción: Volver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2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1-10-02T18:26:07Z</dcterms:modified>
  <cp:revision>32</cp:revision>
  <dc:subject/>
  <dc:title>Leer Para comprender y aprender</dc:title>
</cp:coreProperties>
</file>