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319F-C9A6-4EF6-A96A-91F8E7F259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4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F09-B6C4-4DCE-B8B6-B4C6CD2D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0F8-C28E-4566-92F2-0A4546BB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786-0D18-4E3E-A97E-A1B9B5B4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194-D0C7-415B-91F1-3D41C61E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8211-9909-4B61-BDFA-BC81E651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8FDC-84EB-42B9-85AB-76A352B5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7370-D8C1-427F-85FF-7BA768F7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2A7A-1214-4E94-B0A7-3171B2E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3609-4AA5-444E-959A-E35BEA48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D25C-A4B4-4AEA-975E-AD3DEE32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4072-4754-40E6-B925-140AE93C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8A7-B2C4-4256-AA83-644423EF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1F14-1ABC-409A-AC46-0C20AA5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0F43-234C-4F18-BFB5-5E6252A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B6D7-FD05-4F07-A8F5-6EC38C7E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854F-C19D-4CC9-BB28-E3D86AD6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4F86-0971-4E0B-8DFB-38A26581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1381-4BE4-40E2-B4E7-0D4A04CE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EC8C-293A-46C0-819F-6B84D6EB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C79D-1D80-4235-93FD-BDF12BD6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7DE2-4BBD-4936-AC8A-D31929D4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1639-073A-44D1-96CE-6D34D76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816-100C-4F9F-8DBC-D58A25B4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4D4B-02A4-4064-8497-840B7DC6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46A1-2F5F-4C6B-A771-5F669D86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1682-765E-45A3-88BC-9A1DC79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5914-9C5C-457D-BDE1-7C2EF4D7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339A-E5D6-4F38-A689-567C8927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5867-E7AD-423E-B6EB-B4403B6B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F412-1997-4220-B118-BCAF153E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7619-0A41-4ED3-A8BD-6380D90D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8DDB2-1E1F-4283-8322-3285C9F0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E9EF-6C2F-4F6F-BA76-4EC21CB9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0AF-0A1E-4DBD-96F8-A59FAF2F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3176-6BEE-4588-8336-3D648D9F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39CD-1836-49CE-9D08-EECD6A14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098B5-D9C4-4923-868B-4047484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2EF1-66C3-4EA8-B80A-2EE8E0A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6B13-B66E-4667-94B9-F2436C05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E3D04-DD34-4AAE-B6E9-E04A0091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5FD98-FA2F-47A0-BED0-5422712B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FA606-DB33-4EBF-92B8-94C5AB20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91D8-7B90-424C-A50A-B8398369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50B7F-109F-45C4-9D28-130B5D1C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5B7-AC9B-4993-8CB1-023B24CC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9A4B-DDE0-4A07-973B-48D653BA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FE498-F9EF-4982-839D-F2C9AC2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9BC4F-A8AF-4A85-9062-C291BE8D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60803-174B-4301-BA18-4BB0A39C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18933-0CE7-4F16-A18C-56D293E2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898A-C803-48E7-B052-A4C2ACF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DA00-7328-436F-B404-A07F643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0728C-5E48-4823-96F4-E8BFBEC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F71BF-82C5-4107-9932-CCEC754C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F809-552D-4BFF-931F-4A2B9C15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967-C3C4-4EA4-BAFB-E32EC936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9D654-5283-4269-9AB1-D929F58A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CC1B-44C6-4935-9A1F-7D63F9E7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3CFEA-0767-4B11-A8C3-0426976A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0E1B9-B0BC-4B33-85D0-8654F7E1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2490-3658-4233-95C7-CEC2DE6C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655BC-2108-4902-802E-0FAFD302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6D8BC-F7B9-4B0B-91EB-5AE94C5B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D3A2-1FFD-481F-B2D1-1098A000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A3A6B-6213-4DA0-AA3A-2CB1F66D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59B9C-5BBE-4C9B-9925-CA0AD21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A58-FFB5-4B1B-82F3-6303144D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5A2AE-7BC6-48AB-950B-9BCCF2C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651C3-BD2A-41DB-914B-DDCB39DF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2CA04-B0E6-4338-AC55-613C1EE2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17F-E607-4F07-BB19-C3FAA57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17D-8394-40D4-8D3F-59183067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63CD-AB25-48FC-9969-9780A42894D1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1403-BBF8-46AB-8BB1-6CBE700827F8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8D21-912A-4780-B8ED-15D1C7D5AE4A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0C38-7CDA-442A-B65D-BE512075AC9D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D24C-69D4-4AF3-9163-861027A3443A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00A6-6F01-490F-8A33-A4C004907E0C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779D-8475-4C5A-B2A9-A04A8316F6C9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E582-1EFF-4E3E-8A48-84F564C9AD53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A6C1-058F-4AB6-92AE-45893FFCD022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116400" y="8562960"/>
            <a:ext cx="5713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BD37-2CB0-429A-BD9F-056D9725F744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18D5-CD53-4B41-8492-5B55ECFDC888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9BB2-5F05-4BDE-902B-F1FF211426E4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Título" descr=""/>
          <p:cNvPicPr/>
          <p:nvPr/>
        </p:nvPicPr>
        <p:blipFill>
          <a:blip r:embed="rId1"/>
          <a:stretch/>
        </p:blipFill>
        <p:spPr>
          <a:xfrm>
            <a:off x="317520" y="4316400"/>
            <a:ext cx="5351400" cy="3206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82 Grupo"/>
          <p:cNvGrpSpPr/>
          <p:nvPr/>
        </p:nvGrpSpPr>
        <p:grpSpPr>
          <a:xfrm>
            <a:off x="1413000" y="2340000"/>
            <a:ext cx="3960720" cy="1511280"/>
            <a:chOff x="1413000" y="2340000"/>
            <a:chExt cx="3960720" cy="1511280"/>
          </a:xfrm>
        </p:grpSpPr>
        <p:sp>
          <p:nvSpPr>
            <p:cNvPr id="336" name="55 Rectángulo"/>
            <p:cNvSpPr/>
            <p:nvPr/>
          </p:nvSpPr>
          <p:spPr>
            <a:xfrm>
              <a:off x="1413000" y="2340000"/>
              <a:ext cx="3960720" cy="151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49 Grupo"/>
            <p:cNvGrpSpPr/>
            <p:nvPr/>
          </p:nvGrpSpPr>
          <p:grpSpPr>
            <a:xfrm>
              <a:off x="1773000" y="2843640"/>
              <a:ext cx="3312720" cy="791640"/>
              <a:chOff x="1773000" y="2843640"/>
              <a:chExt cx="3312720" cy="791640"/>
            </a:xfrm>
          </p:grpSpPr>
          <p:grpSp>
            <p:nvGrpSpPr>
              <p:cNvPr id="338" name="24 Rectángulo redondeado"/>
              <p:cNvGrpSpPr/>
              <p:nvPr/>
            </p:nvGrpSpPr>
            <p:grpSpPr>
              <a:xfrm>
                <a:off x="1773000" y="2843640"/>
                <a:ext cx="1392480" cy="791640"/>
                <a:chOff x="1773000" y="2843640"/>
                <a:chExt cx="1392480" cy="791640"/>
              </a:xfrm>
            </p:grpSpPr>
            <p:pic>
              <p:nvPicPr>
                <p:cNvPr id="339" name="24 Rectángulo redondeado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000" y="2843640"/>
                  <a:ext cx="1392480" cy="79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>
                  <a:off x="1890000" y="2948040"/>
                  <a:ext cx="116028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40 Conector recto"/>
              <p:cNvSpPr/>
              <p:nvPr/>
            </p:nvSpPr>
            <p:spPr>
              <a:xfrm>
                <a:off x="1853280" y="333072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44 Conector recto"/>
              <p:cNvSpPr/>
              <p:nvPr/>
            </p:nvSpPr>
            <p:spPr>
              <a:xfrm>
                <a:off x="3566880" y="338940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45 Rectángulo redondeado"/>
              <p:cNvGrpSpPr/>
              <p:nvPr/>
            </p:nvGrpSpPr>
            <p:grpSpPr>
              <a:xfrm>
                <a:off x="3693240" y="2843640"/>
                <a:ext cx="1392480" cy="791640"/>
                <a:chOff x="3693240" y="2843640"/>
                <a:chExt cx="1392480" cy="791640"/>
              </a:xfrm>
            </p:grpSpPr>
            <p:pic>
              <p:nvPicPr>
                <p:cNvPr id="344" name="45 Rectángulo redondead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3240" y="2843640"/>
                  <a:ext cx="1392480" cy="79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3808800" y="2948040"/>
                  <a:ext cx="116028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46 Conector recto"/>
              <p:cNvSpPr/>
              <p:nvPr/>
            </p:nvSpPr>
            <p:spPr>
              <a:xfrm>
                <a:off x="3772440" y="333072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48 Flecha izquierda"/>
              <p:cNvSpPr/>
              <p:nvPr/>
            </p:nvSpPr>
            <p:spPr>
              <a:xfrm>
                <a:off x="3155760" y="2974320"/>
                <a:ext cx="480240" cy="399240"/>
              </a:xfrm>
              <a:prstGeom prst="leftArrow">
                <a:avLst>
                  <a:gd name="adj1" fmla="val 50000"/>
                  <a:gd name="adj2" fmla="val 57911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167F-D2A7-4525-A64B-B1449CA30DE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350" name="3 CuadroTexto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5 CuadroTexto"/>
          <p:cNvSpPr/>
          <p:nvPr/>
        </p:nvSpPr>
        <p:spPr>
          <a:xfrm>
            <a:off x="620640" y="90000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41 Rectángulo redondeado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43 CuadroTexto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34 CuadroTexto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81 Grupo"/>
          <p:cNvGrpSpPr/>
          <p:nvPr/>
        </p:nvGrpSpPr>
        <p:grpSpPr>
          <a:xfrm>
            <a:off x="476280" y="3924360"/>
            <a:ext cx="2881440" cy="2951280"/>
            <a:chOff x="476280" y="3924360"/>
            <a:chExt cx="2881440" cy="2951280"/>
          </a:xfrm>
        </p:grpSpPr>
        <p:sp>
          <p:nvSpPr>
            <p:cNvPr id="357" name="56 Rectángulo"/>
            <p:cNvSpPr/>
            <p:nvPr/>
          </p:nvSpPr>
          <p:spPr>
            <a:xfrm>
              <a:off x="488880" y="3924360"/>
              <a:ext cx="2868840" cy="295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27 Rectángulo redondeado"/>
            <p:cNvGrpSpPr/>
            <p:nvPr/>
          </p:nvGrpSpPr>
          <p:grpSpPr>
            <a:xfrm>
              <a:off x="476280" y="5132880"/>
              <a:ext cx="1316880" cy="749880"/>
              <a:chOff x="476280" y="5132880"/>
              <a:chExt cx="1316880" cy="749880"/>
            </a:xfrm>
          </p:grpSpPr>
          <p:pic>
            <p:nvPicPr>
              <p:cNvPr id="359" name="27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880"/>
                <a:ext cx="131688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620640" y="5280120"/>
                <a:ext cx="10278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36 CuadroTexto"/>
            <p:cNvSpPr/>
            <p:nvPr/>
          </p:nvSpPr>
          <p:spPr>
            <a:xfrm>
              <a:off x="632520" y="3996000"/>
              <a:ext cx="215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51 Rectángulo redondeado"/>
            <p:cNvGrpSpPr/>
            <p:nvPr/>
          </p:nvGrpSpPr>
          <p:grpSpPr>
            <a:xfrm>
              <a:off x="2054160" y="4559760"/>
              <a:ext cx="1171440" cy="816840"/>
              <a:chOff x="2054160" y="4559760"/>
              <a:chExt cx="1171440" cy="816840"/>
            </a:xfrm>
          </p:grpSpPr>
          <p:pic>
            <p:nvPicPr>
              <p:cNvPr id="363" name="51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760"/>
                <a:ext cx="117144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2169720" y="4675680"/>
                <a:ext cx="94140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58 Rectángulo redondeado"/>
            <p:cNvGrpSpPr/>
            <p:nvPr/>
          </p:nvGrpSpPr>
          <p:grpSpPr>
            <a:xfrm>
              <a:off x="2054160" y="5712120"/>
              <a:ext cx="1171440" cy="816840"/>
              <a:chOff x="2054160" y="5712120"/>
              <a:chExt cx="1171440" cy="816840"/>
            </a:xfrm>
          </p:grpSpPr>
          <p:pic>
            <p:nvPicPr>
              <p:cNvPr id="366" name="58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2120"/>
                <a:ext cx="117144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2169720" y="5827320"/>
                <a:ext cx="94140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8" name="70 Flecha izquierda"/>
            <p:cNvSpPr/>
            <p:nvPr/>
          </p:nvSpPr>
          <p:spPr>
            <a:xfrm rot="19598400">
              <a:off x="1622160" y="4897080"/>
              <a:ext cx="500760" cy="358560"/>
            </a:xfrm>
            <a:prstGeom prst="leftArrow">
              <a:avLst>
                <a:gd name="adj1" fmla="val 50000"/>
                <a:gd name="adj2" fmla="val 498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79 Flecha izquierda"/>
            <p:cNvSpPr/>
            <p:nvPr/>
          </p:nvSpPr>
          <p:spPr>
            <a:xfrm rot="2404200">
              <a:off x="1622160" y="5761080"/>
              <a:ext cx="500760" cy="358560"/>
            </a:xfrm>
            <a:prstGeom prst="leftArrow">
              <a:avLst>
                <a:gd name="adj1" fmla="val 50000"/>
                <a:gd name="adj2" fmla="val 498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83 Grupo"/>
          <p:cNvGrpSpPr/>
          <p:nvPr/>
        </p:nvGrpSpPr>
        <p:grpSpPr>
          <a:xfrm>
            <a:off x="3500280" y="3924360"/>
            <a:ext cx="2881440" cy="2951280"/>
            <a:chOff x="3500280" y="3924360"/>
            <a:chExt cx="2881440" cy="2951280"/>
          </a:xfrm>
        </p:grpSpPr>
        <p:sp>
          <p:nvSpPr>
            <p:cNvPr id="371" name="57 Rectángulo"/>
            <p:cNvSpPr/>
            <p:nvPr/>
          </p:nvSpPr>
          <p:spPr>
            <a:xfrm>
              <a:off x="3507480" y="3924360"/>
              <a:ext cx="2867400" cy="295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35 CuadroTexto"/>
            <p:cNvSpPr/>
            <p:nvPr/>
          </p:nvSpPr>
          <p:spPr>
            <a:xfrm>
              <a:off x="3733920" y="3997800"/>
              <a:ext cx="226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" name="59 Rectángulo redondeado"/>
            <p:cNvGrpSpPr/>
            <p:nvPr/>
          </p:nvGrpSpPr>
          <p:grpSpPr>
            <a:xfrm>
              <a:off x="5156280" y="5169600"/>
              <a:ext cx="1225440" cy="835200"/>
              <a:chOff x="5156280" y="5169600"/>
              <a:chExt cx="1225440" cy="835200"/>
            </a:xfrm>
          </p:grpSpPr>
          <p:pic>
            <p:nvPicPr>
              <p:cNvPr id="374" name="59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9600"/>
                <a:ext cx="122544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5275080" y="5284800"/>
                <a:ext cx="9921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60 Rectángulo redondeado"/>
            <p:cNvGrpSpPr/>
            <p:nvPr/>
          </p:nvGrpSpPr>
          <p:grpSpPr>
            <a:xfrm>
              <a:off x="3573000" y="5834160"/>
              <a:ext cx="1377000" cy="829080"/>
              <a:chOff x="3573000" y="5834160"/>
              <a:chExt cx="1377000" cy="829080"/>
            </a:xfrm>
          </p:grpSpPr>
          <p:pic>
            <p:nvPicPr>
              <p:cNvPr id="377" name="60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000" y="5834160"/>
                <a:ext cx="13770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3727440" y="5985720"/>
                <a:ext cx="106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61 Rectángulo redondeado"/>
            <p:cNvGrpSpPr/>
            <p:nvPr/>
          </p:nvGrpSpPr>
          <p:grpSpPr>
            <a:xfrm>
              <a:off x="3500280" y="4651200"/>
              <a:ext cx="1377000" cy="835200"/>
              <a:chOff x="3500280" y="4651200"/>
              <a:chExt cx="1377000" cy="835200"/>
            </a:xfrm>
          </p:grpSpPr>
          <p:pic>
            <p:nvPicPr>
              <p:cNvPr id="380" name="61 Rectángulo redondeado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700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3651840" y="4804920"/>
                <a:ext cx="106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78 Flecha izquierda"/>
            <p:cNvSpPr/>
            <p:nvPr/>
          </p:nvSpPr>
          <p:spPr>
            <a:xfrm rot="1387200">
              <a:off x="4767840" y="4970520"/>
              <a:ext cx="527400" cy="368280"/>
            </a:xfrm>
            <a:prstGeom prst="leftArrow">
              <a:avLst>
                <a:gd name="adj1" fmla="val 50000"/>
                <a:gd name="adj2" fmla="val 5111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80 Flecha izquierda"/>
            <p:cNvSpPr/>
            <p:nvPr/>
          </p:nvSpPr>
          <p:spPr>
            <a:xfrm rot="19598400">
              <a:off x="4850280" y="5954400"/>
              <a:ext cx="527400" cy="368280"/>
            </a:xfrm>
            <a:prstGeom prst="leftArrow">
              <a:avLst>
                <a:gd name="adj1" fmla="val 50000"/>
                <a:gd name="adj2" fmla="val 5111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34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35 Botón de acción: Volver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3E20-C64C-466B-B6C2-CD58841FE433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3 CuadroTexto"/>
          <p:cNvGrpSpPr/>
          <p:nvPr/>
        </p:nvGrpSpPr>
        <p:grpSpPr>
          <a:xfrm>
            <a:off x="463680" y="237960"/>
            <a:ext cx="5351400" cy="816120"/>
            <a:chOff x="463680" y="237960"/>
            <a:chExt cx="5351400" cy="816120"/>
          </a:xfrm>
        </p:grpSpPr>
        <p:pic>
          <p:nvPicPr>
            <p:cNvPr id="388" name="3 CuadroTexto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5140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49360" y="324000"/>
              <a:ext cx="518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5 CuadroTexto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82 Grupo"/>
          <p:cNvGrpSpPr/>
          <p:nvPr/>
        </p:nvGrpSpPr>
        <p:grpSpPr>
          <a:xfrm>
            <a:off x="1197000" y="2268360"/>
            <a:ext cx="4464000" cy="1440000"/>
            <a:chOff x="1197000" y="2268360"/>
            <a:chExt cx="4464000" cy="1440000"/>
          </a:xfrm>
        </p:grpSpPr>
        <p:sp>
          <p:nvSpPr>
            <p:cNvPr id="394" name="56 Rectángulo"/>
            <p:cNvSpPr/>
            <p:nvPr/>
          </p:nvSpPr>
          <p:spPr>
            <a:xfrm>
              <a:off x="1197000" y="2268360"/>
              <a:ext cx="4464000" cy="144000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51 Rectángulo redondeado"/>
            <p:cNvGrpSpPr/>
            <p:nvPr/>
          </p:nvGrpSpPr>
          <p:grpSpPr>
            <a:xfrm>
              <a:off x="1469160" y="2761200"/>
              <a:ext cx="1542240" cy="743760"/>
              <a:chOff x="1469160" y="2761200"/>
              <a:chExt cx="1542240" cy="743760"/>
            </a:xfrm>
          </p:grpSpPr>
          <p:pic>
            <p:nvPicPr>
              <p:cNvPr id="396" name="51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9160" y="2761200"/>
                <a:ext cx="154224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585080" y="2872080"/>
                <a:ext cx="13118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33 CuadroTexto"/>
            <p:cNvSpPr/>
            <p:nvPr/>
          </p:nvSpPr>
          <p:spPr>
            <a:xfrm>
              <a:off x="1341000" y="2412360"/>
              <a:ext cx="41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37 Rectángulo redondeado"/>
            <p:cNvGrpSpPr/>
            <p:nvPr/>
          </p:nvGrpSpPr>
          <p:grpSpPr>
            <a:xfrm>
              <a:off x="3706560" y="2761200"/>
              <a:ext cx="1536120" cy="743760"/>
              <a:chOff x="3706560" y="2761200"/>
              <a:chExt cx="1536120" cy="743760"/>
            </a:xfrm>
          </p:grpSpPr>
          <p:pic>
            <p:nvPicPr>
              <p:cNvPr id="400" name="3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560" y="2761200"/>
                <a:ext cx="153612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3817080" y="2872080"/>
                <a:ext cx="13118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39 Flecha derecha"/>
            <p:cNvSpPr/>
            <p:nvPr/>
          </p:nvSpPr>
          <p:spPr>
            <a:xfrm>
              <a:off x="3068640" y="2916000"/>
              <a:ext cx="576000" cy="360360"/>
            </a:xfrm>
            <a:prstGeom prst="rightArrow">
              <a:avLst>
                <a:gd name="adj1" fmla="val 50000"/>
                <a:gd name="adj2" fmla="val 4998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77 Grupo"/>
          <p:cNvGrpSpPr/>
          <p:nvPr/>
        </p:nvGrpSpPr>
        <p:grpSpPr>
          <a:xfrm>
            <a:off x="333360" y="3995640"/>
            <a:ext cx="2951280" cy="2737080"/>
            <a:chOff x="333360" y="3995640"/>
            <a:chExt cx="2951280" cy="2737080"/>
          </a:xfrm>
        </p:grpSpPr>
        <p:sp>
          <p:nvSpPr>
            <p:cNvPr id="404" name="62 Rectángulo"/>
            <p:cNvSpPr/>
            <p:nvPr/>
          </p:nvSpPr>
          <p:spPr>
            <a:xfrm>
              <a:off x="333360" y="3995640"/>
              <a:ext cx="2951280" cy="27370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64 Rectángulo redondeado"/>
            <p:cNvGrpSpPr/>
            <p:nvPr/>
          </p:nvGrpSpPr>
          <p:grpSpPr>
            <a:xfrm>
              <a:off x="389880" y="5352480"/>
              <a:ext cx="1323000" cy="743760"/>
              <a:chOff x="389880" y="5352480"/>
              <a:chExt cx="1323000" cy="743760"/>
            </a:xfrm>
          </p:grpSpPr>
          <p:pic>
            <p:nvPicPr>
              <p:cNvPr id="406" name="64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89880" y="5352480"/>
                <a:ext cx="132300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505080" y="546444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68 Rectángulo redondeado"/>
            <p:cNvGrpSpPr/>
            <p:nvPr/>
          </p:nvGrpSpPr>
          <p:grpSpPr>
            <a:xfrm>
              <a:off x="1828800" y="4699800"/>
              <a:ext cx="1323000" cy="749880"/>
              <a:chOff x="1828800" y="4699800"/>
              <a:chExt cx="1323000" cy="749880"/>
            </a:xfrm>
          </p:grpSpPr>
          <p:pic>
            <p:nvPicPr>
              <p:cNvPr id="409" name="68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699800"/>
                <a:ext cx="13230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1945080" y="481572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69 Rectángulo redondeado"/>
            <p:cNvGrpSpPr/>
            <p:nvPr/>
          </p:nvGrpSpPr>
          <p:grpSpPr>
            <a:xfrm>
              <a:off x="1901880" y="5852160"/>
              <a:ext cx="1323000" cy="749880"/>
              <a:chOff x="1901880" y="5852160"/>
              <a:chExt cx="1323000" cy="749880"/>
            </a:xfrm>
          </p:grpSpPr>
          <p:pic>
            <p:nvPicPr>
              <p:cNvPr id="412" name="69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2160"/>
                <a:ext cx="13230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2016720" y="596844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71 Flecha derecha"/>
            <p:cNvSpPr/>
            <p:nvPr/>
          </p:nvSpPr>
          <p:spPr>
            <a:xfrm rot="19758600">
              <a:off x="1379160" y="5141520"/>
              <a:ext cx="574560" cy="21096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72 Flecha derecha"/>
            <p:cNvSpPr/>
            <p:nvPr/>
          </p:nvSpPr>
          <p:spPr>
            <a:xfrm rot="1751400">
              <a:off x="1425240" y="6066000"/>
              <a:ext cx="576000" cy="225360"/>
            </a:xfrm>
            <a:prstGeom prst="rightArrow">
              <a:avLst>
                <a:gd name="adj1" fmla="val 50000"/>
                <a:gd name="adj2" fmla="val 49959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75 CuadroTexto"/>
            <p:cNvSpPr/>
            <p:nvPr/>
          </p:nvSpPr>
          <p:spPr>
            <a:xfrm>
              <a:off x="333360" y="4067640"/>
              <a:ext cx="251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81 Grupo"/>
          <p:cNvGrpSpPr/>
          <p:nvPr/>
        </p:nvGrpSpPr>
        <p:grpSpPr>
          <a:xfrm>
            <a:off x="3357720" y="3995640"/>
            <a:ext cx="3024000" cy="2737080"/>
            <a:chOff x="3357720" y="3995640"/>
            <a:chExt cx="3024000" cy="2737080"/>
          </a:xfrm>
        </p:grpSpPr>
        <p:sp>
          <p:nvSpPr>
            <p:cNvPr id="418" name="63 Rectángulo"/>
            <p:cNvSpPr/>
            <p:nvPr/>
          </p:nvSpPr>
          <p:spPr>
            <a:xfrm>
              <a:off x="3368520" y="3995640"/>
              <a:ext cx="2942280" cy="27370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65 Rectángulo redondeado"/>
            <p:cNvGrpSpPr/>
            <p:nvPr/>
          </p:nvGrpSpPr>
          <p:grpSpPr>
            <a:xfrm>
              <a:off x="3357720" y="4699800"/>
              <a:ext cx="1384920" cy="749880"/>
              <a:chOff x="3357720" y="4699800"/>
              <a:chExt cx="1384920" cy="749880"/>
            </a:xfrm>
          </p:grpSpPr>
          <p:pic>
            <p:nvPicPr>
              <p:cNvPr id="420" name="65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699800"/>
                <a:ext cx="138492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68240" y="4815720"/>
                <a:ext cx="116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66 Rectángulo redondeado"/>
            <p:cNvGrpSpPr/>
            <p:nvPr/>
          </p:nvGrpSpPr>
          <p:grpSpPr>
            <a:xfrm>
              <a:off x="3357720" y="5852160"/>
              <a:ext cx="1317960" cy="749880"/>
              <a:chOff x="3357720" y="5852160"/>
              <a:chExt cx="1317960" cy="749880"/>
            </a:xfrm>
          </p:grpSpPr>
          <p:pic>
            <p:nvPicPr>
              <p:cNvPr id="423" name="66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2160"/>
                <a:ext cx="131796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3468240" y="5968440"/>
                <a:ext cx="1091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67 Rectángulo redondeado"/>
            <p:cNvGrpSpPr/>
            <p:nvPr/>
          </p:nvGrpSpPr>
          <p:grpSpPr>
            <a:xfrm>
              <a:off x="4863960" y="5352480"/>
              <a:ext cx="1384920" cy="743760"/>
              <a:chOff x="4863960" y="5352480"/>
              <a:chExt cx="1384920" cy="743760"/>
            </a:xfrm>
          </p:grpSpPr>
          <p:pic>
            <p:nvPicPr>
              <p:cNvPr id="426" name="67 Rectángulo redondeado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2480"/>
                <a:ext cx="138492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4974840" y="5464440"/>
                <a:ext cx="116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73 Flecha derecha"/>
            <p:cNvSpPr/>
            <p:nvPr/>
          </p:nvSpPr>
          <p:spPr>
            <a:xfrm rot="2013000">
              <a:off x="4670280" y="5073120"/>
              <a:ext cx="574200" cy="210960"/>
            </a:xfrm>
            <a:prstGeom prst="rightArrow">
              <a:avLst>
                <a:gd name="adj1" fmla="val 50000"/>
                <a:gd name="adj2" fmla="val 4985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74 Flecha derecha"/>
            <p:cNvSpPr/>
            <p:nvPr/>
          </p:nvSpPr>
          <p:spPr>
            <a:xfrm rot="19758600">
              <a:off x="4673160" y="6145200"/>
              <a:ext cx="574200" cy="210960"/>
            </a:xfrm>
            <a:prstGeom prst="rightArrow">
              <a:avLst>
                <a:gd name="adj1" fmla="val 50000"/>
                <a:gd name="adj2" fmla="val 4985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76 CuadroTexto"/>
            <p:cNvSpPr/>
            <p:nvPr/>
          </p:nvSpPr>
          <p:spPr>
            <a:xfrm>
              <a:off x="3511800" y="4067640"/>
              <a:ext cx="28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29 Botón de acción: Volver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30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31 Botón de acción: Volver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Marcador de pie de página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0335-8553-4970-8138-320665112EE1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437" name="3 CuadroTexto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5 CuadroTexto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52 Grupo"/>
          <p:cNvGrpSpPr/>
          <p:nvPr/>
        </p:nvGrpSpPr>
        <p:grpSpPr>
          <a:xfrm>
            <a:off x="1052640" y="2843280"/>
            <a:ext cx="4464000" cy="3384360"/>
            <a:chOff x="1052640" y="2843280"/>
            <a:chExt cx="4464000" cy="3384360"/>
          </a:xfrm>
        </p:grpSpPr>
        <p:grpSp>
          <p:nvGrpSpPr>
            <p:cNvPr id="443" name="29 Rectángulo redondeado"/>
            <p:cNvGrpSpPr/>
            <p:nvPr/>
          </p:nvGrpSpPr>
          <p:grpSpPr>
            <a:xfrm>
              <a:off x="1052640" y="2843280"/>
              <a:ext cx="1967760" cy="1257480"/>
              <a:chOff x="1052640" y="2843280"/>
              <a:chExt cx="1967760" cy="1257480"/>
            </a:xfrm>
          </p:grpSpPr>
          <p:pic>
            <p:nvPicPr>
              <p:cNvPr id="444" name="29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1186920" y="298008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30 Rectángulo redondeado"/>
            <p:cNvGrpSpPr/>
            <p:nvPr/>
          </p:nvGrpSpPr>
          <p:grpSpPr>
            <a:xfrm>
              <a:off x="3548880" y="4970160"/>
              <a:ext cx="1967760" cy="1257480"/>
              <a:chOff x="3548880" y="4970160"/>
              <a:chExt cx="1967760" cy="1257480"/>
            </a:xfrm>
          </p:grpSpPr>
          <p:pic>
            <p:nvPicPr>
              <p:cNvPr id="447" name="30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16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3684240" y="510228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31 Rectángulo redondeado"/>
            <p:cNvGrpSpPr/>
            <p:nvPr/>
          </p:nvGrpSpPr>
          <p:grpSpPr>
            <a:xfrm>
              <a:off x="3548880" y="3532680"/>
              <a:ext cx="1967760" cy="1257480"/>
              <a:chOff x="3548880" y="3532680"/>
              <a:chExt cx="1967760" cy="1257480"/>
            </a:xfrm>
          </p:grpSpPr>
          <p:pic>
            <p:nvPicPr>
              <p:cNvPr id="450" name="3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68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3684240" y="366444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2" name="34 Conector recto"/>
            <p:cNvSpPr/>
            <p:nvPr/>
          </p:nvSpPr>
          <p:spPr>
            <a:xfrm>
              <a:off x="1132560" y="333720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36 Conector recto"/>
            <p:cNvSpPr/>
            <p:nvPr/>
          </p:nvSpPr>
          <p:spPr>
            <a:xfrm>
              <a:off x="3630600" y="402228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38 Conector recto"/>
            <p:cNvSpPr/>
            <p:nvPr/>
          </p:nvSpPr>
          <p:spPr>
            <a:xfrm>
              <a:off x="3630600" y="545904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42 Conector recto"/>
            <p:cNvSpPr/>
            <p:nvPr/>
          </p:nvSpPr>
          <p:spPr>
            <a:xfrm>
              <a:off x="2589120" y="4022280"/>
              <a:ext cx="1041480" cy="54756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45 Conector recto"/>
            <p:cNvSpPr/>
            <p:nvPr/>
          </p:nvSpPr>
          <p:spPr>
            <a:xfrm>
              <a:off x="2520000" y="4090320"/>
              <a:ext cx="0" cy="16434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47 Conector recto"/>
            <p:cNvSpPr/>
            <p:nvPr/>
          </p:nvSpPr>
          <p:spPr>
            <a:xfrm>
              <a:off x="2520000" y="5734080"/>
              <a:ext cx="111024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17 Botón de acción: Volver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3A2-263A-4C8E-BFE6-31E794D01EB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461" name="3 CuadroTexto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5 CuadroTexto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92 Grupo"/>
          <p:cNvGrpSpPr/>
          <p:nvPr/>
        </p:nvGrpSpPr>
        <p:grpSpPr>
          <a:xfrm>
            <a:off x="692280" y="3059280"/>
            <a:ext cx="5473440" cy="2520720"/>
            <a:chOff x="692280" y="3059280"/>
            <a:chExt cx="5473440" cy="2520720"/>
          </a:xfrm>
        </p:grpSpPr>
        <p:grpSp>
          <p:nvGrpSpPr>
            <p:cNvPr id="467" name="53 Rectángulo redondeado"/>
            <p:cNvGrpSpPr/>
            <p:nvPr/>
          </p:nvGrpSpPr>
          <p:grpSpPr>
            <a:xfrm>
              <a:off x="692280" y="4745520"/>
              <a:ext cx="1698120" cy="834480"/>
              <a:chOff x="692280" y="4745520"/>
              <a:chExt cx="1698120" cy="834480"/>
            </a:xfrm>
          </p:grpSpPr>
          <p:pic>
            <p:nvPicPr>
              <p:cNvPr id="468" name="53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80640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55 Conector recto"/>
            <p:cNvSpPr/>
            <p:nvPr/>
          </p:nvSpPr>
          <p:spPr>
            <a:xfrm>
              <a:off x="84168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57 Rectángulo redondeado"/>
            <p:cNvGrpSpPr/>
            <p:nvPr/>
          </p:nvGrpSpPr>
          <p:grpSpPr>
            <a:xfrm>
              <a:off x="4467600" y="4745520"/>
              <a:ext cx="1698120" cy="834480"/>
              <a:chOff x="4467600" y="4745520"/>
              <a:chExt cx="1698120" cy="834480"/>
            </a:xfrm>
          </p:grpSpPr>
          <p:pic>
            <p:nvPicPr>
              <p:cNvPr id="472" name="5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60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458172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4" name="58 Rectángulo redondeado"/>
            <p:cNvGrpSpPr/>
            <p:nvPr/>
          </p:nvGrpSpPr>
          <p:grpSpPr>
            <a:xfrm>
              <a:off x="2579760" y="4745520"/>
              <a:ext cx="1698120" cy="834480"/>
              <a:chOff x="2579760" y="4745520"/>
              <a:chExt cx="1698120" cy="834480"/>
            </a:xfrm>
          </p:grpSpPr>
          <p:pic>
            <p:nvPicPr>
              <p:cNvPr id="475" name="58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269388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78 Conector recto"/>
            <p:cNvSpPr/>
            <p:nvPr/>
          </p:nvSpPr>
          <p:spPr>
            <a:xfrm>
              <a:off x="272952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79 Conector recto"/>
            <p:cNvSpPr/>
            <p:nvPr/>
          </p:nvSpPr>
          <p:spPr>
            <a:xfrm>
              <a:off x="461700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83 Rectángulo redondeado"/>
            <p:cNvGrpSpPr/>
            <p:nvPr/>
          </p:nvGrpSpPr>
          <p:grpSpPr>
            <a:xfrm>
              <a:off x="4467600" y="4002480"/>
              <a:ext cx="1674360" cy="497160"/>
              <a:chOff x="4467600" y="4002480"/>
              <a:chExt cx="1674360" cy="497160"/>
            </a:xfrm>
          </p:grpSpPr>
          <p:pic>
            <p:nvPicPr>
              <p:cNvPr id="480" name="83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600" y="400248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4440" y="410040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84 Rectángulo redondeado"/>
            <p:cNvGrpSpPr/>
            <p:nvPr/>
          </p:nvGrpSpPr>
          <p:grpSpPr>
            <a:xfrm>
              <a:off x="4467600" y="3059280"/>
              <a:ext cx="1674360" cy="497160"/>
              <a:chOff x="4467600" y="3059280"/>
              <a:chExt cx="1674360" cy="497160"/>
            </a:xfrm>
          </p:grpSpPr>
          <p:pic>
            <p:nvPicPr>
              <p:cNvPr id="483" name="84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600" y="305928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4564440" y="315468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85 Rectángulo redondeado"/>
            <p:cNvGrpSpPr/>
            <p:nvPr/>
          </p:nvGrpSpPr>
          <p:grpSpPr>
            <a:xfrm>
              <a:off x="4467600" y="3533760"/>
              <a:ext cx="1674360" cy="497160"/>
              <a:chOff x="4467600" y="3533760"/>
              <a:chExt cx="1674360" cy="497160"/>
            </a:xfrm>
          </p:grpSpPr>
          <p:pic>
            <p:nvPicPr>
              <p:cNvPr id="486" name="85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600" y="353376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4564440" y="362736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87 Flecha derecha"/>
            <p:cNvSpPr/>
            <p:nvPr/>
          </p:nvSpPr>
          <p:spPr>
            <a:xfrm>
              <a:off x="2310120" y="5028840"/>
              <a:ext cx="342000" cy="263160"/>
            </a:xfrm>
            <a:prstGeom prst="rightArrow">
              <a:avLst>
                <a:gd name="adj1" fmla="val 50000"/>
                <a:gd name="adj2" fmla="val 5180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88 Flecha derecha"/>
            <p:cNvSpPr/>
            <p:nvPr/>
          </p:nvSpPr>
          <p:spPr>
            <a:xfrm>
              <a:off x="4197960" y="5097240"/>
              <a:ext cx="342000" cy="261720"/>
            </a:xfrm>
            <a:prstGeom prst="rightArrow">
              <a:avLst>
                <a:gd name="adj1" fmla="val 50000"/>
                <a:gd name="adj2" fmla="val 5179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89 Flecha abajo"/>
            <p:cNvSpPr/>
            <p:nvPr/>
          </p:nvSpPr>
          <p:spPr>
            <a:xfrm>
              <a:off x="5316840" y="3273480"/>
              <a:ext cx="140040" cy="3376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90 Flecha abajo"/>
            <p:cNvSpPr/>
            <p:nvPr/>
          </p:nvSpPr>
          <p:spPr>
            <a:xfrm>
              <a:off x="5316840" y="3813840"/>
              <a:ext cx="140040" cy="3376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21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22 Botón de acción: Volver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37F9-55A0-4D59-B198-B831233096E6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496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4 CuadroTexto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DCA-8AC8-4CF6-B2B7-DC4EBEE70943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502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4 CuadroTexto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A933-9E56-420D-8269-E2A1B14A9DA5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508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4 CuadroTexto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1 Marcador de pie de página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8A16-52D5-4703-9AAA-F6060AC011EC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3 CuadroTexto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2D69-E807-4B7D-A1FB-C343CC37B791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3 CuadroTexto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4 Diagrama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69" name="5 Rectángulo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8B19-96FC-4D26-8595-57A4C21A001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72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4 CuadroTexto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A84D-9362-4ECF-AA07-F07C823C1A1E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78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4 CuadroTexto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1 Marcador de pie de página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26B0-5E60-4414-96F5-3AB4A5BB7A2A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85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4 CuadroTexto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8CE7-D50B-47BE-B640-1CF7F0B7A5D3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90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4 CuadroTexto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F313-58D0-48E6-92C5-D701E0C1DF36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3 CuadroTexto"/>
          <p:cNvSpPr/>
          <p:nvPr/>
        </p:nvSpPr>
        <p:spPr>
          <a:xfrm>
            <a:off x="692280" y="611280"/>
            <a:ext cx="5832360" cy="84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 u="sng">
                <a:solidFill>
                  <a:srgbClr val="00c8c3"/>
                </a:solidFill>
                <a:uFillTx/>
                <a:latin typeface="Berlin Sans FB Demi"/>
                <a:hlinkClick r:id="rId1" action="ppaction://hlinksldjump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7df56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7df56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4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91A-E606-410C-A290-54A8A03BED3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3 CuadroTexto"/>
          <p:cNvGrpSpPr/>
          <p:nvPr/>
        </p:nvGrpSpPr>
        <p:grpSpPr>
          <a:xfrm>
            <a:off x="1109520" y="311040"/>
            <a:ext cx="4419720" cy="878040"/>
            <a:chOff x="1109520" y="311040"/>
            <a:chExt cx="4419720" cy="878040"/>
          </a:xfrm>
        </p:grpSpPr>
        <p:pic>
          <p:nvPicPr>
            <p:cNvPr id="299" name="3 CuadroTexto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97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197000" y="395280"/>
              <a:ext cx="42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5 CuadroTexto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40 Grupo"/>
          <p:cNvGrpSpPr/>
          <p:nvPr/>
        </p:nvGrpSpPr>
        <p:grpSpPr>
          <a:xfrm>
            <a:off x="836640" y="3708360"/>
            <a:ext cx="5113440" cy="2951280"/>
            <a:chOff x="836640" y="3708360"/>
            <a:chExt cx="5113440" cy="2951280"/>
          </a:xfrm>
        </p:grpSpPr>
        <p:grpSp>
          <p:nvGrpSpPr>
            <p:cNvPr id="303" name="6 Rectángulo redondeado"/>
            <p:cNvGrpSpPr/>
            <p:nvPr/>
          </p:nvGrpSpPr>
          <p:grpSpPr>
            <a:xfrm>
              <a:off x="836640" y="3708360"/>
              <a:ext cx="1568880" cy="841320"/>
              <a:chOff x="836640" y="3708360"/>
              <a:chExt cx="1568880" cy="841320"/>
            </a:xfrm>
          </p:grpSpPr>
          <p:pic>
            <p:nvPicPr>
              <p:cNvPr id="304" name="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954360" y="3823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7 Rectángulo redondeado"/>
            <p:cNvGrpSpPr/>
            <p:nvPr/>
          </p:nvGrpSpPr>
          <p:grpSpPr>
            <a:xfrm>
              <a:off x="4381200" y="3708360"/>
              <a:ext cx="1568880" cy="841320"/>
              <a:chOff x="4381200" y="3708360"/>
              <a:chExt cx="1568880" cy="841320"/>
            </a:xfrm>
          </p:grpSpPr>
          <p:pic>
            <p:nvPicPr>
              <p:cNvPr id="307" name="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200" y="370836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4498560" y="3823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8 Rectángulo redondeado"/>
            <p:cNvGrpSpPr/>
            <p:nvPr/>
          </p:nvGrpSpPr>
          <p:grpSpPr>
            <a:xfrm>
              <a:off x="1426320" y="4797720"/>
              <a:ext cx="1568880" cy="841320"/>
              <a:chOff x="1426320" y="4797720"/>
              <a:chExt cx="1568880" cy="841320"/>
            </a:xfrm>
          </p:grpSpPr>
          <p:pic>
            <p:nvPicPr>
              <p:cNvPr id="310" name="8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47977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1545120" y="4912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9 Rectángulo redondeado"/>
            <p:cNvGrpSpPr/>
            <p:nvPr/>
          </p:nvGrpSpPr>
          <p:grpSpPr>
            <a:xfrm>
              <a:off x="1426320" y="5818320"/>
              <a:ext cx="1568880" cy="841320"/>
              <a:chOff x="1426320" y="5818320"/>
              <a:chExt cx="1568880" cy="841320"/>
            </a:xfrm>
          </p:grpSpPr>
          <p:pic>
            <p:nvPicPr>
              <p:cNvPr id="313" name="9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6320" y="58183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545120" y="593424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10 Rectángulo redondeado"/>
            <p:cNvGrpSpPr/>
            <p:nvPr/>
          </p:nvGrpSpPr>
          <p:grpSpPr>
            <a:xfrm>
              <a:off x="3420000" y="4797720"/>
              <a:ext cx="1568880" cy="841320"/>
              <a:chOff x="3420000" y="4797720"/>
              <a:chExt cx="1568880" cy="841320"/>
            </a:xfrm>
          </p:grpSpPr>
          <p:pic>
            <p:nvPicPr>
              <p:cNvPr id="316" name="10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0000" y="47977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538800" y="4912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11 Rectángulo redondeado"/>
            <p:cNvGrpSpPr/>
            <p:nvPr/>
          </p:nvGrpSpPr>
          <p:grpSpPr>
            <a:xfrm>
              <a:off x="3420000" y="5818320"/>
              <a:ext cx="1568880" cy="841320"/>
              <a:chOff x="3420000" y="5818320"/>
              <a:chExt cx="1568880" cy="841320"/>
            </a:xfrm>
          </p:grpSpPr>
          <p:pic>
            <p:nvPicPr>
              <p:cNvPr id="319" name="11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3420000" y="58183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3538800" y="593424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1" name="13 Conector recto" descr=""/>
            <p:cNvPicPr/>
            <p:nvPr/>
          </p:nvPicPr>
          <p:blipFill>
            <a:blip r:embed="rId8"/>
            <a:stretch/>
          </p:blipFill>
          <p:spPr>
            <a:xfrm>
              <a:off x="1143000" y="4463280"/>
              <a:ext cx="47160" cy="17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14 Conector recto" descr=""/>
            <p:cNvPicPr/>
            <p:nvPr/>
          </p:nvPicPr>
          <p:blipFill>
            <a:blip r:embed="rId9"/>
            <a:stretch/>
          </p:blipFill>
          <p:spPr>
            <a:xfrm>
              <a:off x="5207040" y="4463280"/>
              <a:ext cx="47160" cy="17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15 Conector recto" descr=""/>
            <p:cNvPicPr/>
            <p:nvPr/>
          </p:nvPicPr>
          <p:blipFill>
            <a:blip r:embed="rId10"/>
            <a:stretch/>
          </p:blipFill>
          <p:spPr>
            <a:xfrm>
              <a:off x="4741200" y="4451760"/>
              <a:ext cx="554400" cy="4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19 Conector recto" descr=""/>
            <p:cNvPicPr/>
            <p:nvPr/>
          </p:nvPicPr>
          <p:blipFill>
            <a:blip r:embed="rId11"/>
            <a:stretch/>
          </p:blipFill>
          <p:spPr>
            <a:xfrm>
              <a:off x="1196280" y="4451760"/>
              <a:ext cx="47772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23 Conector recto" descr=""/>
            <p:cNvPicPr/>
            <p:nvPr/>
          </p:nvPicPr>
          <p:blipFill>
            <a:blip r:embed="rId12"/>
            <a:stretch/>
          </p:blipFill>
          <p:spPr>
            <a:xfrm>
              <a:off x="4977000" y="6106320"/>
              <a:ext cx="30636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26 Conector recto" descr=""/>
            <p:cNvPicPr/>
            <p:nvPr/>
          </p:nvPicPr>
          <p:blipFill>
            <a:blip r:embed="rId13"/>
            <a:stretch/>
          </p:blipFill>
          <p:spPr>
            <a:xfrm>
              <a:off x="1208160" y="6106320"/>
              <a:ext cx="306360" cy="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28 Conector recto"/>
            <p:cNvSpPr/>
            <p:nvPr/>
          </p:nvSpPr>
          <p:spPr>
            <a:xfrm>
              <a:off x="1511640" y="50835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30 Conector recto"/>
            <p:cNvSpPr/>
            <p:nvPr/>
          </p:nvSpPr>
          <p:spPr>
            <a:xfrm>
              <a:off x="3431880" y="5083560"/>
              <a:ext cx="14760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38 Conector recto"/>
            <p:cNvSpPr/>
            <p:nvPr/>
          </p:nvSpPr>
          <p:spPr>
            <a:xfrm>
              <a:off x="1511640" y="61059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39 Conector recto"/>
            <p:cNvSpPr/>
            <p:nvPr/>
          </p:nvSpPr>
          <p:spPr>
            <a:xfrm>
              <a:off x="3505680" y="61059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41 Rectángulo redondeado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43 CuadroTexto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24 Botón de acción: Volver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2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1-10-02T18:26:07Z</dcterms:modified>
  <cp:revision>32</cp:revision>
  <dc:subject/>
  <dc:title>Leer Para comprender y aprender</dc:title>
</cp:coreProperties>
</file>