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2142720" y="600120"/>
            <a:ext cx="2568600" cy="359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7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C2F27-CFF4-4E95-B4A4-9D5CE782210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88A77-AECB-46C4-8851-4733576AF14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F82EE-04D5-452B-9569-7D117DFF25F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80946-61D4-4842-A9DC-402393B94ED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EBE61-EE70-4469-BEE6-8741D349089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ADFAE-DBE0-4059-BA87-7002EA1241D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996C8-864D-4A03-AEA3-B639EFCE879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09D8B-313C-4BC8-B4F9-A1DD6C39C3B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8E16A-F7D6-4C5E-B5F0-ACBD4C95A7E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C276B-C698-458C-8E93-EB72CB8DCB5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C6AFF-1180-4FB4-868E-9E25E2A6A93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BF5AF-4803-42BE-930B-E23CAF662A3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195B6-72CA-4C10-A671-F541F46861F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6F1B7-3BBF-4687-84E4-C8EBB062CF9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61A04-B690-401E-BAA8-0059E26F574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EB6A8-2E29-4D4B-A286-AE5BAA7F585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6B02A-A8FF-4FB2-B1B9-3A0FA0E9258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6DD-0DAF-4154-AFDE-4CA09CC2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6C7-BE58-45E3-B401-186634F0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2D2-8A0A-43CD-ABBE-2178CF37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519-FFB5-4075-B5A8-EFDE27A5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ED4A-A533-4BAC-BCFB-7C7E5F24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CDC9-1852-4EDB-A88F-B2059104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FC72-E59F-41B2-9CD5-35E15AE4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B639-04A7-4920-B636-EDE908A9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1149-FF2C-4935-B263-812289E4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B1D8-1271-4AEB-88B8-F13DD697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308E-EE6D-43D3-B363-7BEC5B0E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20C-0FEA-4E63-ADF2-60CF4706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292D-445F-41C6-BA33-6567F679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B110-B19C-4EB1-A8C7-749242B7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78FF-6288-40AC-BF82-F13C834B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B1DE-1459-4BF5-AD1A-04BC77B3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F992-8624-45DD-A307-D60236E7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E8D05-86E8-4B13-88A9-E63E4479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077E3-2615-4F69-B2DF-344729B9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5456E-A097-4E49-B905-6A4345EB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4EB54-1022-47AB-82A2-DDDB3FE2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58F9C-8440-4DDE-80FC-04BE8C5D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503-0FD5-4F85-8931-F7DA8C53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F223B-A391-4FAD-942B-CE02D61B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337EB-20B0-4599-BFCB-8EF5433B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DEBB2-C44D-4887-B809-9D1FEAD9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0D543-EE78-4A5E-B1D4-F4AAEBF2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80C76-E025-4AB4-881E-93A1C2D4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41F3A-A5A5-4A00-B388-8364FBEE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A7A10-F15D-451C-9036-704793CC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7A217-0106-4C19-8E80-A6C0AC42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F9B1A-5C26-488A-8561-6B4FAF8F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D579E-FD3E-433B-8E2F-46B2AA10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B33-A81B-4EE9-AA56-E79C786B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DF400-2257-4611-BDC3-4E2FF4B3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A6C55-C3AF-43C4-BDC8-236490B0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B084D-ED49-4173-84E8-D179381E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78381-CFDD-4E55-B656-4A3AC1AC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D05F5-8F7B-43F2-B6E7-B85C1D0E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0687D-4DB9-4CE6-B08C-DA25291E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573C6-9898-4298-9C2D-6B7DEC7C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0C7A1-C91C-4EB9-87B2-B139A7FC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A904F-CEE2-4C67-83E9-614A9B89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66BC4-48AC-49F3-893D-97257862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2645-A631-42BD-B30E-E69C6D37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85B55-605B-43A3-A06E-98EF5507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C8B5C-B84E-4340-83C8-622CC6C8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31000-E498-46AA-A178-3C6E6911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15D8C-0619-4D66-812F-5B2A6096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583A0-6FC4-4C3D-BFA7-FABB175C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A073A-310F-4C90-8145-C2D0557E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68822-86D0-43AA-97A1-B7AEAD81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C4314-BED5-4F68-988E-A93ABE2D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FFCD5-085C-40C6-88AA-6626C085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3CB65-03C7-43A5-8E44-57A7D611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973-D3C8-4A6C-9A3C-423AADD1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06F33-CD42-46B4-8EEF-8235DD30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556-4FD8-489D-8E24-42070AD9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1C91-F88A-42A6-941D-11F75EAD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6F63-479C-4E43-9B23-ED7BD9E5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579920" y="0"/>
            <a:ext cx="2278080" cy="9144000"/>
          </a:xfrm>
          <a:custGeom>
            <a:avLst/>
            <a:gdLst>
              <a:gd name="textAreaLeft" fmla="*/ 0 w 2278080"/>
              <a:gd name="textAreaRight" fmla="*/ 2278440 w 2278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114600" y="8562600"/>
            <a:ext cx="5684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0B8B38-A8A5-4E4B-AFEA-8582DBA2ECD2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114600" y="8562600"/>
            <a:ext cx="5684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10ACD9-56A8-4091-B63F-9B25EF68108A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1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Freeform 2"/>
          <p:cNvSpPr/>
          <p:nvPr/>
        </p:nvSpPr>
        <p:spPr>
          <a:xfrm>
            <a:off x="5486400" y="0"/>
            <a:ext cx="1371600" cy="91440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116760" y="8562600"/>
            <a:ext cx="5680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8682A8-00C9-417C-B349-AC72B366C688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114600" y="8562600"/>
            <a:ext cx="5684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73FD8E-B17F-4868-826E-4DFA26EFEE68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9/01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Leer para comprender y apr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6D7646-C538-4B91-A215-A9798E22574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0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49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"/>
          <p:cNvGrpSpPr/>
          <p:nvPr/>
        </p:nvGrpSpPr>
        <p:grpSpPr>
          <a:xfrm>
            <a:off x="317520" y="4316400"/>
            <a:ext cx="5348160" cy="3203640"/>
            <a:chOff x="317520" y="4316400"/>
            <a:chExt cx="5348160" cy="3203640"/>
          </a:xfrm>
        </p:grpSpPr>
        <p:pic>
          <p:nvPicPr>
            <p:cNvPr id="219" name="Picture 2" descr=""/>
            <p:cNvPicPr/>
            <p:nvPr/>
          </p:nvPicPr>
          <p:blipFill>
            <a:blip r:embed="rId1"/>
            <a:stretch/>
          </p:blipFill>
          <p:spPr>
            <a:xfrm>
              <a:off x="317520" y="4316400"/>
              <a:ext cx="5348160" cy="32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3"/>
            <p:cNvSpPr/>
            <p:nvPr/>
          </p:nvSpPr>
          <p:spPr>
            <a:xfrm>
              <a:off x="317520" y="4316400"/>
              <a:ext cx="5348160" cy="32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Text Box 4"/>
          <p:cNvSpPr/>
          <p:nvPr/>
        </p:nvSpPr>
        <p:spPr>
          <a:xfrm>
            <a:off x="325440" y="2058840"/>
            <a:ext cx="485928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rograma de comprensión de text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1"/>
          <p:cNvGrpSpPr/>
          <p:nvPr/>
        </p:nvGrpSpPr>
        <p:grpSpPr>
          <a:xfrm>
            <a:off x="1413000" y="2340000"/>
            <a:ext cx="3957480" cy="1508040"/>
            <a:chOff x="1413000" y="2340000"/>
            <a:chExt cx="3957480" cy="1508040"/>
          </a:xfrm>
        </p:grpSpPr>
        <p:sp>
          <p:nvSpPr>
            <p:cNvPr id="295" name="Rectangle 2"/>
            <p:cNvSpPr/>
            <p:nvPr/>
          </p:nvSpPr>
          <p:spPr>
            <a:xfrm>
              <a:off x="1413000" y="2340000"/>
              <a:ext cx="3957480" cy="15080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3"/>
            <p:cNvGrpSpPr/>
            <p:nvPr/>
          </p:nvGrpSpPr>
          <p:grpSpPr>
            <a:xfrm>
              <a:off x="1773360" y="2843280"/>
              <a:ext cx="3308400" cy="788760"/>
              <a:chOff x="1773360" y="2843280"/>
              <a:chExt cx="3308400" cy="788760"/>
            </a:xfrm>
          </p:grpSpPr>
          <p:grpSp>
            <p:nvGrpSpPr>
              <p:cNvPr id="297" name="Group 4"/>
              <p:cNvGrpSpPr/>
              <p:nvPr/>
            </p:nvGrpSpPr>
            <p:grpSpPr>
              <a:xfrm>
                <a:off x="1773360" y="2843280"/>
                <a:ext cx="1388880" cy="788760"/>
                <a:chOff x="1773360" y="2843280"/>
                <a:chExt cx="1388880" cy="788760"/>
              </a:xfrm>
            </p:grpSpPr>
            <p:pic>
              <p:nvPicPr>
                <p:cNvPr id="298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73360" y="2843280"/>
                  <a:ext cx="1388880" cy="78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Text Box 6"/>
                <p:cNvSpPr/>
                <p:nvPr/>
              </p:nvSpPr>
              <p:spPr>
                <a:xfrm>
                  <a:off x="1890720" y="2948040"/>
                  <a:ext cx="1157400" cy="58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Problem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Line 7"/>
              <p:cNvSpPr/>
              <p:nvPr/>
            </p:nvSpPr>
            <p:spPr>
              <a:xfrm>
                <a:off x="1852560" y="3330720"/>
                <a:ext cx="123192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8"/>
              <p:cNvSpPr/>
              <p:nvPr/>
            </p:nvSpPr>
            <p:spPr>
              <a:xfrm>
                <a:off x="3568680" y="3389400"/>
                <a:ext cx="123192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2" name="Group 9"/>
              <p:cNvGrpSpPr/>
              <p:nvPr/>
            </p:nvGrpSpPr>
            <p:grpSpPr>
              <a:xfrm>
                <a:off x="3692520" y="2843280"/>
                <a:ext cx="1389240" cy="788760"/>
                <a:chOff x="3692520" y="2843280"/>
                <a:chExt cx="1389240" cy="788760"/>
              </a:xfrm>
            </p:grpSpPr>
            <p:pic>
              <p:nvPicPr>
                <p:cNvPr id="303" name="Picture 1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692520" y="2843280"/>
                  <a:ext cx="1389240" cy="78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4" name="Text Box 11"/>
                <p:cNvSpPr/>
                <p:nvPr/>
              </p:nvSpPr>
              <p:spPr>
                <a:xfrm>
                  <a:off x="3808440" y="2948040"/>
                  <a:ext cx="1157400" cy="58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Solución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Line 12"/>
              <p:cNvSpPr/>
              <p:nvPr/>
            </p:nvSpPr>
            <p:spPr>
              <a:xfrm>
                <a:off x="3773520" y="3330720"/>
                <a:ext cx="123192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AutoShape 13"/>
              <p:cNvSpPr/>
              <p:nvPr/>
            </p:nvSpPr>
            <p:spPr>
              <a:xfrm>
                <a:off x="3156120" y="2975040"/>
                <a:ext cx="477720" cy="395280"/>
              </a:xfrm>
              <a:prstGeom prst="leftArrow">
                <a:avLst>
                  <a:gd name="adj1" fmla="val 50000"/>
                  <a:gd name="adj2" fmla="val 58184"/>
                </a:avLst>
              </a:prstGeom>
              <a:solidFill>
                <a:srgbClr val="fcf4c7"/>
              </a:solidFill>
              <a:ln w="19080">
                <a:solidFill>
                  <a:srgbClr val="4f7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Text Box 14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62C65-ED7F-406D-9E91-CAD16B4D6DBF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15"/>
          <p:cNvGrpSpPr/>
          <p:nvPr/>
        </p:nvGrpSpPr>
        <p:grpSpPr>
          <a:xfrm>
            <a:off x="536400" y="165240"/>
            <a:ext cx="5348520" cy="812520"/>
            <a:chOff x="536400" y="165240"/>
            <a:chExt cx="5348520" cy="812520"/>
          </a:xfrm>
        </p:grpSpPr>
        <p:pic>
          <p:nvPicPr>
            <p:cNvPr id="309" name="Picture 16" descr=""/>
            <p:cNvPicPr/>
            <p:nvPr/>
          </p:nvPicPr>
          <p:blipFill>
            <a:blip r:embed="rId3"/>
            <a:stretch/>
          </p:blipFill>
          <p:spPr>
            <a:xfrm>
              <a:off x="536400" y="165240"/>
              <a:ext cx="534852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7"/>
            <p:cNvSpPr/>
            <p:nvPr/>
          </p:nvSpPr>
          <p:spPr>
            <a:xfrm>
              <a:off x="620640" y="250920"/>
              <a:ext cx="51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PROBLEMA-SOLUCIÓ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Text Box 18"/>
          <p:cNvSpPr/>
          <p:nvPr/>
        </p:nvSpPr>
        <p:spPr>
          <a:xfrm>
            <a:off x="647640" y="123516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1800" spc="-1" strike="noStrike">
                <a:solidFill>
                  <a:srgbClr val="f7df56"/>
                </a:solidFill>
                <a:latin typeface="Arial"/>
              </a:rPr>
              <a:t>Cuando una parte del texto consiste en la exposición de un problema y la otra parte en exponer las sol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19"/>
          <p:cNvSpPr/>
          <p:nvPr/>
        </p:nvSpPr>
        <p:spPr>
          <a:xfrm>
            <a:off x="620640" y="7451640"/>
            <a:ext cx="5761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UNA SOLUCIÓN”  “OTRA MEDID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UNA DIFICULTAD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476280" y="6948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1484280" y="2411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rlin Sans FB Demi"/>
              </a:rPr>
              <a:t>A. Una solución para un probl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22"/>
          <p:cNvGrpSpPr/>
          <p:nvPr/>
        </p:nvGrpSpPr>
        <p:grpSpPr>
          <a:xfrm>
            <a:off x="476280" y="3924360"/>
            <a:ext cx="2878200" cy="2948040"/>
            <a:chOff x="476280" y="3924360"/>
            <a:chExt cx="2878200" cy="2948040"/>
          </a:xfrm>
        </p:grpSpPr>
        <p:sp>
          <p:nvSpPr>
            <p:cNvPr id="316" name="Rectangle 23"/>
            <p:cNvSpPr/>
            <p:nvPr/>
          </p:nvSpPr>
          <p:spPr>
            <a:xfrm>
              <a:off x="488880" y="3924360"/>
              <a:ext cx="2865600" cy="29480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7" name="Group 24"/>
            <p:cNvGrpSpPr/>
            <p:nvPr/>
          </p:nvGrpSpPr>
          <p:grpSpPr>
            <a:xfrm>
              <a:off x="476280" y="5132520"/>
              <a:ext cx="1314360" cy="745920"/>
              <a:chOff x="476280" y="5132520"/>
              <a:chExt cx="1314360" cy="745920"/>
            </a:xfrm>
          </p:grpSpPr>
          <p:pic>
            <p:nvPicPr>
              <p:cNvPr id="318" name="Picture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476280" y="5132520"/>
                <a:ext cx="1314360" cy="74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Text Box 26"/>
              <p:cNvSpPr/>
              <p:nvPr/>
            </p:nvSpPr>
            <p:spPr>
              <a:xfrm>
                <a:off x="620640" y="5280120"/>
                <a:ext cx="1023840" cy="4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0" name="Text Box 27"/>
            <p:cNvSpPr/>
            <p:nvPr/>
          </p:nvSpPr>
          <p:spPr>
            <a:xfrm>
              <a:off x="631800" y="3995640"/>
              <a:ext cx="2147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B. Varias soluciones  para un proble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Group 28"/>
            <p:cNvGrpSpPr/>
            <p:nvPr/>
          </p:nvGrpSpPr>
          <p:grpSpPr>
            <a:xfrm>
              <a:off x="2054160" y="4559400"/>
              <a:ext cx="1168560" cy="814320"/>
              <a:chOff x="2054160" y="4559400"/>
              <a:chExt cx="1168560" cy="814320"/>
            </a:xfrm>
          </p:grpSpPr>
          <p:pic>
            <p:nvPicPr>
              <p:cNvPr id="322" name="Pictur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4160" y="4559400"/>
                <a:ext cx="1168560" cy="81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Text Box 30"/>
              <p:cNvSpPr/>
              <p:nvPr/>
            </p:nvSpPr>
            <p:spPr>
              <a:xfrm>
                <a:off x="2170080" y="4675320"/>
                <a:ext cx="93816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31"/>
            <p:cNvGrpSpPr/>
            <p:nvPr/>
          </p:nvGrpSpPr>
          <p:grpSpPr>
            <a:xfrm>
              <a:off x="2054160" y="5711760"/>
              <a:ext cx="1168560" cy="814320"/>
              <a:chOff x="2054160" y="5711760"/>
              <a:chExt cx="1168560" cy="814320"/>
            </a:xfrm>
          </p:grpSpPr>
          <p:pic>
            <p:nvPicPr>
              <p:cNvPr id="325" name="Picture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4160" y="5711760"/>
                <a:ext cx="1168560" cy="81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Text Box 33"/>
              <p:cNvSpPr/>
              <p:nvPr/>
            </p:nvSpPr>
            <p:spPr>
              <a:xfrm>
                <a:off x="2170080" y="5827680"/>
                <a:ext cx="93816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AutoShape 34"/>
            <p:cNvSpPr/>
            <p:nvPr/>
          </p:nvSpPr>
          <p:spPr>
            <a:xfrm rot="19560000">
              <a:off x="1620720" y="4900320"/>
              <a:ext cx="497160" cy="355680"/>
            </a:xfrm>
            <a:prstGeom prst="leftArrow">
              <a:avLst>
                <a:gd name="adj1" fmla="val 50000"/>
                <a:gd name="adj2" fmla="val 4986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AutoShape 35"/>
            <p:cNvSpPr/>
            <p:nvPr/>
          </p:nvSpPr>
          <p:spPr>
            <a:xfrm rot="2400000">
              <a:off x="1625760" y="5757480"/>
              <a:ext cx="496800" cy="355680"/>
            </a:xfrm>
            <a:prstGeom prst="leftArrow">
              <a:avLst>
                <a:gd name="adj1" fmla="val 50000"/>
                <a:gd name="adj2" fmla="val 49824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Group 36"/>
          <p:cNvGrpSpPr/>
          <p:nvPr/>
        </p:nvGrpSpPr>
        <p:grpSpPr>
          <a:xfrm>
            <a:off x="3500280" y="3924360"/>
            <a:ext cx="2878200" cy="2948040"/>
            <a:chOff x="3500280" y="3924360"/>
            <a:chExt cx="2878200" cy="2948040"/>
          </a:xfrm>
        </p:grpSpPr>
        <p:sp>
          <p:nvSpPr>
            <p:cNvPr id="330" name="Rectangle 37"/>
            <p:cNvSpPr/>
            <p:nvPr/>
          </p:nvSpPr>
          <p:spPr>
            <a:xfrm>
              <a:off x="3506760" y="3924360"/>
              <a:ext cx="2863800" cy="29480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3733920" y="3997440"/>
              <a:ext cx="226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C. Dos problemas con una solu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2" name="Group 39"/>
            <p:cNvGrpSpPr/>
            <p:nvPr/>
          </p:nvGrpSpPr>
          <p:grpSpPr>
            <a:xfrm>
              <a:off x="5156280" y="5168880"/>
              <a:ext cx="1222200" cy="831960"/>
              <a:chOff x="5156280" y="5168880"/>
              <a:chExt cx="1222200" cy="831960"/>
            </a:xfrm>
          </p:grpSpPr>
          <p:pic>
            <p:nvPicPr>
              <p:cNvPr id="333" name="Picture 40" descr=""/>
              <p:cNvPicPr/>
              <p:nvPr/>
            </p:nvPicPr>
            <p:blipFill>
              <a:blip r:embed="rId7"/>
              <a:stretch/>
            </p:blipFill>
            <p:spPr>
              <a:xfrm>
                <a:off x="5156280" y="5168880"/>
                <a:ext cx="122220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Text Box 41"/>
              <p:cNvSpPr/>
              <p:nvPr/>
            </p:nvSpPr>
            <p:spPr>
              <a:xfrm>
                <a:off x="5275440" y="5284800"/>
                <a:ext cx="98892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42"/>
            <p:cNvGrpSpPr/>
            <p:nvPr/>
          </p:nvGrpSpPr>
          <p:grpSpPr>
            <a:xfrm>
              <a:off x="3573360" y="5834160"/>
              <a:ext cx="1373400" cy="825480"/>
              <a:chOff x="3573360" y="5834160"/>
              <a:chExt cx="1373400" cy="825480"/>
            </a:xfrm>
          </p:grpSpPr>
          <p:pic>
            <p:nvPicPr>
              <p:cNvPr id="336" name="Picture 43" descr=""/>
              <p:cNvPicPr/>
              <p:nvPr/>
            </p:nvPicPr>
            <p:blipFill>
              <a:blip r:embed="rId8"/>
              <a:stretch/>
            </p:blipFill>
            <p:spPr>
              <a:xfrm>
                <a:off x="3573360" y="5834160"/>
                <a:ext cx="1373400" cy="82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Text Box 44"/>
              <p:cNvSpPr/>
              <p:nvPr/>
            </p:nvSpPr>
            <p:spPr>
              <a:xfrm>
                <a:off x="3727440" y="5986440"/>
                <a:ext cx="106668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 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45"/>
            <p:cNvGrpSpPr/>
            <p:nvPr/>
          </p:nvGrpSpPr>
          <p:grpSpPr>
            <a:xfrm>
              <a:off x="3500280" y="4651200"/>
              <a:ext cx="1373400" cy="831960"/>
              <a:chOff x="3500280" y="4651200"/>
              <a:chExt cx="1373400" cy="831960"/>
            </a:xfrm>
          </p:grpSpPr>
          <p:pic>
            <p:nvPicPr>
              <p:cNvPr id="339" name="Picture 46" descr=""/>
              <p:cNvPicPr/>
              <p:nvPr/>
            </p:nvPicPr>
            <p:blipFill>
              <a:blip r:embed="rId9"/>
              <a:stretch/>
            </p:blipFill>
            <p:spPr>
              <a:xfrm>
                <a:off x="3500280" y="4651200"/>
                <a:ext cx="137340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Text Box 47"/>
              <p:cNvSpPr/>
              <p:nvPr/>
            </p:nvSpPr>
            <p:spPr>
              <a:xfrm>
                <a:off x="3651120" y="4805280"/>
                <a:ext cx="106704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 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" name="AutoShape 48"/>
            <p:cNvSpPr/>
            <p:nvPr/>
          </p:nvSpPr>
          <p:spPr>
            <a:xfrm rot="1380000">
              <a:off x="4768560" y="4968360"/>
              <a:ext cx="523800" cy="365400"/>
            </a:xfrm>
            <a:prstGeom prst="leftArrow">
              <a:avLst>
                <a:gd name="adj1" fmla="val 50000"/>
                <a:gd name="adj2" fmla="val 5116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AutoShape 49"/>
            <p:cNvSpPr/>
            <p:nvPr/>
          </p:nvSpPr>
          <p:spPr>
            <a:xfrm rot="19560000">
              <a:off x="4849920" y="5955840"/>
              <a:ext cx="523800" cy="365400"/>
            </a:xfrm>
            <a:prstGeom prst="leftArrow">
              <a:avLst>
                <a:gd name="adj1" fmla="val 50000"/>
                <a:gd name="adj2" fmla="val 5116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Rectangle 50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51"/>
          <p:cNvSpPr/>
          <p:nvPr/>
        </p:nvSpPr>
        <p:spPr>
          <a:xfrm>
            <a:off x="5877000" y="25092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7493"/>
                </a:moveTo>
                <a:lnTo>
                  <a:pt x="9678" y="7493"/>
                </a:lnTo>
                <a:lnTo>
                  <a:pt x="9678" y="12828"/>
                </a:lnTo>
                <a:cubicBezTo>
                  <a:pt x="9678" y="13751"/>
                  <a:pt x="10479" y="14482"/>
                  <a:pt x="11514" y="14482"/>
                </a:cubicBezTo>
                <a:lnTo>
                  <a:pt x="13177" y="14482"/>
                </a:lnTo>
                <a:cubicBezTo>
                  <a:pt x="14212" y="14482"/>
                  <a:pt x="15013" y="13751"/>
                  <a:pt x="15013" y="12828"/>
                </a:cubicBezTo>
                <a:lnTo>
                  <a:pt x="15013" y="7493"/>
                </a:lnTo>
                <a:lnTo>
                  <a:pt x="13177" y="7493"/>
                </a:lnTo>
                <a:lnTo>
                  <a:pt x="16684" y="3985"/>
                </a:lnTo>
                <a:lnTo>
                  <a:pt x="20357" y="7493"/>
                </a:lnTo>
                <a:lnTo>
                  <a:pt x="18521" y="7493"/>
                </a:lnTo>
                <a:lnTo>
                  <a:pt x="18521" y="12828"/>
                </a:lnTo>
                <a:cubicBezTo>
                  <a:pt x="18521" y="15596"/>
                  <a:pt x="15944" y="18155"/>
                  <a:pt x="13177" y="18155"/>
                </a:cubicBezTo>
                <a:lnTo>
                  <a:pt x="11514" y="18155"/>
                </a:lnTo>
                <a:cubicBezTo>
                  <a:pt x="8747" y="18155"/>
                  <a:pt x="6170" y="15596"/>
                  <a:pt x="617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36A43-1DCE-4027-BD07-6D4C594B58AB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2"/>
          <p:cNvGrpSpPr/>
          <p:nvPr/>
        </p:nvGrpSpPr>
        <p:grpSpPr>
          <a:xfrm>
            <a:off x="463680" y="237960"/>
            <a:ext cx="5348160" cy="812880"/>
            <a:chOff x="463680" y="237960"/>
            <a:chExt cx="5348160" cy="812880"/>
          </a:xfrm>
        </p:grpSpPr>
        <p:pic>
          <p:nvPicPr>
            <p:cNvPr id="347" name="Picture 3" descr=""/>
            <p:cNvPicPr/>
            <p:nvPr/>
          </p:nvPicPr>
          <p:blipFill>
            <a:blip r:embed="rId1"/>
            <a:stretch/>
          </p:blipFill>
          <p:spPr>
            <a:xfrm>
              <a:off x="463680" y="237960"/>
              <a:ext cx="5348160" cy="8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 Box 4"/>
            <p:cNvSpPr/>
            <p:nvPr/>
          </p:nvSpPr>
          <p:spPr>
            <a:xfrm>
              <a:off x="549360" y="324000"/>
              <a:ext cx="518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CAUSALIDA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9" name="Text Box 5"/>
          <p:cNvSpPr/>
          <p:nvPr/>
        </p:nvSpPr>
        <p:spPr>
          <a:xfrm>
            <a:off x="549360" y="97164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1800" spc="-1" strike="noStrike">
                <a:solidFill>
                  <a:srgbClr val="f7df56"/>
                </a:solidFill>
                <a:latin typeface="Arial"/>
              </a:rPr>
              <a:t>Cuando una parte del texto consiste en la exposición de un problema y la otra parte en exponer las sol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COMO CONSECUENCIA”  “POR TA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POR ELLO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8"/>
          <p:cNvGrpSpPr/>
          <p:nvPr/>
        </p:nvGrpSpPr>
        <p:grpSpPr>
          <a:xfrm>
            <a:off x="1197000" y="2268360"/>
            <a:ext cx="4460760" cy="1436760"/>
            <a:chOff x="1197000" y="2268360"/>
            <a:chExt cx="4460760" cy="1436760"/>
          </a:xfrm>
        </p:grpSpPr>
        <p:sp>
          <p:nvSpPr>
            <p:cNvPr id="353" name="Rectangle 9"/>
            <p:cNvSpPr/>
            <p:nvPr/>
          </p:nvSpPr>
          <p:spPr>
            <a:xfrm>
              <a:off x="1197000" y="2268360"/>
              <a:ext cx="4460760" cy="143676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10"/>
            <p:cNvGrpSpPr/>
            <p:nvPr/>
          </p:nvGrpSpPr>
          <p:grpSpPr>
            <a:xfrm>
              <a:off x="1468440" y="2760840"/>
              <a:ext cx="1538280" cy="741240"/>
              <a:chOff x="1468440" y="2760840"/>
              <a:chExt cx="1538280" cy="741240"/>
            </a:xfrm>
          </p:grpSpPr>
          <p:pic>
            <p:nvPicPr>
              <p:cNvPr id="355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468440" y="2760840"/>
                <a:ext cx="153828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Text Box 12"/>
              <p:cNvSpPr/>
              <p:nvPr/>
            </p:nvSpPr>
            <p:spPr>
              <a:xfrm>
                <a:off x="1584360" y="2871720"/>
                <a:ext cx="13082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Text Box 13"/>
            <p:cNvSpPr/>
            <p:nvPr/>
          </p:nvSpPr>
          <p:spPr>
            <a:xfrm>
              <a:off x="1341360" y="2413080"/>
              <a:ext cx="417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A. Un antecedente y un consecuen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Group 14"/>
            <p:cNvGrpSpPr/>
            <p:nvPr/>
          </p:nvGrpSpPr>
          <p:grpSpPr>
            <a:xfrm>
              <a:off x="3706920" y="2760840"/>
              <a:ext cx="1533240" cy="741240"/>
              <a:chOff x="3706920" y="2760840"/>
              <a:chExt cx="1533240" cy="741240"/>
            </a:xfrm>
          </p:grpSpPr>
          <p:pic>
            <p:nvPicPr>
              <p:cNvPr id="359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3706920" y="2760840"/>
                <a:ext cx="153324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Text Box 16"/>
              <p:cNvSpPr/>
              <p:nvPr/>
            </p:nvSpPr>
            <p:spPr>
              <a:xfrm>
                <a:off x="3816360" y="2871720"/>
                <a:ext cx="13082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1" name="AutoShape 17"/>
            <p:cNvSpPr/>
            <p:nvPr/>
          </p:nvSpPr>
          <p:spPr>
            <a:xfrm>
              <a:off x="3068640" y="2916360"/>
              <a:ext cx="573120" cy="357120"/>
            </a:xfrm>
            <a:prstGeom prst="rightArrow">
              <a:avLst>
                <a:gd name="adj1" fmla="val 50000"/>
                <a:gd name="adj2" fmla="val 50181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Group 18"/>
          <p:cNvGrpSpPr/>
          <p:nvPr/>
        </p:nvGrpSpPr>
        <p:grpSpPr>
          <a:xfrm>
            <a:off x="333360" y="3995640"/>
            <a:ext cx="2948040" cy="2733840"/>
            <a:chOff x="333360" y="3995640"/>
            <a:chExt cx="2948040" cy="2733840"/>
          </a:xfrm>
        </p:grpSpPr>
        <p:sp>
          <p:nvSpPr>
            <p:cNvPr id="363" name="Rectangle 19"/>
            <p:cNvSpPr/>
            <p:nvPr/>
          </p:nvSpPr>
          <p:spPr>
            <a:xfrm>
              <a:off x="333360" y="3995640"/>
              <a:ext cx="2948040" cy="27338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4" name="Group 20"/>
            <p:cNvGrpSpPr/>
            <p:nvPr/>
          </p:nvGrpSpPr>
          <p:grpSpPr>
            <a:xfrm>
              <a:off x="390600" y="5353200"/>
              <a:ext cx="1319040" cy="741240"/>
              <a:chOff x="390600" y="5353200"/>
              <a:chExt cx="1319040" cy="741240"/>
            </a:xfrm>
          </p:grpSpPr>
          <p:pic>
            <p:nvPicPr>
              <p:cNvPr id="365" name="Picture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0600" y="5353200"/>
                <a:ext cx="131904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Text Box 22"/>
              <p:cNvSpPr/>
              <p:nvPr/>
            </p:nvSpPr>
            <p:spPr>
              <a:xfrm>
                <a:off x="504720" y="5464080"/>
                <a:ext cx="10922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23"/>
            <p:cNvGrpSpPr/>
            <p:nvPr/>
          </p:nvGrpSpPr>
          <p:grpSpPr>
            <a:xfrm>
              <a:off x="1828800" y="4700520"/>
              <a:ext cx="1319040" cy="746280"/>
              <a:chOff x="1828800" y="4700520"/>
              <a:chExt cx="1319040" cy="746280"/>
            </a:xfrm>
          </p:grpSpPr>
          <p:pic>
            <p:nvPicPr>
              <p:cNvPr id="368" name="Picture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4700520"/>
                <a:ext cx="131904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Text Box 25"/>
              <p:cNvSpPr/>
              <p:nvPr/>
            </p:nvSpPr>
            <p:spPr>
              <a:xfrm>
                <a:off x="1944720" y="4816440"/>
                <a:ext cx="10922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901880" y="5851440"/>
              <a:ext cx="1319040" cy="746280"/>
              <a:chOff x="1901880" y="5851440"/>
              <a:chExt cx="1319040" cy="746280"/>
            </a:xfrm>
          </p:grpSpPr>
          <p:pic>
            <p:nvPicPr>
              <p:cNvPr id="371" name="Picture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1880" y="5851440"/>
                <a:ext cx="131904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Text Box 28"/>
              <p:cNvSpPr/>
              <p:nvPr/>
            </p:nvSpPr>
            <p:spPr>
              <a:xfrm>
                <a:off x="2016000" y="5969160"/>
                <a:ext cx="109224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9"/>
            <p:cNvSpPr/>
            <p:nvPr/>
          </p:nvSpPr>
          <p:spPr>
            <a:xfrm rot="19740000">
              <a:off x="1377720" y="5145120"/>
              <a:ext cx="571320" cy="208080"/>
            </a:xfrm>
            <a:prstGeom prst="rightArrow">
              <a:avLst>
                <a:gd name="adj1" fmla="val 50000"/>
                <a:gd name="adj2" fmla="val 50414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AutoShape 30"/>
            <p:cNvSpPr/>
            <p:nvPr/>
          </p:nvSpPr>
          <p:spPr>
            <a:xfrm rot="1740000">
              <a:off x="1428840" y="6064200"/>
              <a:ext cx="573120" cy="222480"/>
            </a:xfrm>
            <a:prstGeom prst="rightArrow">
              <a:avLst>
                <a:gd name="adj1" fmla="val 50000"/>
                <a:gd name="adj2" fmla="val 50352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31"/>
            <p:cNvSpPr/>
            <p:nvPr/>
          </p:nvSpPr>
          <p:spPr>
            <a:xfrm>
              <a:off x="333360" y="4067280"/>
              <a:ext cx="2516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B. Un antecedente puede dar lugar a 2 consecu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Group 32"/>
          <p:cNvGrpSpPr/>
          <p:nvPr/>
        </p:nvGrpSpPr>
        <p:grpSpPr>
          <a:xfrm>
            <a:off x="3357720" y="3995640"/>
            <a:ext cx="3020760" cy="2733840"/>
            <a:chOff x="3357720" y="3995640"/>
            <a:chExt cx="3020760" cy="2733840"/>
          </a:xfrm>
        </p:grpSpPr>
        <p:sp>
          <p:nvSpPr>
            <p:cNvPr id="377" name="Rectangle 33"/>
            <p:cNvSpPr/>
            <p:nvPr/>
          </p:nvSpPr>
          <p:spPr>
            <a:xfrm>
              <a:off x="3368520" y="3995640"/>
              <a:ext cx="2938680" cy="27338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4"/>
            <p:cNvGrpSpPr/>
            <p:nvPr/>
          </p:nvGrpSpPr>
          <p:grpSpPr>
            <a:xfrm>
              <a:off x="3357720" y="4700520"/>
              <a:ext cx="1380960" cy="746280"/>
              <a:chOff x="3357720" y="4700520"/>
              <a:chExt cx="1380960" cy="746280"/>
            </a:xfrm>
          </p:grpSpPr>
          <p:pic>
            <p:nvPicPr>
              <p:cNvPr id="379" name="Picture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3357720" y="4700520"/>
                <a:ext cx="138096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Text Box 36"/>
              <p:cNvSpPr/>
              <p:nvPr/>
            </p:nvSpPr>
            <p:spPr>
              <a:xfrm>
                <a:off x="3468600" y="4816440"/>
                <a:ext cx="11606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37"/>
            <p:cNvGrpSpPr/>
            <p:nvPr/>
          </p:nvGrpSpPr>
          <p:grpSpPr>
            <a:xfrm>
              <a:off x="3357720" y="5851440"/>
              <a:ext cx="1314360" cy="746280"/>
              <a:chOff x="3357720" y="5851440"/>
              <a:chExt cx="1314360" cy="746280"/>
            </a:xfrm>
          </p:grpSpPr>
          <p:pic>
            <p:nvPicPr>
              <p:cNvPr id="382" name="Picture 38" descr=""/>
              <p:cNvPicPr/>
              <p:nvPr/>
            </p:nvPicPr>
            <p:blipFill>
              <a:blip r:embed="rId8"/>
              <a:stretch/>
            </p:blipFill>
            <p:spPr>
              <a:xfrm>
                <a:off x="3357720" y="5851440"/>
                <a:ext cx="131436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Text Box 39"/>
              <p:cNvSpPr/>
              <p:nvPr/>
            </p:nvSpPr>
            <p:spPr>
              <a:xfrm>
                <a:off x="3468600" y="5969160"/>
                <a:ext cx="108900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40"/>
            <p:cNvGrpSpPr/>
            <p:nvPr/>
          </p:nvGrpSpPr>
          <p:grpSpPr>
            <a:xfrm>
              <a:off x="4863960" y="5353200"/>
              <a:ext cx="1381320" cy="741240"/>
              <a:chOff x="4863960" y="5353200"/>
              <a:chExt cx="1381320" cy="741240"/>
            </a:xfrm>
          </p:grpSpPr>
          <p:pic>
            <p:nvPicPr>
              <p:cNvPr id="385" name="Picture 41" descr=""/>
              <p:cNvPicPr/>
              <p:nvPr/>
            </p:nvPicPr>
            <p:blipFill>
              <a:blip r:embed="rId9"/>
              <a:stretch/>
            </p:blipFill>
            <p:spPr>
              <a:xfrm>
                <a:off x="4863960" y="5353200"/>
                <a:ext cx="138132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 Box 42"/>
              <p:cNvSpPr/>
              <p:nvPr/>
            </p:nvSpPr>
            <p:spPr>
              <a:xfrm>
                <a:off x="4975200" y="5464080"/>
                <a:ext cx="11606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" name="AutoShape 43"/>
            <p:cNvSpPr/>
            <p:nvPr/>
          </p:nvSpPr>
          <p:spPr>
            <a:xfrm rot="2040000">
              <a:off x="4673160" y="5071680"/>
              <a:ext cx="571680" cy="208080"/>
            </a:xfrm>
            <a:prstGeom prst="rightArrow">
              <a:avLst>
                <a:gd name="adj1" fmla="val 50000"/>
                <a:gd name="adj2" fmla="val 5031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AutoShape 44"/>
            <p:cNvSpPr/>
            <p:nvPr/>
          </p:nvSpPr>
          <p:spPr>
            <a:xfrm rot="19740000">
              <a:off x="4671720" y="6146640"/>
              <a:ext cx="571320" cy="208080"/>
            </a:xfrm>
            <a:prstGeom prst="rightArrow">
              <a:avLst>
                <a:gd name="adj1" fmla="val 50000"/>
                <a:gd name="adj2" fmla="val 50286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45"/>
            <p:cNvSpPr/>
            <p:nvPr/>
          </p:nvSpPr>
          <p:spPr>
            <a:xfrm>
              <a:off x="3511440" y="4067280"/>
              <a:ext cx="2867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Berlin Sans FB Demi"/>
                </a:rPr>
                <a:t>C. Varios  antecedentes pueden dar lugar a otro     consecue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AutoShape 46"/>
          <p:cNvSpPr/>
          <p:nvPr/>
        </p:nvSpPr>
        <p:spPr>
          <a:xfrm>
            <a:off x="189000" y="8659800"/>
            <a:ext cx="260280" cy="376200"/>
          </a:xfrm>
          <a:custGeom>
            <a:avLst/>
            <a:gdLst>
              <a:gd name="textAreaLeft" fmla="*/ 16560 w 260280"/>
              <a:gd name="textAreaRight" fmla="*/ 243720 w 260280"/>
              <a:gd name="textAreaTop" fmla="*/ 16560 h 376200"/>
              <a:gd name="textAreaBottom" fmla="*/ 359640 h 376200"/>
            </a:gdLst>
            <a:ahLst/>
            <a:rect l="textAreaLeft" t="textAreaTop" r="textAreaRight" b="textAreaBottom"/>
            <a:pathLst>
              <a:path w="21600" h="31207">
                <a:moveTo>
                  <a:pt x="0" y="0"/>
                </a:moveTo>
                <a:lnTo>
                  <a:pt x="21600" y="0"/>
                </a:lnTo>
                <a:lnTo>
                  <a:pt x="21600" y="31207"/>
                </a:lnTo>
                <a:lnTo>
                  <a:pt x="0" y="31207"/>
                </a:lnTo>
                <a:close/>
              </a:path>
              <a:path fill="lightenLess" w="21600" h="312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207">
                <a:moveTo>
                  <a:pt x="21600" y="0"/>
                </a:moveTo>
                <a:lnTo>
                  <a:pt x="21600" y="31207"/>
                </a:lnTo>
                <a:lnTo>
                  <a:pt x="20200" y="29807"/>
                </a:lnTo>
                <a:lnTo>
                  <a:pt x="20200" y="1400"/>
                </a:lnTo>
                <a:close/>
              </a:path>
              <a:path fill="darkenLess" w="21600" h="31207">
                <a:moveTo>
                  <a:pt x="21600" y="31207"/>
                </a:moveTo>
                <a:lnTo>
                  <a:pt x="0" y="31207"/>
                </a:lnTo>
                <a:lnTo>
                  <a:pt x="1400" y="29807"/>
                </a:lnTo>
                <a:lnTo>
                  <a:pt x="20200" y="29807"/>
                </a:lnTo>
                <a:close/>
              </a:path>
              <a:path fill="lighten" w="21600" h="31207">
                <a:moveTo>
                  <a:pt x="0" y="312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807"/>
                </a:lnTo>
                <a:close/>
              </a:path>
              <a:path fill="darken" w="21600" h="31207">
                <a:moveTo>
                  <a:pt x="3794" y="12296"/>
                </a:moveTo>
                <a:lnTo>
                  <a:pt x="7301" y="12296"/>
                </a:lnTo>
                <a:lnTo>
                  <a:pt x="7301" y="17631"/>
                </a:lnTo>
                <a:cubicBezTo>
                  <a:pt x="7301" y="18554"/>
                  <a:pt x="8102" y="19285"/>
                  <a:pt x="9138" y="19285"/>
                </a:cubicBezTo>
                <a:lnTo>
                  <a:pt x="10800" y="19285"/>
                </a:lnTo>
                <a:cubicBezTo>
                  <a:pt x="11836" y="19285"/>
                  <a:pt x="12636" y="18554"/>
                  <a:pt x="12636" y="17631"/>
                </a:cubicBezTo>
                <a:lnTo>
                  <a:pt x="12636" y="12296"/>
                </a:lnTo>
                <a:lnTo>
                  <a:pt x="10800" y="12296"/>
                </a:lnTo>
                <a:lnTo>
                  <a:pt x="14308" y="8788"/>
                </a:lnTo>
                <a:lnTo>
                  <a:pt x="17981" y="12296"/>
                </a:lnTo>
                <a:lnTo>
                  <a:pt x="16144" y="12296"/>
                </a:lnTo>
                <a:lnTo>
                  <a:pt x="16144" y="17631"/>
                </a:lnTo>
                <a:cubicBezTo>
                  <a:pt x="16144" y="20399"/>
                  <a:pt x="13568" y="22958"/>
                  <a:pt x="10800" y="22958"/>
                </a:cubicBezTo>
                <a:lnTo>
                  <a:pt x="9138" y="22958"/>
                </a:lnTo>
                <a:cubicBezTo>
                  <a:pt x="6370" y="22958"/>
                  <a:pt x="3794" y="20399"/>
                  <a:pt x="3794" y="17631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47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48"/>
          <p:cNvSpPr/>
          <p:nvPr/>
        </p:nvSpPr>
        <p:spPr>
          <a:xfrm>
            <a:off x="5805360" y="32400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7493"/>
                </a:moveTo>
                <a:lnTo>
                  <a:pt x="9713" y="7493"/>
                </a:lnTo>
                <a:lnTo>
                  <a:pt x="9713" y="12828"/>
                </a:lnTo>
                <a:cubicBezTo>
                  <a:pt x="9713" y="13751"/>
                  <a:pt x="10514" y="14482"/>
                  <a:pt x="11550" y="14482"/>
                </a:cubicBezTo>
                <a:lnTo>
                  <a:pt x="13212" y="14482"/>
                </a:lnTo>
                <a:cubicBezTo>
                  <a:pt x="14248" y="14482"/>
                  <a:pt x="15048" y="13751"/>
                  <a:pt x="15048" y="12828"/>
                </a:cubicBezTo>
                <a:lnTo>
                  <a:pt x="15048" y="7493"/>
                </a:lnTo>
                <a:lnTo>
                  <a:pt x="13212" y="7493"/>
                </a:lnTo>
                <a:lnTo>
                  <a:pt x="16720" y="3985"/>
                </a:lnTo>
                <a:lnTo>
                  <a:pt x="20393" y="7493"/>
                </a:lnTo>
                <a:lnTo>
                  <a:pt x="18556" y="7493"/>
                </a:lnTo>
                <a:lnTo>
                  <a:pt x="18556" y="12828"/>
                </a:lnTo>
                <a:cubicBezTo>
                  <a:pt x="18556" y="15596"/>
                  <a:pt x="15980" y="18155"/>
                  <a:pt x="13212" y="18155"/>
                </a:cubicBezTo>
                <a:lnTo>
                  <a:pt x="11550" y="18155"/>
                </a:lnTo>
                <a:cubicBezTo>
                  <a:pt x="8782" y="18155"/>
                  <a:pt x="6206" y="15596"/>
                  <a:pt x="6206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Arial"/>
              </a:rPr>
              <a:t>Leer para comprender y apren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1A26A-3097-4E26-9E73-C64C2E026081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536400" y="165240"/>
            <a:ext cx="5348520" cy="812520"/>
            <a:chOff x="536400" y="165240"/>
            <a:chExt cx="5348520" cy="812520"/>
          </a:xfrm>
        </p:grpSpPr>
        <p:pic>
          <p:nvPicPr>
            <p:cNvPr id="396" name="Picture 4" descr=""/>
            <p:cNvPicPr/>
            <p:nvPr/>
          </p:nvPicPr>
          <p:blipFill>
            <a:blip r:embed="rId1"/>
            <a:stretch/>
          </p:blipFill>
          <p:spPr>
            <a:xfrm>
              <a:off x="536400" y="165240"/>
              <a:ext cx="534852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5"/>
            <p:cNvSpPr/>
            <p:nvPr/>
          </p:nvSpPr>
          <p:spPr>
            <a:xfrm>
              <a:off x="620640" y="250920"/>
              <a:ext cx="51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DESCRIPCIÓ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Text Box 6"/>
          <p:cNvSpPr/>
          <p:nvPr/>
        </p:nvSpPr>
        <p:spPr>
          <a:xfrm>
            <a:off x="620640" y="118728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</a:t>
            </a:r>
            <a:r>
              <a:rPr b="1" lang="es-ES" sz="1800" spc="-1" strike="noStrike">
                <a:solidFill>
                  <a:srgbClr val="fcf4c7"/>
                </a:solidFill>
                <a:latin typeface="Arial"/>
              </a:rPr>
              <a:t>? </a:t>
            </a: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Cuando  un determinado acontecimiento o hecho (ejemplo: país), se describen diversos aspectos ( geografía, cultura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RESPECTO A”  “POR UN LADO, POR OTR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EN CUANTO A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1052640" y="2843280"/>
            <a:ext cx="4460040" cy="3381480"/>
            <a:chOff x="1052640" y="2843280"/>
            <a:chExt cx="4460040" cy="3381480"/>
          </a:xfrm>
        </p:grpSpPr>
        <p:grpSp>
          <p:nvGrpSpPr>
            <p:cNvPr id="402" name="Group 10"/>
            <p:cNvGrpSpPr/>
            <p:nvPr/>
          </p:nvGrpSpPr>
          <p:grpSpPr>
            <a:xfrm>
              <a:off x="1052640" y="2843280"/>
              <a:ext cx="1963440" cy="1253880"/>
              <a:chOff x="1052640" y="2843280"/>
              <a:chExt cx="1963440" cy="1253880"/>
            </a:xfrm>
          </p:grpSpPr>
          <p:pic>
            <p:nvPicPr>
              <p:cNvPr id="403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52640" y="2843280"/>
                <a:ext cx="1963440" cy="12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Text Box 12"/>
              <p:cNvSpPr/>
              <p:nvPr/>
            </p:nvSpPr>
            <p:spPr>
              <a:xfrm>
                <a:off x="1187280" y="2979720"/>
                <a:ext cx="169236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SPAÑ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3"/>
            <p:cNvGrpSpPr/>
            <p:nvPr/>
          </p:nvGrpSpPr>
          <p:grpSpPr>
            <a:xfrm>
              <a:off x="3548880" y="4970520"/>
              <a:ext cx="1963800" cy="1254240"/>
              <a:chOff x="3548880" y="4970520"/>
              <a:chExt cx="1963800" cy="1254240"/>
            </a:xfrm>
          </p:grpSpPr>
          <p:pic>
            <p:nvPicPr>
              <p:cNvPr id="40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3548880" y="4970520"/>
                <a:ext cx="1963800" cy="125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Text Box 15"/>
              <p:cNvSpPr/>
              <p:nvPr/>
            </p:nvSpPr>
            <p:spPr>
              <a:xfrm>
                <a:off x="3683880" y="5102280"/>
                <a:ext cx="169056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CONOMÍ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6"/>
            <p:cNvGrpSpPr/>
            <p:nvPr/>
          </p:nvGrpSpPr>
          <p:grpSpPr>
            <a:xfrm>
              <a:off x="3548880" y="3532320"/>
              <a:ext cx="1963800" cy="1253880"/>
              <a:chOff x="3548880" y="3532320"/>
              <a:chExt cx="1963800" cy="1253880"/>
            </a:xfrm>
          </p:grpSpPr>
          <p:pic>
            <p:nvPicPr>
              <p:cNvPr id="409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8880" y="3532320"/>
                <a:ext cx="1963800" cy="12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Text Box 18"/>
              <p:cNvSpPr/>
              <p:nvPr/>
            </p:nvSpPr>
            <p:spPr>
              <a:xfrm>
                <a:off x="3683880" y="3664080"/>
                <a:ext cx="169056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GEOGRAFÍ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1" name="Line 19"/>
            <p:cNvSpPr/>
            <p:nvPr/>
          </p:nvSpPr>
          <p:spPr>
            <a:xfrm>
              <a:off x="1131840" y="3336840"/>
              <a:ext cx="179892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>
              <a:off x="3629880" y="4022640"/>
              <a:ext cx="179892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>
              <a:off x="3629880" y="5459400"/>
              <a:ext cx="179892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>
              <a:off x="2588040" y="4022640"/>
              <a:ext cx="1038240" cy="54468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>
              <a:off x="2518200" y="4091040"/>
              <a:ext cx="0" cy="163980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2518200" y="5734080"/>
              <a:ext cx="1106280" cy="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AutoShape 25"/>
          <p:cNvSpPr/>
          <p:nvPr/>
        </p:nvSpPr>
        <p:spPr>
          <a:xfrm>
            <a:off x="5877000" y="25092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7493"/>
                </a:moveTo>
                <a:lnTo>
                  <a:pt x="9678" y="7493"/>
                </a:lnTo>
                <a:lnTo>
                  <a:pt x="9678" y="12828"/>
                </a:lnTo>
                <a:cubicBezTo>
                  <a:pt x="9678" y="13751"/>
                  <a:pt x="10479" y="14482"/>
                  <a:pt x="11514" y="14482"/>
                </a:cubicBezTo>
                <a:lnTo>
                  <a:pt x="13177" y="14482"/>
                </a:lnTo>
                <a:cubicBezTo>
                  <a:pt x="14212" y="14482"/>
                  <a:pt x="15013" y="13751"/>
                  <a:pt x="15013" y="12828"/>
                </a:cubicBezTo>
                <a:lnTo>
                  <a:pt x="15013" y="7493"/>
                </a:lnTo>
                <a:lnTo>
                  <a:pt x="13177" y="7493"/>
                </a:lnTo>
                <a:lnTo>
                  <a:pt x="16684" y="3985"/>
                </a:lnTo>
                <a:lnTo>
                  <a:pt x="20357" y="7493"/>
                </a:lnTo>
                <a:lnTo>
                  <a:pt x="18521" y="7493"/>
                </a:lnTo>
                <a:lnTo>
                  <a:pt x="18521" y="12828"/>
                </a:lnTo>
                <a:cubicBezTo>
                  <a:pt x="18521" y="15596"/>
                  <a:pt x="15944" y="18155"/>
                  <a:pt x="13177" y="18155"/>
                </a:cubicBezTo>
                <a:lnTo>
                  <a:pt x="11514" y="18155"/>
                </a:lnTo>
                <a:cubicBezTo>
                  <a:pt x="8747" y="18155"/>
                  <a:pt x="6170" y="15596"/>
                  <a:pt x="617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08C9B-A894-4FA0-94CC-71D8BBCE6531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2"/>
          <p:cNvGrpSpPr/>
          <p:nvPr/>
        </p:nvGrpSpPr>
        <p:grpSpPr>
          <a:xfrm>
            <a:off x="536400" y="165240"/>
            <a:ext cx="5348520" cy="812520"/>
            <a:chOff x="536400" y="165240"/>
            <a:chExt cx="5348520" cy="812520"/>
          </a:xfrm>
        </p:grpSpPr>
        <p:pic>
          <p:nvPicPr>
            <p:cNvPr id="420" name="Picture 3" descr=""/>
            <p:cNvPicPr/>
            <p:nvPr/>
          </p:nvPicPr>
          <p:blipFill>
            <a:blip r:embed="rId1"/>
            <a:stretch/>
          </p:blipFill>
          <p:spPr>
            <a:xfrm>
              <a:off x="536400" y="165240"/>
              <a:ext cx="534852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 Box 4"/>
            <p:cNvSpPr/>
            <p:nvPr/>
          </p:nvSpPr>
          <p:spPr>
            <a:xfrm>
              <a:off x="620640" y="250920"/>
              <a:ext cx="51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SECUENCI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Text Box 5"/>
          <p:cNvSpPr/>
          <p:nvPr/>
        </p:nvSpPr>
        <p:spPr>
          <a:xfrm>
            <a:off x="620640" y="82692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</a:t>
            </a:r>
            <a:r>
              <a:rPr b="1" lang="es-ES" sz="1800" spc="-1" strike="noStrike">
                <a:solidFill>
                  <a:srgbClr val="fcf4c7"/>
                </a:solidFill>
                <a:latin typeface="Arial"/>
              </a:rPr>
              <a:t>? </a:t>
            </a: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Cuando  se describen los pasos o fases de un hecho a lo largo del tiem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Ejemplo: cómo se formó la tier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6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PRIMERAMENTE”  “MÁS TARDE, POSTERIOEMENT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SEGUIDAMENTE” “FINALMENTE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Group 8"/>
          <p:cNvGrpSpPr/>
          <p:nvPr/>
        </p:nvGrpSpPr>
        <p:grpSpPr>
          <a:xfrm>
            <a:off x="692280" y="3059280"/>
            <a:ext cx="5470560" cy="2517480"/>
            <a:chOff x="692280" y="3059280"/>
            <a:chExt cx="5470560" cy="2517480"/>
          </a:xfrm>
        </p:grpSpPr>
        <p:grpSp>
          <p:nvGrpSpPr>
            <p:cNvPr id="426" name="Group 9"/>
            <p:cNvGrpSpPr/>
            <p:nvPr/>
          </p:nvGrpSpPr>
          <p:grpSpPr>
            <a:xfrm>
              <a:off x="692280" y="4745160"/>
              <a:ext cx="1695240" cy="831600"/>
              <a:chOff x="692280" y="4745160"/>
              <a:chExt cx="1695240" cy="831600"/>
            </a:xfrm>
          </p:grpSpPr>
          <p:pic>
            <p:nvPicPr>
              <p:cNvPr id="427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692280" y="4745160"/>
                <a:ext cx="1695240" cy="83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1"/>
              <p:cNvSpPr/>
              <p:nvPr/>
            </p:nvSpPr>
            <p:spPr>
              <a:xfrm>
                <a:off x="806400" y="4859280"/>
                <a:ext cx="1467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PRIMER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9" name="Line 12"/>
            <p:cNvSpPr/>
            <p:nvPr/>
          </p:nvSpPr>
          <p:spPr>
            <a:xfrm>
              <a:off x="841320" y="5097600"/>
              <a:ext cx="146520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0" name="Group 13"/>
            <p:cNvGrpSpPr/>
            <p:nvPr/>
          </p:nvGrpSpPr>
          <p:grpSpPr>
            <a:xfrm>
              <a:off x="4467240" y="4745160"/>
              <a:ext cx="1695600" cy="831600"/>
              <a:chOff x="4467240" y="4745160"/>
              <a:chExt cx="1695600" cy="831600"/>
            </a:xfrm>
          </p:grpSpPr>
          <p:pic>
            <p:nvPicPr>
              <p:cNvPr id="431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4467240" y="4745160"/>
                <a:ext cx="1695600" cy="83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2" name="Text Box 15"/>
              <p:cNvSpPr/>
              <p:nvPr/>
            </p:nvSpPr>
            <p:spPr>
              <a:xfrm>
                <a:off x="4581360" y="4859280"/>
                <a:ext cx="1467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TERCER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16"/>
            <p:cNvGrpSpPr/>
            <p:nvPr/>
          </p:nvGrpSpPr>
          <p:grpSpPr>
            <a:xfrm>
              <a:off x="2579760" y="4745160"/>
              <a:ext cx="1695240" cy="831600"/>
              <a:chOff x="2579760" y="4745160"/>
              <a:chExt cx="1695240" cy="831600"/>
            </a:xfrm>
          </p:grpSpPr>
          <p:pic>
            <p:nvPicPr>
              <p:cNvPr id="434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9760" y="4745160"/>
                <a:ext cx="1695240" cy="83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Text Box 18"/>
              <p:cNvSpPr/>
              <p:nvPr/>
            </p:nvSpPr>
            <p:spPr>
              <a:xfrm>
                <a:off x="2693880" y="4859280"/>
                <a:ext cx="1467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SEGUND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6" name="Line 19"/>
            <p:cNvSpPr/>
            <p:nvPr/>
          </p:nvSpPr>
          <p:spPr>
            <a:xfrm>
              <a:off x="2728800" y="5097600"/>
              <a:ext cx="146520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0"/>
            <p:cNvSpPr/>
            <p:nvPr/>
          </p:nvSpPr>
          <p:spPr>
            <a:xfrm>
              <a:off x="4616280" y="5097600"/>
              <a:ext cx="146556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8" name="Group 21"/>
            <p:cNvGrpSpPr/>
            <p:nvPr/>
          </p:nvGrpSpPr>
          <p:grpSpPr>
            <a:xfrm>
              <a:off x="4467240" y="4002120"/>
              <a:ext cx="1671480" cy="493560"/>
              <a:chOff x="4467240" y="4002120"/>
              <a:chExt cx="1671480" cy="493560"/>
            </a:xfrm>
          </p:grpSpPr>
          <p:pic>
            <p:nvPicPr>
              <p:cNvPr id="439" name="Picture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4467240" y="4002120"/>
                <a:ext cx="167148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Text Box 23"/>
              <p:cNvSpPr/>
              <p:nvPr/>
            </p:nvSpPr>
            <p:spPr>
              <a:xfrm>
                <a:off x="4564080" y="4100400"/>
                <a:ext cx="14731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24"/>
            <p:cNvGrpSpPr/>
            <p:nvPr/>
          </p:nvGrpSpPr>
          <p:grpSpPr>
            <a:xfrm>
              <a:off x="4467240" y="3059280"/>
              <a:ext cx="1671480" cy="493560"/>
              <a:chOff x="4467240" y="3059280"/>
              <a:chExt cx="1671480" cy="493560"/>
            </a:xfrm>
          </p:grpSpPr>
          <p:pic>
            <p:nvPicPr>
              <p:cNvPr id="442" name="Picture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4467240" y="3059280"/>
                <a:ext cx="167148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Text Box 26"/>
              <p:cNvSpPr/>
              <p:nvPr/>
            </p:nvSpPr>
            <p:spPr>
              <a:xfrm>
                <a:off x="4564080" y="3154320"/>
                <a:ext cx="14731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27"/>
            <p:cNvGrpSpPr/>
            <p:nvPr/>
          </p:nvGrpSpPr>
          <p:grpSpPr>
            <a:xfrm>
              <a:off x="4467240" y="3533760"/>
              <a:ext cx="1671480" cy="493560"/>
              <a:chOff x="4467240" y="3533760"/>
              <a:chExt cx="1671480" cy="493560"/>
            </a:xfrm>
          </p:grpSpPr>
          <p:pic>
            <p:nvPicPr>
              <p:cNvPr id="445" name="Picture 28" descr=""/>
              <p:cNvPicPr/>
              <p:nvPr/>
            </p:nvPicPr>
            <p:blipFill>
              <a:blip r:embed="rId7"/>
              <a:stretch/>
            </p:blipFill>
            <p:spPr>
              <a:xfrm>
                <a:off x="4467240" y="3533760"/>
                <a:ext cx="167148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29"/>
              <p:cNvSpPr/>
              <p:nvPr/>
            </p:nvSpPr>
            <p:spPr>
              <a:xfrm>
                <a:off x="4564080" y="3627360"/>
                <a:ext cx="14731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7" name="AutoShape 30"/>
            <p:cNvSpPr/>
            <p:nvPr/>
          </p:nvSpPr>
          <p:spPr>
            <a:xfrm>
              <a:off x="2309760" y="5029200"/>
              <a:ext cx="338040" cy="260280"/>
            </a:xfrm>
            <a:prstGeom prst="rightArrow">
              <a:avLst>
                <a:gd name="adj1" fmla="val 50000"/>
                <a:gd name="adj2" fmla="val 5177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31"/>
            <p:cNvSpPr/>
            <p:nvPr/>
          </p:nvSpPr>
          <p:spPr>
            <a:xfrm>
              <a:off x="4197240" y="5097600"/>
              <a:ext cx="338400" cy="258480"/>
            </a:xfrm>
            <a:prstGeom prst="rightArrow">
              <a:avLst>
                <a:gd name="adj1" fmla="val 50000"/>
                <a:gd name="adj2" fmla="val 51895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utoShape 32"/>
            <p:cNvSpPr/>
            <p:nvPr/>
          </p:nvSpPr>
          <p:spPr>
            <a:xfrm>
              <a:off x="5316480" y="3273480"/>
              <a:ext cx="136440" cy="334800"/>
            </a:xfrm>
            <a:prstGeom prst="downArrow">
              <a:avLst>
                <a:gd name="adj1" fmla="val 50000"/>
                <a:gd name="adj2" fmla="val 4919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AutoShape 33"/>
            <p:cNvSpPr/>
            <p:nvPr/>
          </p:nvSpPr>
          <p:spPr>
            <a:xfrm>
              <a:off x="5316480" y="3813120"/>
              <a:ext cx="136440" cy="335160"/>
            </a:xfrm>
            <a:prstGeom prst="downArrow">
              <a:avLst>
                <a:gd name="adj1" fmla="val 50000"/>
                <a:gd name="adj2" fmla="val 49243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Rectangle 34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35"/>
          <p:cNvSpPr/>
          <p:nvPr/>
        </p:nvSpPr>
        <p:spPr>
          <a:xfrm>
            <a:off x="5950080" y="25092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3794" y="7517"/>
                </a:moveTo>
                <a:lnTo>
                  <a:pt x="7301" y="7517"/>
                </a:lnTo>
                <a:lnTo>
                  <a:pt x="7301" y="12852"/>
                </a:lnTo>
                <a:cubicBezTo>
                  <a:pt x="7301" y="13775"/>
                  <a:pt x="8102" y="14506"/>
                  <a:pt x="9138" y="14506"/>
                </a:cubicBezTo>
                <a:lnTo>
                  <a:pt x="10800" y="14506"/>
                </a:lnTo>
                <a:cubicBezTo>
                  <a:pt x="11836" y="14506"/>
                  <a:pt x="12636" y="13775"/>
                  <a:pt x="12636" y="12852"/>
                </a:cubicBezTo>
                <a:lnTo>
                  <a:pt x="12636" y="7517"/>
                </a:lnTo>
                <a:lnTo>
                  <a:pt x="10800" y="7517"/>
                </a:lnTo>
                <a:lnTo>
                  <a:pt x="14308" y="4009"/>
                </a:lnTo>
                <a:lnTo>
                  <a:pt x="17981" y="7517"/>
                </a:lnTo>
                <a:lnTo>
                  <a:pt x="16144" y="7517"/>
                </a:lnTo>
                <a:lnTo>
                  <a:pt x="16144" y="12852"/>
                </a:lnTo>
                <a:cubicBezTo>
                  <a:pt x="16144" y="15620"/>
                  <a:pt x="13568" y="18179"/>
                  <a:pt x="10800" y="18179"/>
                </a:cubicBezTo>
                <a:lnTo>
                  <a:pt x="9138" y="18179"/>
                </a:lnTo>
                <a:cubicBezTo>
                  <a:pt x="6370" y="18179"/>
                  <a:pt x="3794" y="15620"/>
                  <a:pt x="3794" y="12852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B7D1B-3011-4CC8-8557-479111BBE12E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4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455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5. </a:t>
              </a:r>
              <a:r>
                <a:rPr b="0" lang="es-ES" sz="2000" spc="-1" strike="noStrike">
                  <a:solidFill>
                    <a:srgbClr val="000000"/>
                  </a:solidFill>
                  <a:latin typeface="Berlin Sans FB Demi"/>
                </a:rPr>
                <a:t>LOCALIZACIÓN DE LOS COMPONENTES DE LA ORGANIZACIÓN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Text Box 5"/>
          <p:cNvSpPr/>
          <p:nvPr/>
        </p:nvSpPr>
        <p:spPr>
          <a:xfrm>
            <a:off x="765000" y="2050920"/>
            <a:ext cx="532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iste en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averigu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n qué párrafos se encuentran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los componentes básico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la orga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ello debéis haceros las siguientes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preguntas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¿Dónde están…. Las causas, las consecuencias, los problemas, las soluciones, las fases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FA9DC-3F99-4C6C-9160-F9965B94758C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461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6 . CONSTRUCCIÓN DEL ESQUEMA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Text Box 5"/>
          <p:cNvSpPr/>
          <p:nvPr/>
        </p:nvSpPr>
        <p:spPr>
          <a:xfrm>
            <a:off x="620640" y="1835280"/>
            <a:ext cx="540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iste en realizar el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</a:rPr>
              <a:t>GRÁFICO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xprese la organización general del texto y refleje el número de componentes localizados en cada párraf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éis tener claro que el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</a:rPr>
              <a:t>esquem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s la </a:t>
            </a:r>
            <a:r>
              <a:rPr b="0" lang="es-ES" sz="2000" spc="-1" strike="noStrike">
                <a:solidFill>
                  <a:srgbClr val="f9e98e"/>
                </a:solidFill>
                <a:latin typeface="Arial"/>
              </a:rPr>
              <a:t>forma de organizar la informació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traída del análisis del tex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preciso hacerse las siguientes pregunta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Qué representación gráfica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rresponde a este tipo de organizac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Cuántos component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o reflejar para poder interpretar el texto y poder organizar mis id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olvidéis que existen cinco formas básicas de organizar la información en los textos y que a cada una corresponde un tipo de representación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7FD24-412F-48A3-9E37-B24BB4642B80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467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7. </a:t>
              </a:r>
              <a:r>
                <a:rPr b="0" lang="es-ES" sz="2000" spc="-1" strike="noStrike">
                  <a:solidFill>
                    <a:srgbClr val="000000"/>
                  </a:solidFill>
                  <a:latin typeface="Berlin Sans FB Demi"/>
                </a:rPr>
                <a:t>CONSTRUCCIÓN DEL SIGNIFICADO: RESUM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Text Box 5"/>
          <p:cNvSpPr/>
          <p:nvPr/>
        </p:nvSpPr>
        <p:spPr>
          <a:xfrm>
            <a:off x="620640" y="1979640"/>
            <a:ext cx="540072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9e98e"/>
                </a:solidFill>
                <a:latin typeface="Arial"/>
              </a:rPr>
              <a:t>Debéis tener cla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é un resum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No es un simple tít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No consiste e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ubrayar, quitar lo redundante y copiar literalmente una lista de elementos, sin ninguna organización, continuidad y coh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 buen resu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Debe ser breve y precis</a:t>
            </a:r>
            <a:r>
              <a:rPr b="0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nsiste en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expresar con vuestras propias palabr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las ideas principal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l análisis global del texto, con organización, continuidad y coh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rtir de la información que ya conocéis y ampliarla con la información nueva que os aporta el texto para aumentar vuestros conocimi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2343240" y="8562960"/>
            <a:ext cx="396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45531-D88A-4999-A534-EB28BBF8DD6B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76280" y="826920"/>
            <a:ext cx="5977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¿Qué podemos hacer para comprender y aprender de forma eficaz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BAF7E-1928-47D3-B5E7-62EFB212FB00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981000" y="68436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rlin Sans FB Demi"/>
              </a:rPr>
              <a:t>Para comprender bien cualquier texto escrito, debéis seguir los pasos siguie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1133640" y="1504800"/>
            <a:ext cx="4724280" cy="62485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1557360" y="8459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294E4-E02A-4BDF-80D4-D8C21732252E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31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1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LECTURA GLOBAL DEL TEX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Text Box 5"/>
          <p:cNvSpPr/>
          <p:nvPr/>
        </p:nvSpPr>
        <p:spPr>
          <a:xfrm>
            <a:off x="692280" y="2195640"/>
            <a:ext cx="554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ómo ha de ser esa lectura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RÁP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Para qué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Para hacernos una idea general del text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7F066-AD8A-457F-87D7-FC1293E5F826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37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2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LECTURA DE CADA PÁRRAF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Text Box 5"/>
          <p:cNvSpPr/>
          <p:nvPr/>
        </p:nvSpPr>
        <p:spPr>
          <a:xfrm>
            <a:off x="692280" y="1692360"/>
            <a:ext cx="554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Cómo ha de ser esa lectura?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</a:rPr>
              <a:t>DETEN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¿Para qué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Para determinar cuál es el asunto central sobre el que giran las ideas contenidas en cada párra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Debéis poner </a:t>
            </a:r>
            <a:r>
              <a:rPr b="1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UN TÍTULO</a:t>
            </a:r>
            <a:r>
              <a:rPr b="1" lang="es-ES" sz="2400" spc="-1" strike="noStrike">
                <a:solidFill>
                  <a:srgbClr val="f7df56"/>
                </a:solidFill>
                <a:latin typeface="Berlin Sans FB Demi"/>
                <a:ea typeface="Arial"/>
              </a:rPr>
              <a:t>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a cada párrafo y colocarlo al lado , en el margen izquierdo de la ho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Debéis tener cla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Que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el título no es un resumen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, basta con una palabra o un par de el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El título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no es el primer nombre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que aparece en el párraf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El título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debe reflejar el tema específico del párrafo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y no el tema general del tex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Arial"/>
              </a:rPr>
              <a:t>Leer para comprender y apren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FD7CD-3E0E-46C6-9F97-BC8F4C38C9CB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44" name="Picture 4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5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3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REPASO DE LOS TÍTUL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Text Box 6"/>
          <p:cNvSpPr/>
          <p:nvPr/>
        </p:nvSpPr>
        <p:spPr>
          <a:xfrm>
            <a:off x="692280" y="2195640"/>
            <a:ext cx="554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béis repasar todos los títul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Para qué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Para quedaros con el título más válido de cada párraf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F328E-C722-4E66-AE00-77A8CAD63E93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49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Berlin Sans FB Demi"/>
                </a:rPr>
                <a:t>4. ORGANIZACIÓ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Text Box 5"/>
          <p:cNvSpPr/>
          <p:nvPr/>
        </p:nvSpPr>
        <p:spPr>
          <a:xfrm>
            <a:off x="692280" y="1692360"/>
            <a:ext cx="5832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siste </a:t>
            </a:r>
            <a:r>
              <a:rPr b="0" lang="es-ES" sz="2800" spc="-1" strike="noStrike">
                <a:solidFill>
                  <a:srgbClr val="f7df56"/>
                </a:solidFill>
                <a:latin typeface="Arial"/>
              </a:rPr>
              <a:t>en reconocer la organización interna del tex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béis tener cla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e todo texto escrito tiene un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é existen formas distintas de organizar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é estas formas pueden ser detectadas y representadas gráfica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formas hay de organizar el tex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57D16-722B-449E-9728-11816637070D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692280" y="611280"/>
            <a:ext cx="5832360" cy="82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formas hay de organizar el tex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COMPARA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PROBLEMA-SOLU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CAUSALIDA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DESCRIP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SECUENC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677F4-059D-4AA6-967F-89416D8031A5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2"/>
          <p:cNvGrpSpPr/>
          <p:nvPr/>
        </p:nvGrpSpPr>
        <p:grpSpPr>
          <a:xfrm>
            <a:off x="1109520" y="311040"/>
            <a:ext cx="4416480" cy="874800"/>
            <a:chOff x="1109520" y="311040"/>
            <a:chExt cx="4416480" cy="874800"/>
          </a:xfrm>
        </p:grpSpPr>
        <p:pic>
          <p:nvPicPr>
            <p:cNvPr id="258" name="Picture 3" descr=""/>
            <p:cNvPicPr/>
            <p:nvPr/>
          </p:nvPicPr>
          <p:blipFill>
            <a:blip r:embed="rId1"/>
            <a:stretch/>
          </p:blipFill>
          <p:spPr>
            <a:xfrm>
              <a:off x="1109520" y="311040"/>
              <a:ext cx="441648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4"/>
            <p:cNvSpPr/>
            <p:nvPr/>
          </p:nvSpPr>
          <p:spPr>
            <a:xfrm>
              <a:off x="1197000" y="395280"/>
              <a:ext cx="424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4000" spc="-1" strike="noStrike">
                  <a:solidFill>
                    <a:srgbClr val="000000"/>
                  </a:solidFill>
                  <a:latin typeface="Berlin Sans FB Demi"/>
                </a:rPr>
                <a:t>COMPARACIÓ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5"/>
          <p:cNvSpPr/>
          <p:nvPr/>
        </p:nvSpPr>
        <p:spPr>
          <a:xfrm>
            <a:off x="620640" y="1619280"/>
            <a:ext cx="5545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</a:rPr>
              <a:t>Cuando el texto consiste en comparar dos o más elementos o fenóme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20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836640" y="3708360"/>
            <a:ext cx="5110200" cy="2948040"/>
            <a:chOff x="836640" y="3708360"/>
            <a:chExt cx="5110200" cy="2948040"/>
          </a:xfrm>
        </p:grpSpPr>
        <p:grpSp>
          <p:nvGrpSpPr>
            <p:cNvPr id="262" name="Group 7"/>
            <p:cNvGrpSpPr/>
            <p:nvPr/>
          </p:nvGrpSpPr>
          <p:grpSpPr>
            <a:xfrm>
              <a:off x="836640" y="3708360"/>
              <a:ext cx="1565280" cy="838080"/>
              <a:chOff x="836640" y="3708360"/>
              <a:chExt cx="1565280" cy="838080"/>
            </a:xfrm>
          </p:grpSpPr>
          <p:pic>
            <p:nvPicPr>
              <p:cNvPr id="263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836640" y="370836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954000" y="3824280"/>
                <a:ext cx="133200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10"/>
            <p:cNvGrpSpPr/>
            <p:nvPr/>
          </p:nvGrpSpPr>
          <p:grpSpPr>
            <a:xfrm>
              <a:off x="4381560" y="3708360"/>
              <a:ext cx="1565280" cy="838080"/>
              <a:chOff x="4381560" y="3708360"/>
              <a:chExt cx="1565280" cy="838080"/>
            </a:xfrm>
          </p:grpSpPr>
          <p:pic>
            <p:nvPicPr>
              <p:cNvPr id="266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1560" y="370836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Text Box 12"/>
              <p:cNvSpPr/>
              <p:nvPr/>
            </p:nvSpPr>
            <p:spPr>
              <a:xfrm>
                <a:off x="4498920" y="3824280"/>
                <a:ext cx="133200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13"/>
            <p:cNvGrpSpPr/>
            <p:nvPr/>
          </p:nvGrpSpPr>
          <p:grpSpPr>
            <a:xfrm>
              <a:off x="1425600" y="4797360"/>
              <a:ext cx="1565280" cy="838440"/>
              <a:chOff x="1425600" y="4797360"/>
              <a:chExt cx="1565280" cy="838440"/>
            </a:xfrm>
          </p:grpSpPr>
          <p:pic>
            <p:nvPicPr>
              <p:cNvPr id="269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5600" y="4797360"/>
                <a:ext cx="1565280" cy="83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Text Box 15"/>
              <p:cNvSpPr/>
              <p:nvPr/>
            </p:nvSpPr>
            <p:spPr>
              <a:xfrm>
                <a:off x="1544760" y="4913280"/>
                <a:ext cx="133164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6"/>
            <p:cNvGrpSpPr/>
            <p:nvPr/>
          </p:nvGrpSpPr>
          <p:grpSpPr>
            <a:xfrm>
              <a:off x="1425600" y="5818320"/>
              <a:ext cx="1565280" cy="838080"/>
              <a:chOff x="1425600" y="5818320"/>
              <a:chExt cx="1565280" cy="838080"/>
            </a:xfrm>
          </p:grpSpPr>
          <p:pic>
            <p:nvPicPr>
              <p:cNvPr id="272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425600" y="581832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Text Box 18"/>
              <p:cNvSpPr/>
              <p:nvPr/>
            </p:nvSpPr>
            <p:spPr>
              <a:xfrm>
                <a:off x="1544760" y="5934240"/>
                <a:ext cx="1331640" cy="61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19"/>
            <p:cNvGrpSpPr/>
            <p:nvPr/>
          </p:nvGrpSpPr>
          <p:grpSpPr>
            <a:xfrm>
              <a:off x="3419640" y="4797360"/>
              <a:ext cx="1565280" cy="838440"/>
              <a:chOff x="3419640" y="4797360"/>
              <a:chExt cx="1565280" cy="838440"/>
            </a:xfrm>
          </p:grpSpPr>
          <p:pic>
            <p:nvPicPr>
              <p:cNvPr id="275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3419640" y="4797360"/>
                <a:ext cx="1565280" cy="83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3538440" y="4913280"/>
                <a:ext cx="133200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22"/>
            <p:cNvGrpSpPr/>
            <p:nvPr/>
          </p:nvGrpSpPr>
          <p:grpSpPr>
            <a:xfrm>
              <a:off x="3419640" y="5818320"/>
              <a:ext cx="1565280" cy="838080"/>
              <a:chOff x="3419640" y="5818320"/>
              <a:chExt cx="1565280" cy="838080"/>
            </a:xfrm>
          </p:grpSpPr>
          <p:pic>
            <p:nvPicPr>
              <p:cNvPr id="278" name="Picture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3419640" y="581832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Text Box 24"/>
              <p:cNvSpPr/>
              <p:nvPr/>
            </p:nvSpPr>
            <p:spPr>
              <a:xfrm>
                <a:off x="3538440" y="5934240"/>
                <a:ext cx="1332000" cy="61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80" name="Picture 25" descr=""/>
            <p:cNvPicPr/>
            <p:nvPr/>
          </p:nvPicPr>
          <p:blipFill>
            <a:blip r:embed="rId8"/>
            <a:stretch/>
          </p:blipFill>
          <p:spPr>
            <a:xfrm>
              <a:off x="1143000" y="4464000"/>
              <a:ext cx="44280" cy="17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26" descr=""/>
            <p:cNvPicPr/>
            <p:nvPr/>
          </p:nvPicPr>
          <p:blipFill>
            <a:blip r:embed="rId9"/>
            <a:stretch/>
          </p:blipFill>
          <p:spPr>
            <a:xfrm>
              <a:off x="5207040" y="4464000"/>
              <a:ext cx="44280" cy="17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27" descr=""/>
            <p:cNvPicPr/>
            <p:nvPr/>
          </p:nvPicPr>
          <p:blipFill>
            <a:blip r:embed="rId10"/>
            <a:stretch/>
          </p:blipFill>
          <p:spPr>
            <a:xfrm>
              <a:off x="4741920" y="4451400"/>
              <a:ext cx="55080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28" descr=""/>
            <p:cNvPicPr/>
            <p:nvPr/>
          </p:nvPicPr>
          <p:blipFill>
            <a:blip r:embed="rId11"/>
            <a:stretch/>
          </p:blipFill>
          <p:spPr>
            <a:xfrm>
              <a:off x="1197000" y="4451400"/>
              <a:ext cx="47448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29" descr=""/>
            <p:cNvPicPr/>
            <p:nvPr/>
          </p:nvPicPr>
          <p:blipFill>
            <a:blip r:embed="rId12"/>
            <a:stretch/>
          </p:blipFill>
          <p:spPr>
            <a:xfrm>
              <a:off x="4976640" y="6107040"/>
              <a:ext cx="303480" cy="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30" descr=""/>
            <p:cNvPicPr/>
            <p:nvPr/>
          </p:nvPicPr>
          <p:blipFill>
            <a:blip r:embed="rId13"/>
            <a:stretch/>
          </p:blipFill>
          <p:spPr>
            <a:xfrm>
              <a:off x="1208160" y="6107040"/>
              <a:ext cx="303120" cy="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Line 31"/>
            <p:cNvSpPr/>
            <p:nvPr/>
          </p:nvSpPr>
          <p:spPr>
            <a:xfrm>
              <a:off x="1511280" y="5083200"/>
              <a:ext cx="13986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32"/>
            <p:cNvSpPr/>
            <p:nvPr/>
          </p:nvSpPr>
          <p:spPr>
            <a:xfrm>
              <a:off x="3432240" y="5083200"/>
              <a:ext cx="147312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33"/>
            <p:cNvSpPr/>
            <p:nvPr/>
          </p:nvSpPr>
          <p:spPr>
            <a:xfrm>
              <a:off x="1511280" y="6105600"/>
              <a:ext cx="13986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34"/>
            <p:cNvSpPr/>
            <p:nvPr/>
          </p:nvSpPr>
          <p:spPr>
            <a:xfrm>
              <a:off x="3505320" y="6105600"/>
              <a:ext cx="13986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AutoShape 35"/>
          <p:cNvSpPr/>
          <p:nvPr/>
        </p:nvSpPr>
        <p:spPr>
          <a:xfrm>
            <a:off x="620640" y="7451640"/>
            <a:ext cx="5761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A SEMEJANZA”  “A DIFERENCI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476280" y="6948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37"/>
          <p:cNvSpPr/>
          <p:nvPr/>
        </p:nvSpPr>
        <p:spPr>
          <a:xfrm>
            <a:off x="5732640" y="684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7493"/>
                </a:moveTo>
                <a:lnTo>
                  <a:pt x="9707" y="7493"/>
                </a:lnTo>
                <a:lnTo>
                  <a:pt x="9707" y="12828"/>
                </a:lnTo>
                <a:cubicBezTo>
                  <a:pt x="9707" y="13751"/>
                  <a:pt x="10508" y="14482"/>
                  <a:pt x="11544" y="14482"/>
                </a:cubicBezTo>
                <a:lnTo>
                  <a:pt x="13206" y="14482"/>
                </a:lnTo>
                <a:cubicBezTo>
                  <a:pt x="14242" y="14482"/>
                  <a:pt x="15042" y="13751"/>
                  <a:pt x="15042" y="12828"/>
                </a:cubicBezTo>
                <a:lnTo>
                  <a:pt x="15042" y="7493"/>
                </a:lnTo>
                <a:lnTo>
                  <a:pt x="13206" y="7493"/>
                </a:lnTo>
                <a:lnTo>
                  <a:pt x="16714" y="3985"/>
                </a:lnTo>
                <a:lnTo>
                  <a:pt x="20387" y="7493"/>
                </a:lnTo>
                <a:lnTo>
                  <a:pt x="18550" y="7493"/>
                </a:lnTo>
                <a:lnTo>
                  <a:pt x="18550" y="12828"/>
                </a:lnTo>
                <a:cubicBezTo>
                  <a:pt x="18550" y="15596"/>
                  <a:pt x="15974" y="18155"/>
                  <a:pt x="13206" y="18155"/>
                </a:cubicBezTo>
                <a:lnTo>
                  <a:pt x="11544" y="18155"/>
                </a:lnTo>
                <a:cubicBezTo>
                  <a:pt x="8776" y="18155"/>
                  <a:pt x="6200" y="15596"/>
                  <a:pt x="620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8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6:13:06Z</dcterms:created>
  <dc:creator>Usuario</dc:creator>
  <dc:description/>
  <dc:language>en-US</dc:language>
  <cp:lastModifiedBy>Usuario</cp:lastModifiedBy>
  <dcterms:modified xsi:type="dcterms:W3CDTF">2012-02-03T14:41:59Z</dcterms:modified>
  <cp:revision>35</cp:revision>
  <dc:subject/>
  <dc:title>Leer Para comprender y aprender</dc:title>
</cp:coreProperties>
</file>