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2142720" y="600120"/>
            <a:ext cx="2568600" cy="359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9B69C-9DC3-4F6D-9E71-664FD15B64D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A0218-9CDB-4A43-93B4-7891E45A671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3C338-E0B4-4605-B182-E55D6EB627C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8096B-2DA5-4C79-A8E9-EC2408AB46F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BD557-2291-4309-BA41-0950FD9EB55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203E0-993D-4EA5-88BD-2F0116F5B15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47A9F-C897-483F-A7B0-DEC133DCC28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19B61-F63B-46E2-A05A-3CEA5A61148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48782-55B9-4329-93F4-D01F87722C4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56E7B-3A6C-4E11-ADE3-867E072DCD1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99F49-1381-4898-BE3B-A5AE868A01C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1663E-9A10-4F9E-A6DD-365971D327E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68886-86E9-4B39-9555-9F7C53DE499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114A6-D4C0-4C93-8D5A-6B3238CB5FE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FABEF-2527-4A4F-9969-4A04DFE8367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6DE6A-6AB2-440D-AE42-C9409FD5D61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7FDC7-FB50-4E07-8673-26BC923B0C6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3B8-4128-43BF-9EF4-4A3894B1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455-703F-454A-BBE4-F74A0B79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9CB-FBA9-4584-BA81-109BB492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7D1-C8D6-4ECE-9394-E3C68FCF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87F4-4539-4430-8413-5BB44260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9CEF-EFD6-4BA9-818F-4DDAAD59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45BF-414A-4DFA-A37D-F76EC0DD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0C83-64AA-4A8F-8514-0A17F8C8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E4D2-759C-4467-9E58-313D2691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C860-96B6-47C9-96E0-751B9F75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6DDC-469A-48E7-ADBB-1654C872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F98-08F4-4315-A013-12D38D28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52A7-FBD0-4CD1-A973-1899809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829E-39E8-4771-BB78-2A3A331B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FC35-727F-4DA2-9EEE-187634A8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FD2E-9FE0-43BF-A943-B8213B6C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9AD7-E852-4FA0-BC68-C11DB850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657B9-D1AB-4BEF-B4F8-DDA39D45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E3C99-1A61-425F-B152-82103874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0387-E91B-41AD-9926-1EEEDF87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D895E-9F65-46D0-9E06-CC0D840D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D4369-FD66-458D-9DBD-53D17A36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952-4DA0-43B1-B441-340C6A4F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AF458-774B-4D3F-B74E-6F99FC3B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97F77-B4B6-431C-BA3A-B68D71FD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9EB64-5DB4-4308-805E-9D4662C3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4FBE-2F8D-47CF-B9A7-349D597D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17FC-F877-4A13-A632-2A46638B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2FBF-F33D-4172-B728-97468837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2B44-E5EB-4B1B-9F0A-120F2FD7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066EE-EB58-49FD-8A53-34B8EA19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6F6C1-F769-43C7-BE8F-0374AC98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E8D10-6241-4FF5-8420-FB5719EF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C71-DB54-47AA-8088-4C66DB9D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0FE91-DB63-4B66-9B75-3947EC35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828BD-19C3-4DAE-A693-A305EF24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D69EE-EAF9-486D-A3CB-2BFF8AC9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412ED-79ED-498D-B328-09B02D8F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8B4AF-C368-4985-B64F-D579F13B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CE22A-6DBC-4373-9472-FE63F4A9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A6A0B-D099-4BA9-A68C-7939F601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5668E-EFE0-45F1-95F3-4914C53A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73430-AE9E-4031-B84B-86295CC6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A1DF-CA7E-441A-95D3-84738FDF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4A8-401A-415C-9DED-9300B15B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169E4-65A6-4E28-97CA-7EFFD51B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66226-FFF3-4EF2-8994-27A5054F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A08D1-1562-4CD4-A826-496EC575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C6D64-110B-4B42-BF32-57934020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03050-BE8E-45FE-9A13-11D63946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DC3A4-9A7B-4A68-8CDB-680EC1C4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33660-BB1F-4B17-95D4-F97BC60E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1EB6F-A54D-4500-B727-A397AB4E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50F1C-6D48-41F1-9321-99B5A43C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D8B7D-DE9A-4CF4-AEDD-8A2B1B7D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F5A2-B791-4883-AFEE-4F8CD5D2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52CBF-3B17-4032-830E-2363626E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E97-427E-4CF9-AAE9-5D8B4E7C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FFF-1D5E-402D-A156-E31CD00D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84F-CB5F-4BCA-880B-D3131AA9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579920" y="0"/>
            <a:ext cx="2278080" cy="9144000"/>
          </a:xfrm>
          <a:custGeom>
            <a:avLst/>
            <a:gdLst>
              <a:gd name="textAreaLeft" fmla="*/ 0 w 2278080"/>
              <a:gd name="textAreaRight" fmla="*/ 2278440 w 2278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8180E5-7172-4A67-AD72-B1B4B12DF98E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AF31CA-1AB5-4FC6-B0A8-CAADBA085458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1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5486400" y="0"/>
            <a:ext cx="1371600" cy="91440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116760" y="8562600"/>
            <a:ext cx="5680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168175-FD01-4928-BB7A-6AD85BA2F58F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F88D02-FACD-4CCC-A23C-EC604A7DFDE2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Leer para comprender y apr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ACE619-0048-431E-A4E3-B67A672F65B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"/>
          <p:cNvGrpSpPr/>
          <p:nvPr/>
        </p:nvGrpSpPr>
        <p:grpSpPr>
          <a:xfrm>
            <a:off x="317520" y="4316400"/>
            <a:ext cx="5348160" cy="3203640"/>
            <a:chOff x="317520" y="4316400"/>
            <a:chExt cx="5348160" cy="3203640"/>
          </a:xfrm>
        </p:grpSpPr>
        <p:pic>
          <p:nvPicPr>
            <p:cNvPr id="219" name="Picture 2" descr=""/>
            <p:cNvPicPr/>
            <p:nvPr/>
          </p:nvPicPr>
          <p:blipFill>
            <a:blip r:embed="rId1"/>
            <a:stretch/>
          </p:blipFill>
          <p:spPr>
            <a:xfrm>
              <a:off x="317520" y="4316400"/>
              <a:ext cx="5348160" cy="32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3"/>
            <p:cNvSpPr/>
            <p:nvPr/>
          </p:nvSpPr>
          <p:spPr>
            <a:xfrm>
              <a:off x="317520" y="4316400"/>
              <a:ext cx="5348160" cy="32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 Box 4"/>
          <p:cNvSpPr/>
          <p:nvPr/>
        </p:nvSpPr>
        <p:spPr>
          <a:xfrm>
            <a:off x="325440" y="2058840"/>
            <a:ext cx="485928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rograma de comprensión de tex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1"/>
          <p:cNvGrpSpPr/>
          <p:nvPr/>
        </p:nvGrpSpPr>
        <p:grpSpPr>
          <a:xfrm>
            <a:off x="1413000" y="2340000"/>
            <a:ext cx="3957480" cy="1508040"/>
            <a:chOff x="1413000" y="2340000"/>
            <a:chExt cx="3957480" cy="1508040"/>
          </a:xfrm>
        </p:grpSpPr>
        <p:sp>
          <p:nvSpPr>
            <p:cNvPr id="295" name="Rectangle 2"/>
            <p:cNvSpPr/>
            <p:nvPr/>
          </p:nvSpPr>
          <p:spPr>
            <a:xfrm>
              <a:off x="1413000" y="2340000"/>
              <a:ext cx="3957480" cy="150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3"/>
            <p:cNvGrpSpPr/>
            <p:nvPr/>
          </p:nvGrpSpPr>
          <p:grpSpPr>
            <a:xfrm>
              <a:off x="1773360" y="2843280"/>
              <a:ext cx="3308400" cy="788760"/>
              <a:chOff x="1773360" y="2843280"/>
              <a:chExt cx="3308400" cy="788760"/>
            </a:xfrm>
          </p:grpSpPr>
          <p:grpSp>
            <p:nvGrpSpPr>
              <p:cNvPr id="297" name="Group 4"/>
              <p:cNvGrpSpPr/>
              <p:nvPr/>
            </p:nvGrpSpPr>
            <p:grpSpPr>
              <a:xfrm>
                <a:off x="1773360" y="2843280"/>
                <a:ext cx="1388880" cy="788760"/>
                <a:chOff x="1773360" y="2843280"/>
                <a:chExt cx="1388880" cy="788760"/>
              </a:xfrm>
            </p:grpSpPr>
            <p:pic>
              <p:nvPicPr>
                <p:cNvPr id="298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73360" y="2843280"/>
                  <a:ext cx="1388880" cy="78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Text Box 6"/>
                <p:cNvSpPr/>
                <p:nvPr/>
              </p:nvSpPr>
              <p:spPr>
                <a:xfrm>
                  <a:off x="1890720" y="2948040"/>
                  <a:ext cx="1157400" cy="58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Problem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Line 7"/>
              <p:cNvSpPr/>
              <p:nvPr/>
            </p:nvSpPr>
            <p:spPr>
              <a:xfrm>
                <a:off x="1852560" y="333072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8"/>
              <p:cNvSpPr/>
              <p:nvPr/>
            </p:nvSpPr>
            <p:spPr>
              <a:xfrm>
                <a:off x="3568680" y="338940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2" name="Group 9"/>
              <p:cNvGrpSpPr/>
              <p:nvPr/>
            </p:nvGrpSpPr>
            <p:grpSpPr>
              <a:xfrm>
                <a:off x="3692520" y="2843280"/>
                <a:ext cx="1389240" cy="788760"/>
                <a:chOff x="3692520" y="2843280"/>
                <a:chExt cx="1389240" cy="788760"/>
              </a:xfrm>
            </p:grpSpPr>
            <p:pic>
              <p:nvPicPr>
                <p:cNvPr id="303" name="Picture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92520" y="2843280"/>
                  <a:ext cx="1389240" cy="78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4" name="Text Box 11"/>
                <p:cNvSpPr/>
                <p:nvPr/>
              </p:nvSpPr>
              <p:spPr>
                <a:xfrm>
                  <a:off x="3808440" y="2948040"/>
                  <a:ext cx="1157400" cy="58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Solución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Line 12"/>
              <p:cNvSpPr/>
              <p:nvPr/>
            </p:nvSpPr>
            <p:spPr>
              <a:xfrm>
                <a:off x="3773520" y="333072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AutoShape 13"/>
              <p:cNvSpPr/>
              <p:nvPr/>
            </p:nvSpPr>
            <p:spPr>
              <a:xfrm>
                <a:off x="3156120" y="2975040"/>
                <a:ext cx="477720" cy="395280"/>
              </a:xfrm>
              <a:prstGeom prst="leftArrow">
                <a:avLst>
                  <a:gd name="adj1" fmla="val 50000"/>
                  <a:gd name="adj2" fmla="val 58184"/>
                </a:avLst>
              </a:prstGeom>
              <a:solidFill>
                <a:srgbClr val="fcf4c7"/>
              </a:solidFill>
              <a:ln w="19080">
                <a:solidFill>
                  <a:srgbClr val="4f7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Text Box 14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21C19-B43E-4B5E-8CD2-81A72EDBF2B1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15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309" name="Picture 16" descr=""/>
            <p:cNvPicPr/>
            <p:nvPr/>
          </p:nvPicPr>
          <p:blipFill>
            <a:blip r:embed="rId3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7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PROBLEMA-SOLU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8"/>
          <p:cNvSpPr/>
          <p:nvPr/>
        </p:nvSpPr>
        <p:spPr>
          <a:xfrm>
            <a:off x="647640" y="123516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UNA SOLUCIÓN”  “OTRA MEDID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UNA DIFICULTAD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1484280" y="2411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A. Una solución para un probl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22"/>
          <p:cNvGrpSpPr/>
          <p:nvPr/>
        </p:nvGrpSpPr>
        <p:grpSpPr>
          <a:xfrm>
            <a:off x="476280" y="3924360"/>
            <a:ext cx="2878200" cy="2948040"/>
            <a:chOff x="476280" y="3924360"/>
            <a:chExt cx="2878200" cy="2948040"/>
          </a:xfrm>
        </p:grpSpPr>
        <p:sp>
          <p:nvSpPr>
            <p:cNvPr id="316" name="Rectangle 23"/>
            <p:cNvSpPr/>
            <p:nvPr/>
          </p:nvSpPr>
          <p:spPr>
            <a:xfrm>
              <a:off x="488880" y="3924360"/>
              <a:ext cx="2865600" cy="294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Group 24"/>
            <p:cNvGrpSpPr/>
            <p:nvPr/>
          </p:nvGrpSpPr>
          <p:grpSpPr>
            <a:xfrm>
              <a:off x="476280" y="5132520"/>
              <a:ext cx="1314360" cy="745920"/>
              <a:chOff x="476280" y="5132520"/>
              <a:chExt cx="1314360" cy="745920"/>
            </a:xfrm>
          </p:grpSpPr>
          <p:pic>
            <p:nvPicPr>
              <p:cNvPr id="318" name="Picture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280" y="5132520"/>
                <a:ext cx="1314360" cy="74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Text Box 26"/>
              <p:cNvSpPr/>
              <p:nvPr/>
            </p:nvSpPr>
            <p:spPr>
              <a:xfrm>
                <a:off x="620640" y="5280120"/>
                <a:ext cx="1023840" cy="4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0" name="Text Box 27"/>
            <p:cNvSpPr/>
            <p:nvPr/>
          </p:nvSpPr>
          <p:spPr>
            <a:xfrm>
              <a:off x="631800" y="3995640"/>
              <a:ext cx="214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Varias soluciones  para un proble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28"/>
            <p:cNvGrpSpPr/>
            <p:nvPr/>
          </p:nvGrpSpPr>
          <p:grpSpPr>
            <a:xfrm>
              <a:off x="2054160" y="4559400"/>
              <a:ext cx="1168560" cy="814320"/>
              <a:chOff x="2054160" y="4559400"/>
              <a:chExt cx="1168560" cy="814320"/>
            </a:xfrm>
          </p:grpSpPr>
          <p:pic>
            <p:nvPicPr>
              <p:cNvPr id="322" name="Pictur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4160" y="4559400"/>
                <a:ext cx="1168560" cy="8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Text Box 30"/>
              <p:cNvSpPr/>
              <p:nvPr/>
            </p:nvSpPr>
            <p:spPr>
              <a:xfrm>
                <a:off x="2170080" y="4675320"/>
                <a:ext cx="93816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31"/>
            <p:cNvGrpSpPr/>
            <p:nvPr/>
          </p:nvGrpSpPr>
          <p:grpSpPr>
            <a:xfrm>
              <a:off x="2054160" y="5711760"/>
              <a:ext cx="1168560" cy="814320"/>
              <a:chOff x="2054160" y="5711760"/>
              <a:chExt cx="1168560" cy="814320"/>
            </a:xfrm>
          </p:grpSpPr>
          <p:pic>
            <p:nvPicPr>
              <p:cNvPr id="325" name="Picture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4160" y="5711760"/>
                <a:ext cx="1168560" cy="8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Text Box 33"/>
              <p:cNvSpPr/>
              <p:nvPr/>
            </p:nvSpPr>
            <p:spPr>
              <a:xfrm>
                <a:off x="2170080" y="5827680"/>
                <a:ext cx="93816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AutoShape 34"/>
            <p:cNvSpPr/>
            <p:nvPr/>
          </p:nvSpPr>
          <p:spPr>
            <a:xfrm rot="19560000">
              <a:off x="1620720" y="4900320"/>
              <a:ext cx="497160" cy="355680"/>
            </a:xfrm>
            <a:prstGeom prst="leftArrow">
              <a:avLst>
                <a:gd name="adj1" fmla="val 50000"/>
                <a:gd name="adj2" fmla="val 4986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AutoShape 35"/>
            <p:cNvSpPr/>
            <p:nvPr/>
          </p:nvSpPr>
          <p:spPr>
            <a:xfrm rot="2400000">
              <a:off x="1625760" y="5757480"/>
              <a:ext cx="496800" cy="355680"/>
            </a:xfrm>
            <a:prstGeom prst="leftArrow">
              <a:avLst>
                <a:gd name="adj1" fmla="val 50000"/>
                <a:gd name="adj2" fmla="val 49824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Group 36"/>
          <p:cNvGrpSpPr/>
          <p:nvPr/>
        </p:nvGrpSpPr>
        <p:grpSpPr>
          <a:xfrm>
            <a:off x="3500280" y="3924360"/>
            <a:ext cx="2878200" cy="2948040"/>
            <a:chOff x="3500280" y="3924360"/>
            <a:chExt cx="2878200" cy="2948040"/>
          </a:xfrm>
        </p:grpSpPr>
        <p:sp>
          <p:nvSpPr>
            <p:cNvPr id="330" name="Rectangle 37"/>
            <p:cNvSpPr/>
            <p:nvPr/>
          </p:nvSpPr>
          <p:spPr>
            <a:xfrm>
              <a:off x="3506760" y="3924360"/>
              <a:ext cx="2863800" cy="294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3733920" y="3997440"/>
              <a:ext cx="22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C. Dos problemas con una solu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39"/>
            <p:cNvGrpSpPr/>
            <p:nvPr/>
          </p:nvGrpSpPr>
          <p:grpSpPr>
            <a:xfrm>
              <a:off x="5156280" y="5168880"/>
              <a:ext cx="1222200" cy="831960"/>
              <a:chOff x="5156280" y="5168880"/>
              <a:chExt cx="1222200" cy="831960"/>
            </a:xfrm>
          </p:grpSpPr>
          <p:pic>
            <p:nvPicPr>
              <p:cNvPr id="333" name="Picture 40" descr=""/>
              <p:cNvPicPr/>
              <p:nvPr/>
            </p:nvPicPr>
            <p:blipFill>
              <a:blip r:embed="rId7"/>
              <a:stretch/>
            </p:blipFill>
            <p:spPr>
              <a:xfrm>
                <a:off x="5156280" y="5168880"/>
                <a:ext cx="122220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Text Box 41"/>
              <p:cNvSpPr/>
              <p:nvPr/>
            </p:nvSpPr>
            <p:spPr>
              <a:xfrm>
                <a:off x="5275440" y="5284800"/>
                <a:ext cx="98892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42"/>
            <p:cNvGrpSpPr/>
            <p:nvPr/>
          </p:nvGrpSpPr>
          <p:grpSpPr>
            <a:xfrm>
              <a:off x="3573360" y="5834160"/>
              <a:ext cx="1373400" cy="825480"/>
              <a:chOff x="3573360" y="5834160"/>
              <a:chExt cx="1373400" cy="825480"/>
            </a:xfrm>
          </p:grpSpPr>
          <p:pic>
            <p:nvPicPr>
              <p:cNvPr id="336" name="Picture 43" descr=""/>
              <p:cNvPicPr/>
              <p:nvPr/>
            </p:nvPicPr>
            <p:blipFill>
              <a:blip r:embed="rId8"/>
              <a:stretch/>
            </p:blipFill>
            <p:spPr>
              <a:xfrm>
                <a:off x="3573360" y="5834160"/>
                <a:ext cx="1373400" cy="82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Text Box 44"/>
              <p:cNvSpPr/>
              <p:nvPr/>
            </p:nvSpPr>
            <p:spPr>
              <a:xfrm>
                <a:off x="3727440" y="5986440"/>
                <a:ext cx="106668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45"/>
            <p:cNvGrpSpPr/>
            <p:nvPr/>
          </p:nvGrpSpPr>
          <p:grpSpPr>
            <a:xfrm>
              <a:off x="3500280" y="4651200"/>
              <a:ext cx="1373400" cy="831960"/>
              <a:chOff x="3500280" y="4651200"/>
              <a:chExt cx="1373400" cy="831960"/>
            </a:xfrm>
          </p:grpSpPr>
          <p:pic>
            <p:nvPicPr>
              <p:cNvPr id="339" name="Picture 46" descr=""/>
              <p:cNvPicPr/>
              <p:nvPr/>
            </p:nvPicPr>
            <p:blipFill>
              <a:blip r:embed="rId9"/>
              <a:stretch/>
            </p:blipFill>
            <p:spPr>
              <a:xfrm>
                <a:off x="3500280" y="4651200"/>
                <a:ext cx="137340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Text Box 47"/>
              <p:cNvSpPr/>
              <p:nvPr/>
            </p:nvSpPr>
            <p:spPr>
              <a:xfrm>
                <a:off x="3651120" y="4805280"/>
                <a:ext cx="106704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" name="AutoShape 48"/>
            <p:cNvSpPr/>
            <p:nvPr/>
          </p:nvSpPr>
          <p:spPr>
            <a:xfrm rot="1380000">
              <a:off x="4768560" y="4968360"/>
              <a:ext cx="523800" cy="365400"/>
            </a:xfrm>
            <a:prstGeom prst="leftArrow">
              <a:avLst>
                <a:gd name="adj1" fmla="val 50000"/>
                <a:gd name="adj2" fmla="val 5116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AutoShape 49"/>
            <p:cNvSpPr/>
            <p:nvPr/>
          </p:nvSpPr>
          <p:spPr>
            <a:xfrm rot="19560000">
              <a:off x="4849920" y="5955840"/>
              <a:ext cx="523800" cy="365400"/>
            </a:xfrm>
            <a:prstGeom prst="leftArrow">
              <a:avLst>
                <a:gd name="adj1" fmla="val 50000"/>
                <a:gd name="adj2" fmla="val 5116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Rectangle 50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51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A5B23-1CC0-4139-A04F-58282BB4B672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2"/>
          <p:cNvGrpSpPr/>
          <p:nvPr/>
        </p:nvGrpSpPr>
        <p:grpSpPr>
          <a:xfrm>
            <a:off x="463680" y="237960"/>
            <a:ext cx="5348160" cy="812880"/>
            <a:chOff x="463680" y="237960"/>
            <a:chExt cx="5348160" cy="812880"/>
          </a:xfrm>
        </p:grpSpPr>
        <p:pic>
          <p:nvPicPr>
            <p:cNvPr id="347" name="Picture 3" descr=""/>
            <p:cNvPicPr/>
            <p:nvPr/>
          </p:nvPicPr>
          <p:blipFill>
            <a:blip r:embed="rId1"/>
            <a:stretch/>
          </p:blipFill>
          <p:spPr>
            <a:xfrm>
              <a:off x="463680" y="237960"/>
              <a:ext cx="534816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4"/>
            <p:cNvSpPr/>
            <p:nvPr/>
          </p:nvSpPr>
          <p:spPr>
            <a:xfrm>
              <a:off x="549360" y="324000"/>
              <a:ext cx="518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CAUSALIDA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" name="Text Box 5"/>
          <p:cNvSpPr/>
          <p:nvPr/>
        </p:nvSpPr>
        <p:spPr>
          <a:xfrm>
            <a:off x="549360" y="97164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COMO CONSECUENCIA”  “POR TA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POR ELLO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8"/>
          <p:cNvGrpSpPr/>
          <p:nvPr/>
        </p:nvGrpSpPr>
        <p:grpSpPr>
          <a:xfrm>
            <a:off x="1197000" y="2268360"/>
            <a:ext cx="4460760" cy="1436760"/>
            <a:chOff x="1197000" y="2268360"/>
            <a:chExt cx="4460760" cy="1436760"/>
          </a:xfrm>
        </p:grpSpPr>
        <p:sp>
          <p:nvSpPr>
            <p:cNvPr id="353" name="Rectangle 9"/>
            <p:cNvSpPr/>
            <p:nvPr/>
          </p:nvSpPr>
          <p:spPr>
            <a:xfrm>
              <a:off x="1197000" y="2268360"/>
              <a:ext cx="4460760" cy="143676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10"/>
            <p:cNvGrpSpPr/>
            <p:nvPr/>
          </p:nvGrpSpPr>
          <p:grpSpPr>
            <a:xfrm>
              <a:off x="1468440" y="2760840"/>
              <a:ext cx="1538280" cy="741240"/>
              <a:chOff x="1468440" y="2760840"/>
              <a:chExt cx="1538280" cy="741240"/>
            </a:xfrm>
          </p:grpSpPr>
          <p:pic>
            <p:nvPicPr>
              <p:cNvPr id="355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8440" y="2760840"/>
                <a:ext cx="153828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Text Box 12"/>
              <p:cNvSpPr/>
              <p:nvPr/>
            </p:nvSpPr>
            <p:spPr>
              <a:xfrm>
                <a:off x="1584360" y="2871720"/>
                <a:ext cx="13082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Text Box 13"/>
            <p:cNvSpPr/>
            <p:nvPr/>
          </p:nvSpPr>
          <p:spPr>
            <a:xfrm>
              <a:off x="1341360" y="2413080"/>
              <a:ext cx="417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A. Un antecedente y un consecu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Group 14"/>
            <p:cNvGrpSpPr/>
            <p:nvPr/>
          </p:nvGrpSpPr>
          <p:grpSpPr>
            <a:xfrm>
              <a:off x="3706920" y="2760840"/>
              <a:ext cx="1533240" cy="741240"/>
              <a:chOff x="3706920" y="2760840"/>
              <a:chExt cx="1533240" cy="741240"/>
            </a:xfrm>
          </p:grpSpPr>
          <p:pic>
            <p:nvPicPr>
              <p:cNvPr id="359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3706920" y="2760840"/>
                <a:ext cx="153324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Text Box 16"/>
              <p:cNvSpPr/>
              <p:nvPr/>
            </p:nvSpPr>
            <p:spPr>
              <a:xfrm>
                <a:off x="3816360" y="2871720"/>
                <a:ext cx="13082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1" name="AutoShape 17"/>
            <p:cNvSpPr/>
            <p:nvPr/>
          </p:nvSpPr>
          <p:spPr>
            <a:xfrm>
              <a:off x="3068640" y="2916360"/>
              <a:ext cx="573120" cy="357120"/>
            </a:xfrm>
            <a:prstGeom prst="rightArrow">
              <a:avLst>
                <a:gd name="adj1" fmla="val 50000"/>
                <a:gd name="adj2" fmla="val 50181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Group 18"/>
          <p:cNvGrpSpPr/>
          <p:nvPr/>
        </p:nvGrpSpPr>
        <p:grpSpPr>
          <a:xfrm>
            <a:off x="333360" y="3995640"/>
            <a:ext cx="2948040" cy="2733840"/>
            <a:chOff x="333360" y="3995640"/>
            <a:chExt cx="2948040" cy="2733840"/>
          </a:xfrm>
        </p:grpSpPr>
        <p:sp>
          <p:nvSpPr>
            <p:cNvPr id="363" name="Rectangle 19"/>
            <p:cNvSpPr/>
            <p:nvPr/>
          </p:nvSpPr>
          <p:spPr>
            <a:xfrm>
              <a:off x="333360" y="3995640"/>
              <a:ext cx="2948040" cy="27338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" name="Group 20"/>
            <p:cNvGrpSpPr/>
            <p:nvPr/>
          </p:nvGrpSpPr>
          <p:grpSpPr>
            <a:xfrm>
              <a:off x="390600" y="5353200"/>
              <a:ext cx="1319040" cy="741240"/>
              <a:chOff x="390600" y="5353200"/>
              <a:chExt cx="1319040" cy="741240"/>
            </a:xfrm>
          </p:grpSpPr>
          <p:pic>
            <p:nvPicPr>
              <p:cNvPr id="365" name="Picture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0600" y="5353200"/>
                <a:ext cx="131904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22"/>
              <p:cNvSpPr/>
              <p:nvPr/>
            </p:nvSpPr>
            <p:spPr>
              <a:xfrm>
                <a:off x="504720" y="5464080"/>
                <a:ext cx="1092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23"/>
            <p:cNvGrpSpPr/>
            <p:nvPr/>
          </p:nvGrpSpPr>
          <p:grpSpPr>
            <a:xfrm>
              <a:off x="1828800" y="4700520"/>
              <a:ext cx="1319040" cy="746280"/>
              <a:chOff x="1828800" y="4700520"/>
              <a:chExt cx="1319040" cy="746280"/>
            </a:xfrm>
          </p:grpSpPr>
          <p:pic>
            <p:nvPicPr>
              <p:cNvPr id="368" name="Picture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4700520"/>
                <a:ext cx="131904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Text Box 25"/>
              <p:cNvSpPr/>
              <p:nvPr/>
            </p:nvSpPr>
            <p:spPr>
              <a:xfrm>
                <a:off x="1944720" y="4816440"/>
                <a:ext cx="1092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901880" y="5851440"/>
              <a:ext cx="1319040" cy="746280"/>
              <a:chOff x="1901880" y="5851440"/>
              <a:chExt cx="1319040" cy="746280"/>
            </a:xfrm>
          </p:grpSpPr>
          <p:pic>
            <p:nvPicPr>
              <p:cNvPr id="371" name="Picture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1880" y="5851440"/>
                <a:ext cx="131904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Text Box 28"/>
              <p:cNvSpPr/>
              <p:nvPr/>
            </p:nvSpPr>
            <p:spPr>
              <a:xfrm>
                <a:off x="2016000" y="5969160"/>
                <a:ext cx="109224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9"/>
            <p:cNvSpPr/>
            <p:nvPr/>
          </p:nvSpPr>
          <p:spPr>
            <a:xfrm rot="19740000">
              <a:off x="1377720" y="5145120"/>
              <a:ext cx="571320" cy="208080"/>
            </a:xfrm>
            <a:prstGeom prst="rightArrow">
              <a:avLst>
                <a:gd name="adj1" fmla="val 50000"/>
                <a:gd name="adj2" fmla="val 50414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AutoShape 30"/>
            <p:cNvSpPr/>
            <p:nvPr/>
          </p:nvSpPr>
          <p:spPr>
            <a:xfrm rot="1740000">
              <a:off x="1428840" y="6064200"/>
              <a:ext cx="573120" cy="222480"/>
            </a:xfrm>
            <a:prstGeom prst="rightArrow">
              <a:avLst>
                <a:gd name="adj1" fmla="val 50000"/>
                <a:gd name="adj2" fmla="val 50352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31"/>
            <p:cNvSpPr/>
            <p:nvPr/>
          </p:nvSpPr>
          <p:spPr>
            <a:xfrm>
              <a:off x="333360" y="4067280"/>
              <a:ext cx="2516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Un antecedente puede dar lugar a 2 consecu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Group 32"/>
          <p:cNvGrpSpPr/>
          <p:nvPr/>
        </p:nvGrpSpPr>
        <p:grpSpPr>
          <a:xfrm>
            <a:off x="3357720" y="3995640"/>
            <a:ext cx="3020760" cy="2733840"/>
            <a:chOff x="3357720" y="3995640"/>
            <a:chExt cx="3020760" cy="2733840"/>
          </a:xfrm>
        </p:grpSpPr>
        <p:sp>
          <p:nvSpPr>
            <p:cNvPr id="377" name="Rectangle 33"/>
            <p:cNvSpPr/>
            <p:nvPr/>
          </p:nvSpPr>
          <p:spPr>
            <a:xfrm>
              <a:off x="3368520" y="3995640"/>
              <a:ext cx="2938680" cy="27338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4"/>
            <p:cNvGrpSpPr/>
            <p:nvPr/>
          </p:nvGrpSpPr>
          <p:grpSpPr>
            <a:xfrm>
              <a:off x="3357720" y="4700520"/>
              <a:ext cx="1380960" cy="746280"/>
              <a:chOff x="3357720" y="4700520"/>
              <a:chExt cx="1380960" cy="746280"/>
            </a:xfrm>
          </p:grpSpPr>
          <p:pic>
            <p:nvPicPr>
              <p:cNvPr id="379" name="Picture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4700520"/>
                <a:ext cx="138096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Text Box 36"/>
              <p:cNvSpPr/>
              <p:nvPr/>
            </p:nvSpPr>
            <p:spPr>
              <a:xfrm>
                <a:off x="3468600" y="4816440"/>
                <a:ext cx="11606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7"/>
            <p:cNvGrpSpPr/>
            <p:nvPr/>
          </p:nvGrpSpPr>
          <p:grpSpPr>
            <a:xfrm>
              <a:off x="3357720" y="5851440"/>
              <a:ext cx="1314360" cy="746280"/>
              <a:chOff x="3357720" y="5851440"/>
              <a:chExt cx="1314360" cy="746280"/>
            </a:xfrm>
          </p:grpSpPr>
          <p:pic>
            <p:nvPicPr>
              <p:cNvPr id="382" name="Picture 38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7720" y="5851440"/>
                <a:ext cx="131436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Text Box 39"/>
              <p:cNvSpPr/>
              <p:nvPr/>
            </p:nvSpPr>
            <p:spPr>
              <a:xfrm>
                <a:off x="3468600" y="5969160"/>
                <a:ext cx="108900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0"/>
            <p:cNvGrpSpPr/>
            <p:nvPr/>
          </p:nvGrpSpPr>
          <p:grpSpPr>
            <a:xfrm>
              <a:off x="4863960" y="5353200"/>
              <a:ext cx="1381320" cy="741240"/>
              <a:chOff x="4863960" y="5353200"/>
              <a:chExt cx="1381320" cy="741240"/>
            </a:xfrm>
          </p:grpSpPr>
          <p:pic>
            <p:nvPicPr>
              <p:cNvPr id="385" name="Picture 41" descr=""/>
              <p:cNvPicPr/>
              <p:nvPr/>
            </p:nvPicPr>
            <p:blipFill>
              <a:blip r:embed="rId9"/>
              <a:stretch/>
            </p:blipFill>
            <p:spPr>
              <a:xfrm>
                <a:off x="4863960" y="5353200"/>
                <a:ext cx="138132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 Box 42"/>
              <p:cNvSpPr/>
              <p:nvPr/>
            </p:nvSpPr>
            <p:spPr>
              <a:xfrm>
                <a:off x="4975200" y="5464080"/>
                <a:ext cx="11606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" name="AutoShape 43"/>
            <p:cNvSpPr/>
            <p:nvPr/>
          </p:nvSpPr>
          <p:spPr>
            <a:xfrm rot="2040000">
              <a:off x="4673160" y="5071680"/>
              <a:ext cx="571680" cy="208080"/>
            </a:xfrm>
            <a:prstGeom prst="rightArrow">
              <a:avLst>
                <a:gd name="adj1" fmla="val 50000"/>
                <a:gd name="adj2" fmla="val 5031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AutoShape 44"/>
            <p:cNvSpPr/>
            <p:nvPr/>
          </p:nvSpPr>
          <p:spPr>
            <a:xfrm rot="19740000">
              <a:off x="4671720" y="6146640"/>
              <a:ext cx="571320" cy="208080"/>
            </a:xfrm>
            <a:prstGeom prst="rightArrow">
              <a:avLst>
                <a:gd name="adj1" fmla="val 50000"/>
                <a:gd name="adj2" fmla="val 50286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45"/>
            <p:cNvSpPr/>
            <p:nvPr/>
          </p:nvSpPr>
          <p:spPr>
            <a:xfrm>
              <a:off x="3511440" y="4067280"/>
              <a:ext cx="286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Berlin Sans FB Demi"/>
                </a:rPr>
                <a:t>C. Varios  antecedentes pueden dar lugar a otro     consecue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AutoShape 46"/>
          <p:cNvSpPr/>
          <p:nvPr/>
        </p:nvSpPr>
        <p:spPr>
          <a:xfrm>
            <a:off x="189000" y="8659800"/>
            <a:ext cx="260280" cy="376200"/>
          </a:xfrm>
          <a:custGeom>
            <a:avLst/>
            <a:gdLst>
              <a:gd name="textAreaLeft" fmla="*/ 16560 w 260280"/>
              <a:gd name="textAreaRight" fmla="*/ 243720 w 260280"/>
              <a:gd name="textAreaTop" fmla="*/ 16560 h 376200"/>
              <a:gd name="textAreaBottom" fmla="*/ 359640 h 376200"/>
            </a:gdLst>
            <a:ahLst/>
            <a:rect l="textAreaLeft" t="textAreaTop" r="textAreaRight" b="textAreaBottom"/>
            <a:pathLst>
              <a:path w="21600" h="31207">
                <a:moveTo>
                  <a:pt x="0" y="0"/>
                </a:moveTo>
                <a:lnTo>
                  <a:pt x="21600" y="0"/>
                </a:lnTo>
                <a:lnTo>
                  <a:pt x="21600" y="31207"/>
                </a:lnTo>
                <a:lnTo>
                  <a:pt x="0" y="31207"/>
                </a:lnTo>
                <a:close/>
              </a:path>
              <a:path fill="lightenLess" w="21600" h="312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207">
                <a:moveTo>
                  <a:pt x="21600" y="0"/>
                </a:moveTo>
                <a:lnTo>
                  <a:pt x="21600" y="31207"/>
                </a:lnTo>
                <a:lnTo>
                  <a:pt x="20200" y="29807"/>
                </a:lnTo>
                <a:lnTo>
                  <a:pt x="20200" y="1400"/>
                </a:lnTo>
                <a:close/>
              </a:path>
              <a:path fill="darkenLess" w="21600" h="31207">
                <a:moveTo>
                  <a:pt x="21600" y="31207"/>
                </a:moveTo>
                <a:lnTo>
                  <a:pt x="0" y="31207"/>
                </a:lnTo>
                <a:lnTo>
                  <a:pt x="1400" y="29807"/>
                </a:lnTo>
                <a:lnTo>
                  <a:pt x="20200" y="29807"/>
                </a:lnTo>
                <a:close/>
              </a:path>
              <a:path fill="lighten" w="21600" h="31207">
                <a:moveTo>
                  <a:pt x="0" y="312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807"/>
                </a:lnTo>
                <a:close/>
              </a:path>
              <a:path fill="darken" w="21600" h="31207">
                <a:moveTo>
                  <a:pt x="3794" y="12296"/>
                </a:moveTo>
                <a:lnTo>
                  <a:pt x="7301" y="12296"/>
                </a:lnTo>
                <a:lnTo>
                  <a:pt x="7301" y="17631"/>
                </a:lnTo>
                <a:cubicBezTo>
                  <a:pt x="7301" y="18554"/>
                  <a:pt x="8102" y="19285"/>
                  <a:pt x="9138" y="19285"/>
                </a:cubicBezTo>
                <a:lnTo>
                  <a:pt x="10800" y="19285"/>
                </a:lnTo>
                <a:cubicBezTo>
                  <a:pt x="11836" y="19285"/>
                  <a:pt x="12636" y="18554"/>
                  <a:pt x="12636" y="17631"/>
                </a:cubicBezTo>
                <a:lnTo>
                  <a:pt x="12636" y="12296"/>
                </a:lnTo>
                <a:lnTo>
                  <a:pt x="10800" y="12296"/>
                </a:lnTo>
                <a:lnTo>
                  <a:pt x="14308" y="8788"/>
                </a:lnTo>
                <a:lnTo>
                  <a:pt x="17981" y="12296"/>
                </a:lnTo>
                <a:lnTo>
                  <a:pt x="16144" y="12296"/>
                </a:lnTo>
                <a:lnTo>
                  <a:pt x="16144" y="17631"/>
                </a:lnTo>
                <a:cubicBezTo>
                  <a:pt x="16144" y="20399"/>
                  <a:pt x="13568" y="22958"/>
                  <a:pt x="10800" y="22958"/>
                </a:cubicBezTo>
                <a:lnTo>
                  <a:pt x="9138" y="22958"/>
                </a:lnTo>
                <a:cubicBezTo>
                  <a:pt x="6370" y="22958"/>
                  <a:pt x="3794" y="20399"/>
                  <a:pt x="3794" y="17631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7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48"/>
          <p:cNvSpPr/>
          <p:nvPr/>
        </p:nvSpPr>
        <p:spPr>
          <a:xfrm>
            <a:off x="5805360" y="32400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7493"/>
                </a:moveTo>
                <a:lnTo>
                  <a:pt x="9713" y="7493"/>
                </a:lnTo>
                <a:lnTo>
                  <a:pt x="9713" y="12828"/>
                </a:lnTo>
                <a:cubicBezTo>
                  <a:pt x="9713" y="13751"/>
                  <a:pt x="10514" y="14482"/>
                  <a:pt x="11550" y="14482"/>
                </a:cubicBezTo>
                <a:lnTo>
                  <a:pt x="13212" y="14482"/>
                </a:lnTo>
                <a:cubicBezTo>
                  <a:pt x="14248" y="14482"/>
                  <a:pt x="15048" y="13751"/>
                  <a:pt x="15048" y="12828"/>
                </a:cubicBezTo>
                <a:lnTo>
                  <a:pt x="15048" y="7493"/>
                </a:lnTo>
                <a:lnTo>
                  <a:pt x="13212" y="7493"/>
                </a:lnTo>
                <a:lnTo>
                  <a:pt x="16720" y="3985"/>
                </a:lnTo>
                <a:lnTo>
                  <a:pt x="20393" y="7493"/>
                </a:lnTo>
                <a:lnTo>
                  <a:pt x="18556" y="7493"/>
                </a:lnTo>
                <a:lnTo>
                  <a:pt x="18556" y="12828"/>
                </a:lnTo>
                <a:cubicBezTo>
                  <a:pt x="18556" y="15596"/>
                  <a:pt x="15980" y="18155"/>
                  <a:pt x="13212" y="18155"/>
                </a:cubicBezTo>
                <a:lnTo>
                  <a:pt x="11550" y="18155"/>
                </a:lnTo>
                <a:cubicBezTo>
                  <a:pt x="8782" y="18155"/>
                  <a:pt x="6206" y="15596"/>
                  <a:pt x="6206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BC54E-A6F0-4F62-A33F-B667FF7A27D6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396" name="Picture 4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5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DESCRIP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Text Box 6"/>
          <p:cNvSpPr/>
          <p:nvPr/>
        </p:nvSpPr>
        <p:spPr>
          <a:xfrm>
            <a:off x="620640" y="118728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un determinado acontecimiento o hecho (ejemplo: país), se describen diversos aspectos ( geografía, cultura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RESPECTO A”  “POR UN LADO, POR OTR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EN CUANTO A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1052640" y="2843280"/>
            <a:ext cx="4460040" cy="3381480"/>
            <a:chOff x="1052640" y="2843280"/>
            <a:chExt cx="4460040" cy="3381480"/>
          </a:xfrm>
        </p:grpSpPr>
        <p:grpSp>
          <p:nvGrpSpPr>
            <p:cNvPr id="402" name="Group 10"/>
            <p:cNvGrpSpPr/>
            <p:nvPr/>
          </p:nvGrpSpPr>
          <p:grpSpPr>
            <a:xfrm>
              <a:off x="1052640" y="2843280"/>
              <a:ext cx="1963440" cy="1253880"/>
              <a:chOff x="1052640" y="2843280"/>
              <a:chExt cx="1963440" cy="1253880"/>
            </a:xfrm>
          </p:grpSpPr>
          <p:pic>
            <p:nvPicPr>
              <p:cNvPr id="403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52640" y="2843280"/>
                <a:ext cx="1963440" cy="12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Text Box 12"/>
              <p:cNvSpPr/>
              <p:nvPr/>
            </p:nvSpPr>
            <p:spPr>
              <a:xfrm>
                <a:off x="1187280" y="2979720"/>
                <a:ext cx="16923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SPAÑ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3"/>
            <p:cNvGrpSpPr/>
            <p:nvPr/>
          </p:nvGrpSpPr>
          <p:grpSpPr>
            <a:xfrm>
              <a:off x="3548880" y="4970520"/>
              <a:ext cx="1963800" cy="1254240"/>
              <a:chOff x="3548880" y="4970520"/>
              <a:chExt cx="1963800" cy="1254240"/>
            </a:xfrm>
          </p:grpSpPr>
          <p:pic>
            <p:nvPicPr>
              <p:cNvPr id="40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8880" y="4970520"/>
                <a:ext cx="1963800" cy="12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Text Box 15"/>
              <p:cNvSpPr/>
              <p:nvPr/>
            </p:nvSpPr>
            <p:spPr>
              <a:xfrm>
                <a:off x="3683880" y="5102280"/>
                <a:ext cx="16905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CONOM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6"/>
            <p:cNvGrpSpPr/>
            <p:nvPr/>
          </p:nvGrpSpPr>
          <p:grpSpPr>
            <a:xfrm>
              <a:off x="3548880" y="3532320"/>
              <a:ext cx="1963800" cy="1253880"/>
              <a:chOff x="3548880" y="3532320"/>
              <a:chExt cx="1963800" cy="1253880"/>
            </a:xfrm>
          </p:grpSpPr>
          <p:pic>
            <p:nvPicPr>
              <p:cNvPr id="409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8880" y="3532320"/>
                <a:ext cx="1963800" cy="12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Text Box 18"/>
              <p:cNvSpPr/>
              <p:nvPr/>
            </p:nvSpPr>
            <p:spPr>
              <a:xfrm>
                <a:off x="3683880" y="3664080"/>
                <a:ext cx="16905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GEOGRAF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1" name="Line 19"/>
            <p:cNvSpPr/>
            <p:nvPr/>
          </p:nvSpPr>
          <p:spPr>
            <a:xfrm>
              <a:off x="1131840" y="333684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>
              <a:off x="3629880" y="402264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>
              <a:off x="3629880" y="545940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>
              <a:off x="2588040" y="4022640"/>
              <a:ext cx="1038240" cy="54468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>
              <a:off x="2518200" y="4091040"/>
              <a:ext cx="0" cy="163980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2518200" y="5734080"/>
              <a:ext cx="1106280" cy="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AutoShape 25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45AFF-53D2-4A1D-A2D7-62F9C38A27F8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2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420" name="Picture 3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4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SECUENCI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Text Box 5"/>
          <p:cNvSpPr/>
          <p:nvPr/>
        </p:nvSpPr>
        <p:spPr>
          <a:xfrm>
            <a:off x="620640" y="82692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se describen los pasos o fases de un hecho a lo largo del ti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Ejemplo: cómo se formó la tie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6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PRIMERAMENTE”  “MÁS TARDE, POSTERIOEMENT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SEGUIDAMENTE” “FINALMENTE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Group 8"/>
          <p:cNvGrpSpPr/>
          <p:nvPr/>
        </p:nvGrpSpPr>
        <p:grpSpPr>
          <a:xfrm>
            <a:off x="692280" y="3059280"/>
            <a:ext cx="5470560" cy="2517480"/>
            <a:chOff x="692280" y="3059280"/>
            <a:chExt cx="5470560" cy="2517480"/>
          </a:xfrm>
        </p:grpSpPr>
        <p:grpSp>
          <p:nvGrpSpPr>
            <p:cNvPr id="426" name="Group 9"/>
            <p:cNvGrpSpPr/>
            <p:nvPr/>
          </p:nvGrpSpPr>
          <p:grpSpPr>
            <a:xfrm>
              <a:off x="692280" y="4745160"/>
              <a:ext cx="1695240" cy="831600"/>
              <a:chOff x="692280" y="4745160"/>
              <a:chExt cx="1695240" cy="831600"/>
            </a:xfrm>
          </p:grpSpPr>
          <p:pic>
            <p:nvPicPr>
              <p:cNvPr id="427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692280" y="4745160"/>
                <a:ext cx="169524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1"/>
              <p:cNvSpPr/>
              <p:nvPr/>
            </p:nvSpPr>
            <p:spPr>
              <a:xfrm>
                <a:off x="80640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PRIM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9" name="Line 12"/>
            <p:cNvSpPr/>
            <p:nvPr/>
          </p:nvSpPr>
          <p:spPr>
            <a:xfrm>
              <a:off x="841320" y="5097600"/>
              <a:ext cx="146520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0" name="Group 13"/>
            <p:cNvGrpSpPr/>
            <p:nvPr/>
          </p:nvGrpSpPr>
          <p:grpSpPr>
            <a:xfrm>
              <a:off x="4467240" y="4745160"/>
              <a:ext cx="1695600" cy="831600"/>
              <a:chOff x="4467240" y="4745160"/>
              <a:chExt cx="1695600" cy="831600"/>
            </a:xfrm>
          </p:grpSpPr>
          <p:pic>
            <p:nvPicPr>
              <p:cNvPr id="431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4467240" y="4745160"/>
                <a:ext cx="169560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Text Box 15"/>
              <p:cNvSpPr/>
              <p:nvPr/>
            </p:nvSpPr>
            <p:spPr>
              <a:xfrm>
                <a:off x="458136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TERC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16"/>
            <p:cNvGrpSpPr/>
            <p:nvPr/>
          </p:nvGrpSpPr>
          <p:grpSpPr>
            <a:xfrm>
              <a:off x="2579760" y="4745160"/>
              <a:ext cx="1695240" cy="831600"/>
              <a:chOff x="2579760" y="4745160"/>
              <a:chExt cx="1695240" cy="831600"/>
            </a:xfrm>
          </p:grpSpPr>
          <p:pic>
            <p:nvPicPr>
              <p:cNvPr id="434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9760" y="4745160"/>
                <a:ext cx="169524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Text Box 18"/>
              <p:cNvSpPr/>
              <p:nvPr/>
            </p:nvSpPr>
            <p:spPr>
              <a:xfrm>
                <a:off x="269388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SEGUND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Line 19"/>
            <p:cNvSpPr/>
            <p:nvPr/>
          </p:nvSpPr>
          <p:spPr>
            <a:xfrm>
              <a:off x="2728800" y="5097600"/>
              <a:ext cx="146520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0"/>
            <p:cNvSpPr/>
            <p:nvPr/>
          </p:nvSpPr>
          <p:spPr>
            <a:xfrm>
              <a:off x="4616280" y="5097600"/>
              <a:ext cx="146556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Group 21"/>
            <p:cNvGrpSpPr/>
            <p:nvPr/>
          </p:nvGrpSpPr>
          <p:grpSpPr>
            <a:xfrm>
              <a:off x="4467240" y="4002120"/>
              <a:ext cx="1671480" cy="493560"/>
              <a:chOff x="4467240" y="4002120"/>
              <a:chExt cx="1671480" cy="493560"/>
            </a:xfrm>
          </p:grpSpPr>
          <p:pic>
            <p:nvPicPr>
              <p:cNvPr id="439" name="Picture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4467240" y="400212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 Box 23"/>
              <p:cNvSpPr/>
              <p:nvPr/>
            </p:nvSpPr>
            <p:spPr>
              <a:xfrm>
                <a:off x="4564080" y="410040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24"/>
            <p:cNvGrpSpPr/>
            <p:nvPr/>
          </p:nvGrpSpPr>
          <p:grpSpPr>
            <a:xfrm>
              <a:off x="4467240" y="3059280"/>
              <a:ext cx="1671480" cy="493560"/>
              <a:chOff x="4467240" y="3059280"/>
              <a:chExt cx="1671480" cy="493560"/>
            </a:xfrm>
          </p:grpSpPr>
          <p:pic>
            <p:nvPicPr>
              <p:cNvPr id="442" name="Picture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7240" y="305928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Text Box 26"/>
              <p:cNvSpPr/>
              <p:nvPr/>
            </p:nvSpPr>
            <p:spPr>
              <a:xfrm>
                <a:off x="4564080" y="315432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27"/>
            <p:cNvGrpSpPr/>
            <p:nvPr/>
          </p:nvGrpSpPr>
          <p:grpSpPr>
            <a:xfrm>
              <a:off x="4467240" y="3533760"/>
              <a:ext cx="1671480" cy="493560"/>
              <a:chOff x="4467240" y="3533760"/>
              <a:chExt cx="1671480" cy="493560"/>
            </a:xfrm>
          </p:grpSpPr>
          <p:pic>
            <p:nvPicPr>
              <p:cNvPr id="445" name="Picture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4467240" y="353376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29"/>
              <p:cNvSpPr/>
              <p:nvPr/>
            </p:nvSpPr>
            <p:spPr>
              <a:xfrm>
                <a:off x="4564080" y="362736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7" name="AutoShape 30"/>
            <p:cNvSpPr/>
            <p:nvPr/>
          </p:nvSpPr>
          <p:spPr>
            <a:xfrm>
              <a:off x="2309760" y="5029200"/>
              <a:ext cx="338040" cy="260280"/>
            </a:xfrm>
            <a:prstGeom prst="rightArrow">
              <a:avLst>
                <a:gd name="adj1" fmla="val 50000"/>
                <a:gd name="adj2" fmla="val 5177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31"/>
            <p:cNvSpPr/>
            <p:nvPr/>
          </p:nvSpPr>
          <p:spPr>
            <a:xfrm>
              <a:off x="4197240" y="5097600"/>
              <a:ext cx="338400" cy="258480"/>
            </a:xfrm>
            <a:prstGeom prst="rightArrow">
              <a:avLst>
                <a:gd name="adj1" fmla="val 50000"/>
                <a:gd name="adj2" fmla="val 51895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32"/>
            <p:cNvSpPr/>
            <p:nvPr/>
          </p:nvSpPr>
          <p:spPr>
            <a:xfrm>
              <a:off x="5316480" y="3273480"/>
              <a:ext cx="136440" cy="334800"/>
            </a:xfrm>
            <a:prstGeom prst="downArrow">
              <a:avLst>
                <a:gd name="adj1" fmla="val 50000"/>
                <a:gd name="adj2" fmla="val 4919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AutoShape 33"/>
            <p:cNvSpPr/>
            <p:nvPr/>
          </p:nvSpPr>
          <p:spPr>
            <a:xfrm>
              <a:off x="5316480" y="3813120"/>
              <a:ext cx="136440" cy="335160"/>
            </a:xfrm>
            <a:prstGeom prst="downArrow">
              <a:avLst>
                <a:gd name="adj1" fmla="val 50000"/>
                <a:gd name="adj2" fmla="val 49243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Rectangle 34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35"/>
          <p:cNvSpPr/>
          <p:nvPr/>
        </p:nvSpPr>
        <p:spPr>
          <a:xfrm>
            <a:off x="5950080" y="25092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3794" y="7517"/>
                </a:moveTo>
                <a:lnTo>
                  <a:pt x="7301" y="7517"/>
                </a:lnTo>
                <a:lnTo>
                  <a:pt x="7301" y="12852"/>
                </a:lnTo>
                <a:cubicBezTo>
                  <a:pt x="7301" y="13775"/>
                  <a:pt x="8102" y="14506"/>
                  <a:pt x="9138" y="14506"/>
                </a:cubicBezTo>
                <a:lnTo>
                  <a:pt x="10800" y="14506"/>
                </a:lnTo>
                <a:cubicBezTo>
                  <a:pt x="11836" y="14506"/>
                  <a:pt x="12636" y="13775"/>
                  <a:pt x="12636" y="12852"/>
                </a:cubicBezTo>
                <a:lnTo>
                  <a:pt x="12636" y="7517"/>
                </a:lnTo>
                <a:lnTo>
                  <a:pt x="10800" y="7517"/>
                </a:lnTo>
                <a:lnTo>
                  <a:pt x="14308" y="4009"/>
                </a:lnTo>
                <a:lnTo>
                  <a:pt x="17981" y="7517"/>
                </a:lnTo>
                <a:lnTo>
                  <a:pt x="16144" y="7517"/>
                </a:lnTo>
                <a:lnTo>
                  <a:pt x="16144" y="12852"/>
                </a:lnTo>
                <a:cubicBezTo>
                  <a:pt x="16144" y="15620"/>
                  <a:pt x="13568" y="18179"/>
                  <a:pt x="10800" y="18179"/>
                </a:cubicBezTo>
                <a:lnTo>
                  <a:pt x="9138" y="18179"/>
                </a:lnTo>
                <a:cubicBezTo>
                  <a:pt x="6370" y="18179"/>
                  <a:pt x="3794" y="15620"/>
                  <a:pt x="3794" y="12852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7C877-B328-4753-A102-23911F736366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55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5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LOCALIZACIÓN DE LOS COMPONENTES DE LA ORGANIZACIÓ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Text Box 5"/>
          <p:cNvSpPr/>
          <p:nvPr/>
        </p:nvSpPr>
        <p:spPr>
          <a:xfrm>
            <a:off x="765000" y="2050920"/>
            <a:ext cx="532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iste e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averigu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 qué párrafos se encuentra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los componentes básico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la orga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ello debéis haceros las siguientes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pregunta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¿Dónde están…. Las causas, las consecuencias, los problemas, las soluciones, las fase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4CD27-4012-40A8-A249-63AAC4A35BC8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61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6 . CONSTRUCCIÓN DEL ESQUEMA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Text Box 5"/>
          <p:cNvSpPr/>
          <p:nvPr/>
        </p:nvSpPr>
        <p:spPr>
          <a:xfrm>
            <a:off x="620640" y="1835280"/>
            <a:ext cx="540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ste en realizar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GRÁFICO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xprese la organización general del texto y refleje el número de componentes localizados en cada párraf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éis tener claro que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esquem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 la 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</a:rPr>
              <a:t>forma de organizar la informac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raída del análisis del tex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preciso hacerse las siguientes pregunta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Qué representación gráfic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rresponde a este tipo de organiza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Cuántos component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o reflejar para poder interpretar el texto y poder organizar mis 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olvidéis que existen cinco formas básicas de organizar la información en los textos y que a cada una corresponde un tipo de 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3FEF9-FEB4-4585-BC52-BBAA20F5AAAE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67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7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CONSTRUCCIÓN DEL SIGNIFICADO: RESUM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5"/>
          <p:cNvSpPr/>
          <p:nvPr/>
        </p:nvSpPr>
        <p:spPr>
          <a:xfrm>
            <a:off x="620640" y="1979640"/>
            <a:ext cx="540072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9e98e"/>
                </a:solidFill>
                <a:latin typeface="Arial"/>
              </a:rPr>
              <a:t>Debéis tener cla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é un resum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es un simple tít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consiste e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ubrayar, quitar lo redundante y copiar literalmente una lista de elementos, sin ninguna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buen res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Debe ser breve y precis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 en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expresar con vuestras propias palabr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las ideas principal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análisis global del texto, con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rtir de la información que ya conocéis y ampliarla con la información nueva que os aporta el texto para aumentar vuestros conocimi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2343240" y="8562960"/>
            <a:ext cx="396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E155D-714A-47AE-BFC4-B0927854C080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76280" y="826920"/>
            <a:ext cx="5977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¿Qué podemos hacer para comprender y aprender de forma eficaz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AD6D9-88B4-4BB6-8368-BB0CE5AEACA2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981000" y="68436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Para comprender bien cualquier texto escrito, debéis seguir los pasos sigu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1133640" y="1504800"/>
            <a:ext cx="4724280" cy="62485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1557360" y="8459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50FD4-DC35-4BB0-BAF8-F6CA846EFC50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1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GLOBAL DEL TEX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Text Box 5"/>
          <p:cNvSpPr/>
          <p:nvPr/>
        </p:nvSpPr>
        <p:spPr>
          <a:xfrm>
            <a:off x="692280" y="2195640"/>
            <a:ext cx="554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ómo ha de ser esa lectura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RÁP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hacernos una idea general del tex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C35F3-EEA9-4AD9-A7FB-3A5925FC4568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2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DE CADA PÁRRAF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Text Box 5"/>
          <p:cNvSpPr/>
          <p:nvPr/>
        </p:nvSpPr>
        <p:spPr>
          <a:xfrm>
            <a:off x="692280" y="169236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ha de ser esa lectura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DETEN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Para qué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Para determinar cuál es el asunto central sobre el que giran las ideas contenidas en cada párra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Debéis poner </a:t>
            </a:r>
            <a:r>
              <a:rPr b="1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UN TÍTULO</a:t>
            </a:r>
            <a:r>
              <a:rPr b="1" lang="es-ES" sz="2400" spc="-1" strike="noStrike">
                <a:solidFill>
                  <a:srgbClr val="f7df56"/>
                </a:solidFill>
                <a:latin typeface="Berlin Sans FB Demi"/>
                <a:ea typeface="Arial"/>
              </a:rPr>
              <a:t>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a cada párrafo y colocarlo al lado , en el margen izquierdo de la ho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Debéis tener cla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el título no es un resumen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, basta con una palabra o un par de el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no es el primer nombre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aparece en el párraf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debe reflejar el tema específico del párrafo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y no el tema general del tex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1D5EC-2E60-4736-A600-4144923003EB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44" name="Picture 4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5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3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REPASO DE LOS TÍTU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Text Box 6"/>
          <p:cNvSpPr/>
          <p:nvPr/>
        </p:nvSpPr>
        <p:spPr>
          <a:xfrm>
            <a:off x="692280" y="2195640"/>
            <a:ext cx="554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béis repasar todos los títul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quedaros con el título más válido de cada párraf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FCC86-51F0-4A91-ACFB-BC4940708274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49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Berlin Sans FB Demi"/>
                </a:rPr>
                <a:t>4. ORGANIZACIÓ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5"/>
          <p:cNvSpPr/>
          <p:nvPr/>
        </p:nvSpPr>
        <p:spPr>
          <a:xfrm>
            <a:off x="692280" y="1692360"/>
            <a:ext cx="583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siste </a:t>
            </a:r>
            <a:r>
              <a:rPr b="0" lang="es-ES" sz="2800" spc="-1" strike="noStrike">
                <a:solidFill>
                  <a:srgbClr val="f7df56"/>
                </a:solidFill>
                <a:latin typeface="Arial"/>
              </a:rPr>
              <a:t>en reconocer la organización interna del tex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béis tener cla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e todo texto escrito tiene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xisten formas distintas de organizar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stas formas pueden ser detectadas y representadas gráfica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38517-28BD-46D4-9B28-23FFD5C5A6A9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692280" y="611280"/>
            <a:ext cx="5832360" cy="82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COMPARA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PROBLEMA-SOLU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CAUSALID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DESCRIP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SECUENC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733BD-5754-4D3D-A3FB-CAA195C6E807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2"/>
          <p:cNvGrpSpPr/>
          <p:nvPr/>
        </p:nvGrpSpPr>
        <p:grpSpPr>
          <a:xfrm>
            <a:off x="1109520" y="311040"/>
            <a:ext cx="4416480" cy="874800"/>
            <a:chOff x="1109520" y="311040"/>
            <a:chExt cx="4416480" cy="874800"/>
          </a:xfrm>
        </p:grpSpPr>
        <p:pic>
          <p:nvPicPr>
            <p:cNvPr id="258" name="Picture 3" descr=""/>
            <p:cNvPicPr/>
            <p:nvPr/>
          </p:nvPicPr>
          <p:blipFill>
            <a:blip r:embed="rId1"/>
            <a:stretch/>
          </p:blipFill>
          <p:spPr>
            <a:xfrm>
              <a:off x="1109520" y="311040"/>
              <a:ext cx="441648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4"/>
            <p:cNvSpPr/>
            <p:nvPr/>
          </p:nvSpPr>
          <p:spPr>
            <a:xfrm>
              <a:off x="1197000" y="395280"/>
              <a:ext cx="424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4000" spc="-1" strike="noStrike">
                  <a:solidFill>
                    <a:srgbClr val="000000"/>
                  </a:solidFill>
                  <a:latin typeface="Berlin Sans FB Demi"/>
                </a:rPr>
                <a:t>COMPARACIÓ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5"/>
          <p:cNvSpPr/>
          <p:nvPr/>
        </p:nvSpPr>
        <p:spPr>
          <a:xfrm>
            <a:off x="620640" y="1619280"/>
            <a:ext cx="5545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Cuando el texto consiste en comparar dos o más elementos o fenóm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20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836640" y="3708360"/>
            <a:ext cx="5110200" cy="2948040"/>
            <a:chOff x="836640" y="3708360"/>
            <a:chExt cx="5110200" cy="2948040"/>
          </a:xfrm>
        </p:grpSpPr>
        <p:grpSp>
          <p:nvGrpSpPr>
            <p:cNvPr id="262" name="Group 7"/>
            <p:cNvGrpSpPr/>
            <p:nvPr/>
          </p:nvGrpSpPr>
          <p:grpSpPr>
            <a:xfrm>
              <a:off x="836640" y="3708360"/>
              <a:ext cx="1565280" cy="838080"/>
              <a:chOff x="836640" y="3708360"/>
              <a:chExt cx="1565280" cy="838080"/>
            </a:xfrm>
          </p:grpSpPr>
          <p:pic>
            <p:nvPicPr>
              <p:cNvPr id="263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36640" y="370836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954000" y="3824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0"/>
            <p:cNvGrpSpPr/>
            <p:nvPr/>
          </p:nvGrpSpPr>
          <p:grpSpPr>
            <a:xfrm>
              <a:off x="4381560" y="3708360"/>
              <a:ext cx="1565280" cy="838080"/>
              <a:chOff x="4381560" y="3708360"/>
              <a:chExt cx="1565280" cy="838080"/>
            </a:xfrm>
          </p:grpSpPr>
          <p:pic>
            <p:nvPicPr>
              <p:cNvPr id="266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1560" y="370836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Text Box 12"/>
              <p:cNvSpPr/>
              <p:nvPr/>
            </p:nvSpPr>
            <p:spPr>
              <a:xfrm>
                <a:off x="4498920" y="3824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3"/>
            <p:cNvGrpSpPr/>
            <p:nvPr/>
          </p:nvGrpSpPr>
          <p:grpSpPr>
            <a:xfrm>
              <a:off x="1425600" y="4797360"/>
              <a:ext cx="1565280" cy="838440"/>
              <a:chOff x="1425600" y="4797360"/>
              <a:chExt cx="1565280" cy="838440"/>
            </a:xfrm>
          </p:grpSpPr>
          <p:pic>
            <p:nvPicPr>
              <p:cNvPr id="269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5600" y="4797360"/>
                <a:ext cx="156528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Text Box 15"/>
              <p:cNvSpPr/>
              <p:nvPr/>
            </p:nvSpPr>
            <p:spPr>
              <a:xfrm>
                <a:off x="1544760" y="4913280"/>
                <a:ext cx="133164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6"/>
            <p:cNvGrpSpPr/>
            <p:nvPr/>
          </p:nvGrpSpPr>
          <p:grpSpPr>
            <a:xfrm>
              <a:off x="1425600" y="5818320"/>
              <a:ext cx="1565280" cy="838080"/>
              <a:chOff x="1425600" y="5818320"/>
              <a:chExt cx="1565280" cy="838080"/>
            </a:xfrm>
          </p:grpSpPr>
          <p:pic>
            <p:nvPicPr>
              <p:cNvPr id="272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425600" y="581832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Text Box 18"/>
              <p:cNvSpPr/>
              <p:nvPr/>
            </p:nvSpPr>
            <p:spPr>
              <a:xfrm>
                <a:off x="1544760" y="5934240"/>
                <a:ext cx="133164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19"/>
            <p:cNvGrpSpPr/>
            <p:nvPr/>
          </p:nvGrpSpPr>
          <p:grpSpPr>
            <a:xfrm>
              <a:off x="3419640" y="4797360"/>
              <a:ext cx="1565280" cy="838440"/>
              <a:chOff x="3419640" y="4797360"/>
              <a:chExt cx="1565280" cy="838440"/>
            </a:xfrm>
          </p:grpSpPr>
          <p:pic>
            <p:nvPicPr>
              <p:cNvPr id="275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3419640" y="4797360"/>
                <a:ext cx="156528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3538440" y="4913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2"/>
            <p:cNvGrpSpPr/>
            <p:nvPr/>
          </p:nvGrpSpPr>
          <p:grpSpPr>
            <a:xfrm>
              <a:off x="3419640" y="5818320"/>
              <a:ext cx="1565280" cy="838080"/>
              <a:chOff x="3419640" y="5818320"/>
              <a:chExt cx="1565280" cy="838080"/>
            </a:xfrm>
          </p:grpSpPr>
          <p:pic>
            <p:nvPicPr>
              <p:cNvPr id="278" name="Picture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9640" y="581832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Text Box 24"/>
              <p:cNvSpPr/>
              <p:nvPr/>
            </p:nvSpPr>
            <p:spPr>
              <a:xfrm>
                <a:off x="3538440" y="5934240"/>
                <a:ext cx="133200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80" name="Picture 25" descr=""/>
            <p:cNvPicPr/>
            <p:nvPr/>
          </p:nvPicPr>
          <p:blipFill>
            <a:blip r:embed="rId8"/>
            <a:stretch/>
          </p:blipFill>
          <p:spPr>
            <a:xfrm>
              <a:off x="1143000" y="4464000"/>
              <a:ext cx="44280" cy="17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26" descr=""/>
            <p:cNvPicPr/>
            <p:nvPr/>
          </p:nvPicPr>
          <p:blipFill>
            <a:blip r:embed="rId9"/>
            <a:stretch/>
          </p:blipFill>
          <p:spPr>
            <a:xfrm>
              <a:off x="5207040" y="4464000"/>
              <a:ext cx="44280" cy="17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27" descr=""/>
            <p:cNvPicPr/>
            <p:nvPr/>
          </p:nvPicPr>
          <p:blipFill>
            <a:blip r:embed="rId10"/>
            <a:stretch/>
          </p:blipFill>
          <p:spPr>
            <a:xfrm>
              <a:off x="4741920" y="4451400"/>
              <a:ext cx="5508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28" descr=""/>
            <p:cNvPicPr/>
            <p:nvPr/>
          </p:nvPicPr>
          <p:blipFill>
            <a:blip r:embed="rId11"/>
            <a:stretch/>
          </p:blipFill>
          <p:spPr>
            <a:xfrm>
              <a:off x="1197000" y="4451400"/>
              <a:ext cx="47448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29" descr=""/>
            <p:cNvPicPr/>
            <p:nvPr/>
          </p:nvPicPr>
          <p:blipFill>
            <a:blip r:embed="rId12"/>
            <a:stretch/>
          </p:blipFill>
          <p:spPr>
            <a:xfrm>
              <a:off x="4976640" y="6107040"/>
              <a:ext cx="303480" cy="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30" descr=""/>
            <p:cNvPicPr/>
            <p:nvPr/>
          </p:nvPicPr>
          <p:blipFill>
            <a:blip r:embed="rId13"/>
            <a:stretch/>
          </p:blipFill>
          <p:spPr>
            <a:xfrm>
              <a:off x="1208160" y="6107040"/>
              <a:ext cx="303120" cy="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Line 31"/>
            <p:cNvSpPr/>
            <p:nvPr/>
          </p:nvSpPr>
          <p:spPr>
            <a:xfrm>
              <a:off x="1511280" y="50832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32"/>
            <p:cNvSpPr/>
            <p:nvPr/>
          </p:nvSpPr>
          <p:spPr>
            <a:xfrm>
              <a:off x="3432240" y="5083200"/>
              <a:ext cx="147312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33"/>
            <p:cNvSpPr/>
            <p:nvPr/>
          </p:nvSpPr>
          <p:spPr>
            <a:xfrm>
              <a:off x="1511280" y="61056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34"/>
            <p:cNvSpPr/>
            <p:nvPr/>
          </p:nvSpPr>
          <p:spPr>
            <a:xfrm>
              <a:off x="3505320" y="61056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AutoShape 35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A SEMEJANZA”  “A DIFERENCI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37"/>
          <p:cNvSpPr/>
          <p:nvPr/>
        </p:nvSpPr>
        <p:spPr>
          <a:xfrm>
            <a:off x="5732640" y="684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8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6:13:06Z</dcterms:created>
  <dc:creator>Usuario</dc:creator>
  <dc:description/>
  <dc:language>en-US</dc:language>
  <cp:lastModifiedBy>Usuario</cp:lastModifiedBy>
  <dcterms:modified xsi:type="dcterms:W3CDTF">2012-02-03T14:41:59Z</dcterms:modified>
  <cp:revision>35</cp:revision>
  <dc:subject/>
  <dc:title>Leer Para comprender y aprender</dc:title>
</cp:coreProperties>
</file>