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CEO Miguel Delibes. Curso 2011/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16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2142720" y="600120"/>
            <a:ext cx="2568600" cy="3597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7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578FA0-14A0-4459-B8AB-1B11962011F4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3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CEO Miguel Delibes. Curso 2011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DC2ED6-3C44-4D58-92FE-F22B50F0046C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2079720" y="600120"/>
            <a:ext cx="2698560" cy="359892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CEO Miguel Delibes. Curso 2011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87974D-26E8-4C7D-860E-F6A3BB4F3C40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2079720" y="600120"/>
            <a:ext cx="2698560" cy="359892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CEO Miguel Delibes. Curso 2011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E6380E-943C-4CF2-8DD6-B1ACF9062A51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2079720" y="600120"/>
            <a:ext cx="2698560" cy="359892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CEO Miguel Delibes. Curso 2011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E03D8E-B0AD-4A48-BB89-0D0F84164608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2079720" y="600120"/>
            <a:ext cx="2698560" cy="359892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CEO Miguel Delibes. Curso 2011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5AA782-9477-484F-A9D9-90465B003C36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2079720" y="600120"/>
            <a:ext cx="2698560" cy="359892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3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CEO Miguel Delibes. Curso 2011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C02219-4B74-4486-A7A8-3ED4E0A712BB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2079720" y="600120"/>
            <a:ext cx="2698560" cy="359892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3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CEO Miguel Delibes. Curso 2011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073CB7-7A3B-413D-A90B-BCB568352423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2079720" y="600120"/>
            <a:ext cx="2698560" cy="359892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3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CEO Miguel Delibes. Curso 2011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005DDF-354A-4CBD-BA08-8343D5221270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2079720" y="600120"/>
            <a:ext cx="2698560" cy="359892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3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CEO Miguel Delibes. Curso 2011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3599DA-3FF2-4273-AFF5-E41980ACDEE8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 Unicode MS"/>
            </a:endParaRPr>
          </a:p>
        </p:txBody>
      </p:sp>
      <p:sp>
        <p:nvSpPr>
          <p:cNvPr id="479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alibri"/>
              </a:rPr>
              <a:t>CEO Miguel Delibes. Curso 2011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3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CEO Miguel Delibes. Curso 2011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B7156D-4BE2-4BA8-BD55-63F6F73A7063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2079720" y="600120"/>
            <a:ext cx="2698560" cy="359892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3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CEO Miguel Delibes. Curso 2011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4DEBC7-596E-42FA-AC75-8889FEE0DD63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2079720" y="600120"/>
            <a:ext cx="2698560" cy="359892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3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CEO Miguel Delibes. Curso 2011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3BC9AA-AA43-487F-856D-01AA447759F0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2079720" y="600120"/>
            <a:ext cx="2698560" cy="359892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3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CEO Miguel Delibes. Curso 2011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57B475-D3A8-4688-9E7F-E2E000F17732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2079720" y="600120"/>
            <a:ext cx="2698560" cy="359892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3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CEO Miguel Delibes. Curso 2011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019905-4D54-40FE-8656-E2F8A53B758A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2079720" y="600120"/>
            <a:ext cx="2698560" cy="359892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3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CEO Miguel Delibes. Curso 2011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3B23DC-14D9-4448-B5D2-DDBB0C952F3D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2079720" y="600120"/>
            <a:ext cx="2698560" cy="359892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CEO Miguel Delibes. Curso 2011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FB08E2-67FC-47F5-AE91-0C8B64A8724C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2079720" y="600120"/>
            <a:ext cx="2698560" cy="359892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CEDB-93BD-46F1-A250-6BCF9E524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F867-9541-4D79-8258-153D4F36E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DF92-DA4A-42F8-ACC7-E351E5516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1B08-1F1E-44BB-8722-48C72A6FD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FED1B-F580-4C87-BC14-15B3C8ECB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8E191-E991-446A-9404-C230310B0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04254-932F-4572-900F-87EC3B8E3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4D9AE-9B73-4285-BCFD-C51C14228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1A5CD-E870-4FBC-A9FA-398458140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7FED7-510C-4360-A9C1-C1E34EFBD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BA446-8E23-48BB-85E7-08758075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AD7E-89C6-4788-8728-B45954444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2ACA5-781A-4D46-8CB0-370CB595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5428B-1F97-4DC0-A57C-58589C98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8AFCA-CAF0-44CB-B270-6626E96F0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95E94-6669-4494-9A1E-6CCEBDE21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68120-B1C2-4AE4-8C6C-7A190C057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BD965-7D64-4015-A229-68788AF94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093BA-195D-4EF5-BEE6-59C91A52D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0C611-79A5-47A1-BE49-A9065B9DB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3B8AD-6F68-45F2-8620-E85BC9E54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21F65-DD80-49BC-AA44-D04FA4289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CBEE-DD3C-4835-A525-D8AA09D4C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6EB79-ECCA-4F5A-86C8-6711AB64D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22803-103D-4A71-B2A3-82370F2B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8E359-159D-4C1E-9B18-D3EAD0DF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2F0E4-ADDC-4382-9BDC-F54956D4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E5291-4D5C-47A1-9FBD-277A5EA10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3529B-9347-4811-9D42-CEDDAF6BE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0E18C-29D0-471E-BC95-782B90AA4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2C30F-9F77-40C5-BE7C-7DF2D2F17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206B7-4EBF-4640-82C8-70480F4AB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2727C-CA85-4CCD-9C23-0E9713E7A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2ED8-BEB2-427D-A2B6-4BE6348D3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B39D7-A45E-44D8-A997-2E2AECA45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86686-A641-4386-A68F-85163252A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5AB2E-1A43-4785-8D23-884EE9B7E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493CB-9AB8-449C-B46F-7F5377B2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C704F-F65E-4D86-A1A2-C3FA8A68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0EC62-36ED-4DD5-B04D-1F7D265C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F113A-E834-461C-8CE3-0F78D5E97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5A7F5-AD22-49B5-9B02-1F833DDEB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5BD54-9BEB-415B-A933-87FD854C0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6800C-C899-4EF6-8BF1-5CD5BBB46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0B3B-65A0-4A09-B6AC-333441218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14183-0DF5-4816-AA12-3DB0C16BE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CA94E-7BCA-430F-A086-9B458B498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55E6E-920A-42E5-84EA-BC1C15632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5DEED-B4D3-4BA7-8184-D0A5C40E8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127F0-762C-4ED4-81ED-3D769EA44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6DBFB-88BC-43F9-85D1-AE625AF5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15147-5F7B-4B52-986F-C85EBF23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6DAB8-8098-4A9C-BF11-2739198D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41823-C588-4221-A19D-1865613FC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D5C3E-3464-44C3-8D30-425CDD85D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9398-7408-4ADD-8D78-6DDACC226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FA9D3-63A4-44CD-9F5A-89066535D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BC43-6AD2-43AF-9463-BE911405D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5DD4-2B58-496A-9384-6F98E427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E33B-A039-4FD0-9538-4BE26284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"/>
          <p:cNvSpPr/>
          <p:nvPr/>
        </p:nvSpPr>
        <p:spPr>
          <a:xfrm>
            <a:off x="0" y="6335640"/>
            <a:ext cx="6858000" cy="2817720"/>
          </a:xfrm>
          <a:custGeom>
            <a:avLst/>
            <a:gdLst>
              <a:gd name="textAreaLeft" fmla="*/ 0 w 6858000"/>
              <a:gd name="textAreaRight" fmla="*/ 6858360 w 6858000"/>
              <a:gd name="textAreaTop" fmla="*/ 0 h 2817720"/>
              <a:gd name="textAreaBottom" fmla="*/ 2818080 h 281772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2"/>
          <p:cNvSpPr/>
          <p:nvPr/>
        </p:nvSpPr>
        <p:spPr>
          <a:xfrm>
            <a:off x="4579920" y="0"/>
            <a:ext cx="2278080" cy="9144000"/>
          </a:xfrm>
          <a:custGeom>
            <a:avLst/>
            <a:gdLst>
              <a:gd name="textAreaLeft" fmla="*/ 0 w 2278080"/>
              <a:gd name="textAreaRight" fmla="*/ 2278440 w 2278080"/>
              <a:gd name="textAreaTop" fmla="*/ 0 h 9144000"/>
              <a:gd name="textAreaBottom" fmla="*/ 9144360 h 914400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43080" y="30240"/>
            <a:ext cx="5597280" cy="2195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43080" y="2133360"/>
            <a:ext cx="5597280" cy="78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43080" y="8562600"/>
            <a:ext cx="159696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29/01/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342880" y="8562600"/>
            <a:ext cx="216828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Leer para comprender y apr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114600" y="8562600"/>
            <a:ext cx="56844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4CBA505-2242-4EA5-89B5-4FCCFE3969ED}" type="slidenum">
              <a: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3080" y="30240"/>
            <a:ext cx="5597280" cy="2195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43080" y="2133360"/>
            <a:ext cx="5597280" cy="78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43080" y="8562600"/>
            <a:ext cx="159696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29/01/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42880" y="8562600"/>
            <a:ext cx="216828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Leer para comprender y apr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114600" y="8562600"/>
            <a:ext cx="56844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5815BB0-BD30-4A8B-A278-8726304A20A6}" type="slidenum">
              <a: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reeform 1"/>
          <p:cNvSpPr/>
          <p:nvPr/>
        </p:nvSpPr>
        <p:spPr>
          <a:xfrm>
            <a:off x="0" y="6335640"/>
            <a:ext cx="6858000" cy="2817720"/>
          </a:xfrm>
          <a:custGeom>
            <a:avLst/>
            <a:gdLst>
              <a:gd name="textAreaLeft" fmla="*/ 0 w 6858000"/>
              <a:gd name="textAreaRight" fmla="*/ 6858360 w 6858000"/>
              <a:gd name="textAreaTop" fmla="*/ 0 h 2817720"/>
              <a:gd name="textAreaBottom" fmla="*/ 2818080 h 281772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Freeform 2"/>
          <p:cNvSpPr/>
          <p:nvPr/>
        </p:nvSpPr>
        <p:spPr>
          <a:xfrm>
            <a:off x="5486400" y="0"/>
            <a:ext cx="1371600" cy="914400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9144000"/>
              <a:gd name="textAreaBottom" fmla="*/ 9144360 h 914400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3080" y="30240"/>
            <a:ext cx="5597280" cy="2195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43080" y="2133360"/>
            <a:ext cx="5597280" cy="78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343080" y="8562600"/>
            <a:ext cx="159696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29/01/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342880" y="8562600"/>
            <a:ext cx="216828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Leer para comprender y apr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116760" y="8562600"/>
            <a:ext cx="56808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BC40CBF-2B23-43C7-9FDE-D01F7037C144}" type="slidenum">
              <a: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43080" y="30240"/>
            <a:ext cx="5597280" cy="2195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343080" y="2133360"/>
            <a:ext cx="5597280" cy="78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343080" y="8562600"/>
            <a:ext cx="159696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29/01/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2342880" y="8562600"/>
            <a:ext cx="216828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Leer para comprender y apr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114600" y="8562600"/>
            <a:ext cx="56844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B549FB2-2018-4864-A2BB-F6555D11528D}" type="slidenum">
              <a: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29/01/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Leer para comprender y apre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2FA1CD8-89B7-4A4C-98BF-F5FFE21F5EAB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49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0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49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49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49.xml"/><Relationship Id="rId1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Group 1"/>
          <p:cNvGrpSpPr/>
          <p:nvPr/>
        </p:nvGrpSpPr>
        <p:grpSpPr>
          <a:xfrm>
            <a:off x="317520" y="4316400"/>
            <a:ext cx="5348160" cy="3203640"/>
            <a:chOff x="317520" y="4316400"/>
            <a:chExt cx="5348160" cy="3203640"/>
          </a:xfrm>
        </p:grpSpPr>
        <p:pic>
          <p:nvPicPr>
            <p:cNvPr id="219" name="Picture 2" descr=""/>
            <p:cNvPicPr/>
            <p:nvPr/>
          </p:nvPicPr>
          <p:blipFill>
            <a:blip r:embed="rId1"/>
            <a:stretch/>
          </p:blipFill>
          <p:spPr>
            <a:xfrm>
              <a:off x="317520" y="4316400"/>
              <a:ext cx="5348160" cy="32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Text Box 3"/>
            <p:cNvSpPr/>
            <p:nvPr/>
          </p:nvSpPr>
          <p:spPr>
            <a:xfrm>
              <a:off x="317520" y="4316400"/>
              <a:ext cx="5348160" cy="32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1" name="Text Box 4"/>
          <p:cNvSpPr/>
          <p:nvPr/>
        </p:nvSpPr>
        <p:spPr>
          <a:xfrm>
            <a:off x="325440" y="2058840"/>
            <a:ext cx="4859280" cy="23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Programa de comprensión de texto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1"/>
          <p:cNvGrpSpPr/>
          <p:nvPr/>
        </p:nvGrpSpPr>
        <p:grpSpPr>
          <a:xfrm>
            <a:off x="1413000" y="2340000"/>
            <a:ext cx="3957480" cy="1508040"/>
            <a:chOff x="1413000" y="2340000"/>
            <a:chExt cx="3957480" cy="1508040"/>
          </a:xfrm>
        </p:grpSpPr>
        <p:sp>
          <p:nvSpPr>
            <p:cNvPr id="295" name="Rectangle 2"/>
            <p:cNvSpPr/>
            <p:nvPr/>
          </p:nvSpPr>
          <p:spPr>
            <a:xfrm>
              <a:off x="1413000" y="2340000"/>
              <a:ext cx="3957480" cy="1508040"/>
            </a:xfrm>
            <a:prstGeom prst="rect">
              <a:avLst/>
            </a:prstGeom>
            <a:solidFill>
              <a:srgbClr val="6ea0b0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6" name="Group 3"/>
            <p:cNvGrpSpPr/>
            <p:nvPr/>
          </p:nvGrpSpPr>
          <p:grpSpPr>
            <a:xfrm>
              <a:off x="1773360" y="2843280"/>
              <a:ext cx="3308400" cy="788760"/>
              <a:chOff x="1773360" y="2843280"/>
              <a:chExt cx="3308400" cy="788760"/>
            </a:xfrm>
          </p:grpSpPr>
          <p:grpSp>
            <p:nvGrpSpPr>
              <p:cNvPr id="297" name="Group 4"/>
              <p:cNvGrpSpPr/>
              <p:nvPr/>
            </p:nvGrpSpPr>
            <p:grpSpPr>
              <a:xfrm>
                <a:off x="1773360" y="2843280"/>
                <a:ext cx="1388880" cy="788760"/>
                <a:chOff x="1773360" y="2843280"/>
                <a:chExt cx="1388880" cy="788760"/>
              </a:xfrm>
            </p:grpSpPr>
            <p:pic>
              <p:nvPicPr>
                <p:cNvPr id="298" name="Picture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773360" y="2843280"/>
                  <a:ext cx="1388880" cy="788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9" name="Text Box 6"/>
                <p:cNvSpPr/>
                <p:nvPr/>
              </p:nvSpPr>
              <p:spPr>
                <a:xfrm>
                  <a:off x="1890720" y="2948040"/>
                  <a:ext cx="1157400" cy="58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Problema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0" name="Line 7"/>
              <p:cNvSpPr/>
              <p:nvPr/>
            </p:nvSpPr>
            <p:spPr>
              <a:xfrm>
                <a:off x="1852560" y="3330720"/>
                <a:ext cx="1231920" cy="0"/>
              </a:xfrm>
              <a:prstGeom prst="line">
                <a:avLst/>
              </a:prstGeom>
              <a:ln w="9360">
                <a:solidFill>
                  <a:srgbClr val="219a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Line 8"/>
              <p:cNvSpPr/>
              <p:nvPr/>
            </p:nvSpPr>
            <p:spPr>
              <a:xfrm>
                <a:off x="3568680" y="3389400"/>
                <a:ext cx="1231920" cy="0"/>
              </a:xfrm>
              <a:prstGeom prst="line">
                <a:avLst/>
              </a:prstGeom>
              <a:ln w="9360">
                <a:solidFill>
                  <a:srgbClr val="219a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2" name="Group 9"/>
              <p:cNvGrpSpPr/>
              <p:nvPr/>
            </p:nvGrpSpPr>
            <p:grpSpPr>
              <a:xfrm>
                <a:off x="3692520" y="2843280"/>
                <a:ext cx="1389240" cy="788760"/>
                <a:chOff x="3692520" y="2843280"/>
                <a:chExt cx="1389240" cy="788760"/>
              </a:xfrm>
            </p:grpSpPr>
            <p:pic>
              <p:nvPicPr>
                <p:cNvPr id="303" name="Picture 10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692520" y="2843280"/>
                  <a:ext cx="1389240" cy="788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4" name="Text Box 11"/>
                <p:cNvSpPr/>
                <p:nvPr/>
              </p:nvSpPr>
              <p:spPr>
                <a:xfrm>
                  <a:off x="3808440" y="2948040"/>
                  <a:ext cx="1157400" cy="58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Solución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5" name="Line 12"/>
              <p:cNvSpPr/>
              <p:nvPr/>
            </p:nvSpPr>
            <p:spPr>
              <a:xfrm>
                <a:off x="3773520" y="3330720"/>
                <a:ext cx="1231920" cy="0"/>
              </a:xfrm>
              <a:prstGeom prst="line">
                <a:avLst/>
              </a:prstGeom>
              <a:ln w="9360">
                <a:solidFill>
                  <a:srgbClr val="219a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AutoShape 13"/>
              <p:cNvSpPr/>
              <p:nvPr/>
            </p:nvSpPr>
            <p:spPr>
              <a:xfrm>
                <a:off x="3156120" y="2975040"/>
                <a:ext cx="477720" cy="395280"/>
              </a:xfrm>
              <a:prstGeom prst="leftArrow">
                <a:avLst>
                  <a:gd name="adj1" fmla="val 50000"/>
                  <a:gd name="adj2" fmla="val 58184"/>
                </a:avLst>
              </a:prstGeom>
              <a:solidFill>
                <a:srgbClr val="fcf4c7"/>
              </a:solidFill>
              <a:ln w="19080">
                <a:solidFill>
                  <a:srgbClr val="4f74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07" name="Text Box 14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0573E7-BB03-4B49-A5B7-9A8D7363989B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8" name="Group 15"/>
          <p:cNvGrpSpPr/>
          <p:nvPr/>
        </p:nvGrpSpPr>
        <p:grpSpPr>
          <a:xfrm>
            <a:off x="536400" y="165240"/>
            <a:ext cx="5348520" cy="812520"/>
            <a:chOff x="536400" y="165240"/>
            <a:chExt cx="5348520" cy="812520"/>
          </a:xfrm>
        </p:grpSpPr>
        <p:pic>
          <p:nvPicPr>
            <p:cNvPr id="309" name="Picture 16" descr=""/>
            <p:cNvPicPr/>
            <p:nvPr/>
          </p:nvPicPr>
          <p:blipFill>
            <a:blip r:embed="rId3"/>
            <a:stretch/>
          </p:blipFill>
          <p:spPr>
            <a:xfrm>
              <a:off x="536400" y="165240"/>
              <a:ext cx="5348520" cy="81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Text Box 17"/>
            <p:cNvSpPr/>
            <p:nvPr/>
          </p:nvSpPr>
          <p:spPr>
            <a:xfrm>
              <a:off x="620640" y="250920"/>
              <a:ext cx="5181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Berlin Sans FB Demi"/>
                </a:rPr>
                <a:t>PROBLEMA-SOLUCIÓN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1" name="Text Box 18"/>
          <p:cNvSpPr/>
          <p:nvPr/>
        </p:nvSpPr>
        <p:spPr>
          <a:xfrm>
            <a:off x="647640" y="1235160"/>
            <a:ext cx="583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a8c6d0"/>
                </a:solidFill>
                <a:latin typeface="Arial"/>
              </a:rPr>
              <a:t>¿</a:t>
            </a:r>
            <a:r>
              <a:rPr b="1" lang="es-ES" sz="1800" spc="-1" strike="noStrike">
                <a:solidFill>
                  <a:srgbClr val="a8c6d0"/>
                </a:solidFill>
                <a:latin typeface="Arial"/>
              </a:rPr>
              <a:t>Cómo lo detectáis? </a:t>
            </a:r>
            <a:r>
              <a:rPr b="0" lang="es-ES" sz="1800" spc="-1" strike="noStrike">
                <a:solidFill>
                  <a:srgbClr val="f7df56"/>
                </a:solidFill>
                <a:latin typeface="Arial"/>
              </a:rPr>
              <a:t>Cuando una parte del texto consiste en la exposición de un problema y la otra parte en exponer las solu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a8c6d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a8c6d0"/>
                </a:solidFill>
                <a:latin typeface="Arial"/>
              </a:rPr>
              <a:t>¿Cómo actuar? </a:t>
            </a:r>
            <a:r>
              <a:rPr b="0" lang="es-ES" sz="1800" spc="-1" strike="noStrike">
                <a:solidFill>
                  <a:srgbClr val="a8c6d0"/>
                </a:solidFill>
                <a:latin typeface="Arial"/>
              </a:rPr>
              <a:t>Representación Gráf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AutoShape 19"/>
          <p:cNvSpPr/>
          <p:nvPr/>
        </p:nvSpPr>
        <p:spPr>
          <a:xfrm>
            <a:off x="620640" y="7451640"/>
            <a:ext cx="5761080" cy="1081080"/>
          </a:xfrm>
          <a:prstGeom prst="roundRect">
            <a:avLst>
              <a:gd name="adj" fmla="val 16667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erlin Sans FB Demi"/>
              </a:rPr>
              <a:t>“</a:t>
            </a:r>
            <a:r>
              <a:rPr b="1" lang="es-ES" sz="2400" spc="-1" strike="noStrike">
                <a:solidFill>
                  <a:srgbClr val="ffffff"/>
                </a:solidFill>
                <a:latin typeface="Berlin Sans FB Demi"/>
              </a:rPr>
              <a:t>UNA SOLUCIÓN”  “OTRA MEDID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”  </a:t>
            </a:r>
            <a:r>
              <a:rPr b="0" lang="es-ES" sz="2400" spc="-1" strike="noStrike">
                <a:solidFill>
                  <a:srgbClr val="ffffff"/>
                </a:solidFill>
                <a:latin typeface="Berlin Sans FB Demi"/>
              </a:rPr>
              <a:t>“UNA DIFICULTAD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20"/>
          <p:cNvSpPr/>
          <p:nvPr/>
        </p:nvSpPr>
        <p:spPr>
          <a:xfrm>
            <a:off x="476280" y="694836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Berlin Sans FB Demi"/>
              </a:rPr>
              <a:t>Si tenéis dudas: recordad que se usan expresiones com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21"/>
          <p:cNvSpPr/>
          <p:nvPr/>
        </p:nvSpPr>
        <p:spPr>
          <a:xfrm>
            <a:off x="1484280" y="241128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erlin Sans FB Demi"/>
              </a:rPr>
              <a:t>A. Una solución para un proble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22"/>
          <p:cNvGrpSpPr/>
          <p:nvPr/>
        </p:nvGrpSpPr>
        <p:grpSpPr>
          <a:xfrm>
            <a:off x="476280" y="3924360"/>
            <a:ext cx="2878200" cy="2948040"/>
            <a:chOff x="476280" y="3924360"/>
            <a:chExt cx="2878200" cy="2948040"/>
          </a:xfrm>
        </p:grpSpPr>
        <p:sp>
          <p:nvSpPr>
            <p:cNvPr id="316" name="Rectangle 23"/>
            <p:cNvSpPr/>
            <p:nvPr/>
          </p:nvSpPr>
          <p:spPr>
            <a:xfrm>
              <a:off x="488880" y="3924360"/>
              <a:ext cx="2865600" cy="2948040"/>
            </a:xfrm>
            <a:prstGeom prst="rect">
              <a:avLst/>
            </a:prstGeom>
            <a:solidFill>
              <a:srgbClr val="6ea0b0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7" name="Group 24"/>
            <p:cNvGrpSpPr/>
            <p:nvPr/>
          </p:nvGrpSpPr>
          <p:grpSpPr>
            <a:xfrm>
              <a:off x="476280" y="5132520"/>
              <a:ext cx="1314360" cy="745920"/>
              <a:chOff x="476280" y="5132520"/>
              <a:chExt cx="1314360" cy="745920"/>
            </a:xfrm>
          </p:grpSpPr>
          <p:pic>
            <p:nvPicPr>
              <p:cNvPr id="318" name="Picture 25" descr=""/>
              <p:cNvPicPr/>
              <p:nvPr/>
            </p:nvPicPr>
            <p:blipFill>
              <a:blip r:embed="rId4"/>
              <a:stretch/>
            </p:blipFill>
            <p:spPr>
              <a:xfrm>
                <a:off x="476280" y="5132520"/>
                <a:ext cx="1314360" cy="745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9" name="Text Box 26"/>
              <p:cNvSpPr/>
              <p:nvPr/>
            </p:nvSpPr>
            <p:spPr>
              <a:xfrm>
                <a:off x="620640" y="5280120"/>
                <a:ext cx="1023840" cy="45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Arial"/>
                  </a:rPr>
                  <a:t>Problema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0" name="Text Box 27"/>
            <p:cNvSpPr/>
            <p:nvPr/>
          </p:nvSpPr>
          <p:spPr>
            <a:xfrm>
              <a:off x="631800" y="3995640"/>
              <a:ext cx="2147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Berlin Sans FB Demi"/>
                </a:rPr>
                <a:t>B. Varias soluciones  para un problem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1" name="Group 28"/>
            <p:cNvGrpSpPr/>
            <p:nvPr/>
          </p:nvGrpSpPr>
          <p:grpSpPr>
            <a:xfrm>
              <a:off x="2054160" y="4559400"/>
              <a:ext cx="1168560" cy="814320"/>
              <a:chOff x="2054160" y="4559400"/>
              <a:chExt cx="1168560" cy="814320"/>
            </a:xfrm>
          </p:grpSpPr>
          <p:pic>
            <p:nvPicPr>
              <p:cNvPr id="322" name="Picture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2054160" y="4559400"/>
                <a:ext cx="1168560" cy="81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3" name="Text Box 30"/>
              <p:cNvSpPr/>
              <p:nvPr/>
            </p:nvSpPr>
            <p:spPr>
              <a:xfrm>
                <a:off x="2170080" y="4675320"/>
                <a:ext cx="938160" cy="58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Solución 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4" name="Group 31"/>
            <p:cNvGrpSpPr/>
            <p:nvPr/>
          </p:nvGrpSpPr>
          <p:grpSpPr>
            <a:xfrm>
              <a:off x="2054160" y="5711760"/>
              <a:ext cx="1168560" cy="814320"/>
              <a:chOff x="2054160" y="5711760"/>
              <a:chExt cx="1168560" cy="814320"/>
            </a:xfrm>
          </p:grpSpPr>
          <p:pic>
            <p:nvPicPr>
              <p:cNvPr id="325" name="Picture 32" descr=""/>
              <p:cNvPicPr/>
              <p:nvPr/>
            </p:nvPicPr>
            <p:blipFill>
              <a:blip r:embed="rId6"/>
              <a:stretch/>
            </p:blipFill>
            <p:spPr>
              <a:xfrm>
                <a:off x="2054160" y="5711760"/>
                <a:ext cx="1168560" cy="81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6" name="Text Box 33"/>
              <p:cNvSpPr/>
              <p:nvPr/>
            </p:nvSpPr>
            <p:spPr>
              <a:xfrm>
                <a:off x="2170080" y="5827680"/>
                <a:ext cx="938160" cy="58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Solución 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7" name="AutoShape 34"/>
            <p:cNvSpPr/>
            <p:nvPr/>
          </p:nvSpPr>
          <p:spPr>
            <a:xfrm rot="19560000">
              <a:off x="1620720" y="4900320"/>
              <a:ext cx="497160" cy="355680"/>
            </a:xfrm>
            <a:prstGeom prst="leftArrow">
              <a:avLst>
                <a:gd name="adj1" fmla="val 50000"/>
                <a:gd name="adj2" fmla="val 49860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AutoShape 35"/>
            <p:cNvSpPr/>
            <p:nvPr/>
          </p:nvSpPr>
          <p:spPr>
            <a:xfrm rot="2400000">
              <a:off x="1625760" y="5757480"/>
              <a:ext cx="496800" cy="355680"/>
            </a:xfrm>
            <a:prstGeom prst="leftArrow">
              <a:avLst>
                <a:gd name="adj1" fmla="val 50000"/>
                <a:gd name="adj2" fmla="val 49824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Group 36"/>
          <p:cNvGrpSpPr/>
          <p:nvPr/>
        </p:nvGrpSpPr>
        <p:grpSpPr>
          <a:xfrm>
            <a:off x="3500280" y="3924360"/>
            <a:ext cx="2878200" cy="2948040"/>
            <a:chOff x="3500280" y="3924360"/>
            <a:chExt cx="2878200" cy="2948040"/>
          </a:xfrm>
        </p:grpSpPr>
        <p:sp>
          <p:nvSpPr>
            <p:cNvPr id="330" name="Rectangle 37"/>
            <p:cNvSpPr/>
            <p:nvPr/>
          </p:nvSpPr>
          <p:spPr>
            <a:xfrm>
              <a:off x="3506760" y="3924360"/>
              <a:ext cx="2863800" cy="2948040"/>
            </a:xfrm>
            <a:prstGeom prst="rect">
              <a:avLst/>
            </a:prstGeom>
            <a:solidFill>
              <a:srgbClr val="6ea0b0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Text Box 38"/>
            <p:cNvSpPr/>
            <p:nvPr/>
          </p:nvSpPr>
          <p:spPr>
            <a:xfrm>
              <a:off x="3733920" y="3997440"/>
              <a:ext cx="2260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Berlin Sans FB Demi"/>
                </a:rPr>
                <a:t>C. Dos problemas con una solució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2" name="Group 39"/>
            <p:cNvGrpSpPr/>
            <p:nvPr/>
          </p:nvGrpSpPr>
          <p:grpSpPr>
            <a:xfrm>
              <a:off x="5156280" y="5168880"/>
              <a:ext cx="1222200" cy="831960"/>
              <a:chOff x="5156280" y="5168880"/>
              <a:chExt cx="1222200" cy="831960"/>
            </a:xfrm>
          </p:grpSpPr>
          <p:pic>
            <p:nvPicPr>
              <p:cNvPr id="333" name="Picture 40" descr=""/>
              <p:cNvPicPr/>
              <p:nvPr/>
            </p:nvPicPr>
            <p:blipFill>
              <a:blip r:embed="rId7"/>
              <a:stretch/>
            </p:blipFill>
            <p:spPr>
              <a:xfrm>
                <a:off x="5156280" y="5168880"/>
                <a:ext cx="1222200" cy="83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4" name="Text Box 41"/>
              <p:cNvSpPr/>
              <p:nvPr/>
            </p:nvSpPr>
            <p:spPr>
              <a:xfrm>
                <a:off x="5275440" y="5284800"/>
                <a:ext cx="988920" cy="59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Solución 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5" name="Group 42"/>
            <p:cNvGrpSpPr/>
            <p:nvPr/>
          </p:nvGrpSpPr>
          <p:grpSpPr>
            <a:xfrm>
              <a:off x="3573360" y="5834160"/>
              <a:ext cx="1373400" cy="825480"/>
              <a:chOff x="3573360" y="5834160"/>
              <a:chExt cx="1373400" cy="825480"/>
            </a:xfrm>
          </p:grpSpPr>
          <p:pic>
            <p:nvPicPr>
              <p:cNvPr id="336" name="Picture 43" descr=""/>
              <p:cNvPicPr/>
              <p:nvPr/>
            </p:nvPicPr>
            <p:blipFill>
              <a:blip r:embed="rId8"/>
              <a:stretch/>
            </p:blipFill>
            <p:spPr>
              <a:xfrm>
                <a:off x="3573360" y="5834160"/>
                <a:ext cx="1373400" cy="825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7" name="Text Box 44"/>
              <p:cNvSpPr/>
              <p:nvPr/>
            </p:nvSpPr>
            <p:spPr>
              <a:xfrm>
                <a:off x="3727440" y="5986440"/>
                <a:ext cx="1066680" cy="52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Arial"/>
                  </a:rPr>
                  <a:t>Problema 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45"/>
            <p:cNvGrpSpPr/>
            <p:nvPr/>
          </p:nvGrpSpPr>
          <p:grpSpPr>
            <a:xfrm>
              <a:off x="3500280" y="4651200"/>
              <a:ext cx="1373400" cy="831960"/>
              <a:chOff x="3500280" y="4651200"/>
              <a:chExt cx="1373400" cy="831960"/>
            </a:xfrm>
          </p:grpSpPr>
          <p:pic>
            <p:nvPicPr>
              <p:cNvPr id="339" name="Picture 46" descr=""/>
              <p:cNvPicPr/>
              <p:nvPr/>
            </p:nvPicPr>
            <p:blipFill>
              <a:blip r:embed="rId9"/>
              <a:stretch/>
            </p:blipFill>
            <p:spPr>
              <a:xfrm>
                <a:off x="3500280" y="4651200"/>
                <a:ext cx="1373400" cy="83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0" name="Text Box 47"/>
              <p:cNvSpPr/>
              <p:nvPr/>
            </p:nvSpPr>
            <p:spPr>
              <a:xfrm>
                <a:off x="3651120" y="4805280"/>
                <a:ext cx="1067040" cy="52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Arial"/>
                  </a:rPr>
                  <a:t>Problema 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1" name="AutoShape 48"/>
            <p:cNvSpPr/>
            <p:nvPr/>
          </p:nvSpPr>
          <p:spPr>
            <a:xfrm rot="1380000">
              <a:off x="4768560" y="4968360"/>
              <a:ext cx="523800" cy="365400"/>
            </a:xfrm>
            <a:prstGeom prst="leftArrow">
              <a:avLst>
                <a:gd name="adj1" fmla="val 50000"/>
                <a:gd name="adj2" fmla="val 51168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AutoShape 49"/>
            <p:cNvSpPr/>
            <p:nvPr/>
          </p:nvSpPr>
          <p:spPr>
            <a:xfrm rot="19560000">
              <a:off x="4849920" y="5955840"/>
              <a:ext cx="523800" cy="365400"/>
            </a:xfrm>
            <a:prstGeom prst="leftArrow">
              <a:avLst>
                <a:gd name="adj1" fmla="val 50000"/>
                <a:gd name="adj2" fmla="val 51168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3" name="Rectangle 50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AutoShape 51"/>
          <p:cNvSpPr/>
          <p:nvPr/>
        </p:nvSpPr>
        <p:spPr>
          <a:xfrm>
            <a:off x="5877000" y="250920"/>
            <a:ext cx="792000" cy="64908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6353" h="21600">
                <a:moveTo>
                  <a:pt x="0" y="0"/>
                </a:moveTo>
                <a:lnTo>
                  <a:pt x="26353" y="0"/>
                </a:lnTo>
                <a:lnTo>
                  <a:pt x="26353" y="21600"/>
                </a:lnTo>
                <a:lnTo>
                  <a:pt x="0" y="21600"/>
                </a:lnTo>
                <a:close/>
              </a:path>
              <a:path fill="lightenLess" w="26353" h="21600">
                <a:moveTo>
                  <a:pt x="0" y="0"/>
                </a:moveTo>
                <a:lnTo>
                  <a:pt x="26353" y="0"/>
                </a:lnTo>
                <a:lnTo>
                  <a:pt x="24953" y="1400"/>
                </a:lnTo>
                <a:lnTo>
                  <a:pt x="1400" y="1400"/>
                </a:lnTo>
                <a:close/>
              </a:path>
              <a:path fill="darken" w="26353" h="21600">
                <a:moveTo>
                  <a:pt x="26353" y="0"/>
                </a:moveTo>
                <a:lnTo>
                  <a:pt x="26353" y="21600"/>
                </a:lnTo>
                <a:lnTo>
                  <a:pt x="24953" y="20200"/>
                </a:lnTo>
                <a:lnTo>
                  <a:pt x="24953" y="1400"/>
                </a:lnTo>
                <a:close/>
              </a:path>
              <a:path fill="darkenLess" w="26353" h="21600">
                <a:moveTo>
                  <a:pt x="263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3" y="20200"/>
                </a:lnTo>
                <a:close/>
              </a:path>
              <a:path fill="lighten" w="263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3" h="21600">
                <a:moveTo>
                  <a:pt x="6170" y="7493"/>
                </a:moveTo>
                <a:lnTo>
                  <a:pt x="9678" y="7493"/>
                </a:lnTo>
                <a:lnTo>
                  <a:pt x="9678" y="12828"/>
                </a:lnTo>
                <a:cubicBezTo>
                  <a:pt x="9678" y="13751"/>
                  <a:pt x="10479" y="14482"/>
                  <a:pt x="11514" y="14482"/>
                </a:cubicBezTo>
                <a:lnTo>
                  <a:pt x="13177" y="14482"/>
                </a:lnTo>
                <a:cubicBezTo>
                  <a:pt x="14212" y="14482"/>
                  <a:pt x="15013" y="13751"/>
                  <a:pt x="15013" y="12828"/>
                </a:cubicBezTo>
                <a:lnTo>
                  <a:pt x="15013" y="7493"/>
                </a:lnTo>
                <a:lnTo>
                  <a:pt x="13177" y="7493"/>
                </a:lnTo>
                <a:lnTo>
                  <a:pt x="16684" y="3985"/>
                </a:lnTo>
                <a:lnTo>
                  <a:pt x="20357" y="7493"/>
                </a:lnTo>
                <a:lnTo>
                  <a:pt x="18521" y="7493"/>
                </a:lnTo>
                <a:lnTo>
                  <a:pt x="18521" y="12828"/>
                </a:lnTo>
                <a:cubicBezTo>
                  <a:pt x="18521" y="15596"/>
                  <a:pt x="15944" y="18155"/>
                  <a:pt x="13177" y="18155"/>
                </a:cubicBezTo>
                <a:lnTo>
                  <a:pt x="11514" y="18155"/>
                </a:lnTo>
                <a:cubicBezTo>
                  <a:pt x="8747" y="18155"/>
                  <a:pt x="6170" y="15596"/>
                  <a:pt x="6170" y="12828"/>
                </a:cubicBez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1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8A5980-4145-46DD-9B1C-608BCF2B936A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6" name="Group 2"/>
          <p:cNvGrpSpPr/>
          <p:nvPr/>
        </p:nvGrpSpPr>
        <p:grpSpPr>
          <a:xfrm>
            <a:off x="463680" y="237960"/>
            <a:ext cx="5348160" cy="812880"/>
            <a:chOff x="463680" y="237960"/>
            <a:chExt cx="5348160" cy="812880"/>
          </a:xfrm>
        </p:grpSpPr>
        <p:pic>
          <p:nvPicPr>
            <p:cNvPr id="347" name="Picture 3" descr=""/>
            <p:cNvPicPr/>
            <p:nvPr/>
          </p:nvPicPr>
          <p:blipFill>
            <a:blip r:embed="rId1"/>
            <a:stretch/>
          </p:blipFill>
          <p:spPr>
            <a:xfrm>
              <a:off x="463680" y="237960"/>
              <a:ext cx="5348160" cy="81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Text Box 4"/>
            <p:cNvSpPr/>
            <p:nvPr/>
          </p:nvSpPr>
          <p:spPr>
            <a:xfrm>
              <a:off x="549360" y="324000"/>
              <a:ext cx="5180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Berlin Sans FB Demi"/>
                </a:rPr>
                <a:t>CAUSALIDAD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9" name="Text Box 5"/>
          <p:cNvSpPr/>
          <p:nvPr/>
        </p:nvSpPr>
        <p:spPr>
          <a:xfrm>
            <a:off x="549360" y="971640"/>
            <a:ext cx="583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a8c6d0"/>
                </a:solidFill>
                <a:latin typeface="Arial"/>
              </a:rPr>
              <a:t>¿</a:t>
            </a:r>
            <a:r>
              <a:rPr b="1" lang="es-ES" sz="1800" spc="-1" strike="noStrike">
                <a:solidFill>
                  <a:srgbClr val="a8c6d0"/>
                </a:solidFill>
                <a:latin typeface="Arial"/>
              </a:rPr>
              <a:t>Cómo lo detectáis? </a:t>
            </a:r>
            <a:r>
              <a:rPr b="0" lang="es-ES" sz="1800" spc="-1" strike="noStrike">
                <a:solidFill>
                  <a:srgbClr val="f7df56"/>
                </a:solidFill>
                <a:latin typeface="Arial"/>
              </a:rPr>
              <a:t>Cuando una parte del texto consiste en la exposición de un problema y la otra parte en exponer las solu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a8c6d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a8c6d0"/>
                </a:solidFill>
                <a:latin typeface="Arial"/>
              </a:rPr>
              <a:t>¿Cómo actuar? </a:t>
            </a:r>
            <a:r>
              <a:rPr b="0" lang="es-ES" sz="1800" spc="-1" strike="noStrike">
                <a:solidFill>
                  <a:srgbClr val="a8c6d0"/>
                </a:solidFill>
                <a:latin typeface="Arial"/>
              </a:rPr>
              <a:t>Representación Gráf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AutoShape 6"/>
          <p:cNvSpPr/>
          <p:nvPr/>
        </p:nvSpPr>
        <p:spPr>
          <a:xfrm>
            <a:off x="404640" y="7451640"/>
            <a:ext cx="5977080" cy="1081080"/>
          </a:xfrm>
          <a:prstGeom prst="roundRect">
            <a:avLst>
              <a:gd name="adj" fmla="val 16667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erlin Sans FB Demi"/>
              </a:rPr>
              <a:t>“</a:t>
            </a:r>
            <a:r>
              <a:rPr b="1" lang="es-ES" sz="2400" spc="-1" strike="noStrike">
                <a:solidFill>
                  <a:srgbClr val="ffffff"/>
                </a:solidFill>
                <a:latin typeface="Berlin Sans FB Demi"/>
              </a:rPr>
              <a:t>COMO CONSECUENCIA”  “POR TANTO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”  </a:t>
            </a:r>
            <a:r>
              <a:rPr b="0" lang="es-ES" sz="2400" spc="-1" strike="noStrike">
                <a:solidFill>
                  <a:srgbClr val="ffffff"/>
                </a:solidFill>
                <a:latin typeface="Berlin Sans FB Demi"/>
              </a:rPr>
              <a:t>“POR ELLO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 Box 7"/>
          <p:cNvSpPr/>
          <p:nvPr/>
        </p:nvSpPr>
        <p:spPr>
          <a:xfrm>
            <a:off x="333360" y="6948360"/>
            <a:ext cx="61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Berlin Sans FB Demi"/>
              </a:rPr>
              <a:t>Si tenéis dudas: recordad que se usan expresiones com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2" name="Group 8"/>
          <p:cNvGrpSpPr/>
          <p:nvPr/>
        </p:nvGrpSpPr>
        <p:grpSpPr>
          <a:xfrm>
            <a:off x="1197000" y="2268360"/>
            <a:ext cx="4460760" cy="1436760"/>
            <a:chOff x="1197000" y="2268360"/>
            <a:chExt cx="4460760" cy="1436760"/>
          </a:xfrm>
        </p:grpSpPr>
        <p:sp>
          <p:nvSpPr>
            <p:cNvPr id="353" name="Rectangle 9"/>
            <p:cNvSpPr/>
            <p:nvPr/>
          </p:nvSpPr>
          <p:spPr>
            <a:xfrm>
              <a:off x="1197000" y="2268360"/>
              <a:ext cx="4460760" cy="1436760"/>
            </a:xfrm>
            <a:prstGeom prst="rect">
              <a:avLst/>
            </a:prstGeom>
            <a:solidFill>
              <a:srgbClr val="6ea0b0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4" name="Group 10"/>
            <p:cNvGrpSpPr/>
            <p:nvPr/>
          </p:nvGrpSpPr>
          <p:grpSpPr>
            <a:xfrm>
              <a:off x="1468440" y="2760840"/>
              <a:ext cx="1538280" cy="741240"/>
              <a:chOff x="1468440" y="2760840"/>
              <a:chExt cx="1538280" cy="741240"/>
            </a:xfrm>
          </p:grpSpPr>
          <p:pic>
            <p:nvPicPr>
              <p:cNvPr id="355" name="Pictur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1468440" y="2760840"/>
                <a:ext cx="1538280" cy="74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Text Box 12"/>
              <p:cNvSpPr/>
              <p:nvPr/>
            </p:nvSpPr>
            <p:spPr>
              <a:xfrm>
                <a:off x="1584360" y="2871720"/>
                <a:ext cx="1308240" cy="51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Antecedent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7" name="Text Box 13"/>
            <p:cNvSpPr/>
            <p:nvPr/>
          </p:nvSpPr>
          <p:spPr>
            <a:xfrm>
              <a:off x="1341360" y="2413080"/>
              <a:ext cx="417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Berlin Sans FB Demi"/>
                </a:rPr>
                <a:t>A. Un antecedente y un consecuent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8" name="Group 14"/>
            <p:cNvGrpSpPr/>
            <p:nvPr/>
          </p:nvGrpSpPr>
          <p:grpSpPr>
            <a:xfrm>
              <a:off x="3706920" y="2760840"/>
              <a:ext cx="1533240" cy="741240"/>
              <a:chOff x="3706920" y="2760840"/>
              <a:chExt cx="1533240" cy="741240"/>
            </a:xfrm>
          </p:grpSpPr>
          <p:pic>
            <p:nvPicPr>
              <p:cNvPr id="359" name="Pictur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3706920" y="2760840"/>
                <a:ext cx="1533240" cy="74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0" name="Text Box 16"/>
              <p:cNvSpPr/>
              <p:nvPr/>
            </p:nvSpPr>
            <p:spPr>
              <a:xfrm>
                <a:off x="3816360" y="2871720"/>
                <a:ext cx="1308240" cy="51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Consecuent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1" name="AutoShape 17"/>
            <p:cNvSpPr/>
            <p:nvPr/>
          </p:nvSpPr>
          <p:spPr>
            <a:xfrm>
              <a:off x="3068640" y="2916360"/>
              <a:ext cx="573120" cy="357120"/>
            </a:xfrm>
            <a:prstGeom prst="rightArrow">
              <a:avLst>
                <a:gd name="adj1" fmla="val 50000"/>
                <a:gd name="adj2" fmla="val 50181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2" name="Group 18"/>
          <p:cNvGrpSpPr/>
          <p:nvPr/>
        </p:nvGrpSpPr>
        <p:grpSpPr>
          <a:xfrm>
            <a:off x="333360" y="3995640"/>
            <a:ext cx="2948040" cy="2733840"/>
            <a:chOff x="333360" y="3995640"/>
            <a:chExt cx="2948040" cy="2733840"/>
          </a:xfrm>
        </p:grpSpPr>
        <p:sp>
          <p:nvSpPr>
            <p:cNvPr id="363" name="Rectangle 19"/>
            <p:cNvSpPr/>
            <p:nvPr/>
          </p:nvSpPr>
          <p:spPr>
            <a:xfrm>
              <a:off x="333360" y="3995640"/>
              <a:ext cx="2948040" cy="2733840"/>
            </a:xfrm>
            <a:prstGeom prst="rect">
              <a:avLst/>
            </a:prstGeom>
            <a:solidFill>
              <a:srgbClr val="6ea0b0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4" name="Group 20"/>
            <p:cNvGrpSpPr/>
            <p:nvPr/>
          </p:nvGrpSpPr>
          <p:grpSpPr>
            <a:xfrm>
              <a:off x="390600" y="5353200"/>
              <a:ext cx="1319040" cy="741240"/>
              <a:chOff x="390600" y="5353200"/>
              <a:chExt cx="1319040" cy="741240"/>
            </a:xfrm>
          </p:grpSpPr>
          <p:pic>
            <p:nvPicPr>
              <p:cNvPr id="365" name="Picture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0600" y="5353200"/>
                <a:ext cx="1319040" cy="74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6" name="Text Box 22"/>
              <p:cNvSpPr/>
              <p:nvPr/>
            </p:nvSpPr>
            <p:spPr>
              <a:xfrm>
                <a:off x="504720" y="5464080"/>
                <a:ext cx="1092240" cy="51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Antecedent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7" name="Group 23"/>
            <p:cNvGrpSpPr/>
            <p:nvPr/>
          </p:nvGrpSpPr>
          <p:grpSpPr>
            <a:xfrm>
              <a:off x="1828800" y="4700520"/>
              <a:ext cx="1319040" cy="746280"/>
              <a:chOff x="1828800" y="4700520"/>
              <a:chExt cx="1319040" cy="746280"/>
            </a:xfrm>
          </p:grpSpPr>
          <p:pic>
            <p:nvPicPr>
              <p:cNvPr id="368" name="Picture 24" descr=""/>
              <p:cNvPicPr/>
              <p:nvPr/>
            </p:nvPicPr>
            <p:blipFill>
              <a:blip r:embed="rId5"/>
              <a:stretch/>
            </p:blipFill>
            <p:spPr>
              <a:xfrm>
                <a:off x="1828800" y="4700520"/>
                <a:ext cx="1319040" cy="74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9" name="Text Box 25"/>
              <p:cNvSpPr/>
              <p:nvPr/>
            </p:nvSpPr>
            <p:spPr>
              <a:xfrm>
                <a:off x="1944720" y="4816440"/>
                <a:ext cx="1092240" cy="51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Consecuent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0" name="Group 26"/>
            <p:cNvGrpSpPr/>
            <p:nvPr/>
          </p:nvGrpSpPr>
          <p:grpSpPr>
            <a:xfrm>
              <a:off x="1901880" y="5851440"/>
              <a:ext cx="1319040" cy="746280"/>
              <a:chOff x="1901880" y="5851440"/>
              <a:chExt cx="1319040" cy="746280"/>
            </a:xfrm>
          </p:grpSpPr>
          <p:pic>
            <p:nvPicPr>
              <p:cNvPr id="371" name="Picture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1901880" y="5851440"/>
                <a:ext cx="1319040" cy="74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2" name="Text Box 28"/>
              <p:cNvSpPr/>
              <p:nvPr/>
            </p:nvSpPr>
            <p:spPr>
              <a:xfrm>
                <a:off x="2016000" y="5969160"/>
                <a:ext cx="1092240" cy="51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Consecuent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3" name="AutoShape 29"/>
            <p:cNvSpPr/>
            <p:nvPr/>
          </p:nvSpPr>
          <p:spPr>
            <a:xfrm rot="19740000">
              <a:off x="1377720" y="5145120"/>
              <a:ext cx="571320" cy="208080"/>
            </a:xfrm>
            <a:prstGeom prst="rightArrow">
              <a:avLst>
                <a:gd name="adj1" fmla="val 50000"/>
                <a:gd name="adj2" fmla="val 50414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AutoShape 30"/>
            <p:cNvSpPr/>
            <p:nvPr/>
          </p:nvSpPr>
          <p:spPr>
            <a:xfrm rot="1740000">
              <a:off x="1428840" y="6064200"/>
              <a:ext cx="573120" cy="222480"/>
            </a:xfrm>
            <a:prstGeom prst="rightArrow">
              <a:avLst>
                <a:gd name="adj1" fmla="val 50000"/>
                <a:gd name="adj2" fmla="val 50352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Text Box 31"/>
            <p:cNvSpPr/>
            <p:nvPr/>
          </p:nvSpPr>
          <p:spPr>
            <a:xfrm>
              <a:off x="333360" y="4067280"/>
              <a:ext cx="2516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Berlin Sans FB Demi"/>
                </a:rPr>
                <a:t>B. Un antecedente puede dar lugar a 2 consecuent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6" name="Group 32"/>
          <p:cNvGrpSpPr/>
          <p:nvPr/>
        </p:nvGrpSpPr>
        <p:grpSpPr>
          <a:xfrm>
            <a:off x="3357720" y="3995640"/>
            <a:ext cx="3020760" cy="2733840"/>
            <a:chOff x="3357720" y="3995640"/>
            <a:chExt cx="3020760" cy="2733840"/>
          </a:xfrm>
        </p:grpSpPr>
        <p:sp>
          <p:nvSpPr>
            <p:cNvPr id="377" name="Rectangle 33"/>
            <p:cNvSpPr/>
            <p:nvPr/>
          </p:nvSpPr>
          <p:spPr>
            <a:xfrm>
              <a:off x="3368520" y="3995640"/>
              <a:ext cx="2938680" cy="2733840"/>
            </a:xfrm>
            <a:prstGeom prst="rect">
              <a:avLst/>
            </a:prstGeom>
            <a:solidFill>
              <a:srgbClr val="6ea0b0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8" name="Group 34"/>
            <p:cNvGrpSpPr/>
            <p:nvPr/>
          </p:nvGrpSpPr>
          <p:grpSpPr>
            <a:xfrm>
              <a:off x="3357720" y="4700520"/>
              <a:ext cx="1380960" cy="746280"/>
              <a:chOff x="3357720" y="4700520"/>
              <a:chExt cx="1380960" cy="746280"/>
            </a:xfrm>
          </p:grpSpPr>
          <p:pic>
            <p:nvPicPr>
              <p:cNvPr id="379" name="Picture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3357720" y="4700520"/>
                <a:ext cx="1380960" cy="74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0" name="Text Box 36"/>
              <p:cNvSpPr/>
              <p:nvPr/>
            </p:nvSpPr>
            <p:spPr>
              <a:xfrm>
                <a:off x="3468600" y="4816440"/>
                <a:ext cx="1160640" cy="51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Antecedent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37"/>
            <p:cNvGrpSpPr/>
            <p:nvPr/>
          </p:nvGrpSpPr>
          <p:grpSpPr>
            <a:xfrm>
              <a:off x="3357720" y="5851440"/>
              <a:ext cx="1314360" cy="746280"/>
              <a:chOff x="3357720" y="5851440"/>
              <a:chExt cx="1314360" cy="746280"/>
            </a:xfrm>
          </p:grpSpPr>
          <p:pic>
            <p:nvPicPr>
              <p:cNvPr id="382" name="Picture 38" descr=""/>
              <p:cNvPicPr/>
              <p:nvPr/>
            </p:nvPicPr>
            <p:blipFill>
              <a:blip r:embed="rId8"/>
              <a:stretch/>
            </p:blipFill>
            <p:spPr>
              <a:xfrm>
                <a:off x="3357720" y="5851440"/>
                <a:ext cx="1314360" cy="74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3" name="Text Box 39"/>
              <p:cNvSpPr/>
              <p:nvPr/>
            </p:nvSpPr>
            <p:spPr>
              <a:xfrm>
                <a:off x="3468600" y="5969160"/>
                <a:ext cx="1089000" cy="51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Antecedent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40"/>
            <p:cNvGrpSpPr/>
            <p:nvPr/>
          </p:nvGrpSpPr>
          <p:grpSpPr>
            <a:xfrm>
              <a:off x="4863960" y="5353200"/>
              <a:ext cx="1381320" cy="741240"/>
              <a:chOff x="4863960" y="5353200"/>
              <a:chExt cx="1381320" cy="741240"/>
            </a:xfrm>
          </p:grpSpPr>
          <p:pic>
            <p:nvPicPr>
              <p:cNvPr id="385" name="Picture 41" descr=""/>
              <p:cNvPicPr/>
              <p:nvPr/>
            </p:nvPicPr>
            <p:blipFill>
              <a:blip r:embed="rId9"/>
              <a:stretch/>
            </p:blipFill>
            <p:spPr>
              <a:xfrm>
                <a:off x="4863960" y="5353200"/>
                <a:ext cx="1381320" cy="74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Text Box 42"/>
              <p:cNvSpPr/>
              <p:nvPr/>
            </p:nvSpPr>
            <p:spPr>
              <a:xfrm>
                <a:off x="4975200" y="5464080"/>
                <a:ext cx="1160640" cy="51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Consecuent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7" name="AutoShape 43"/>
            <p:cNvSpPr/>
            <p:nvPr/>
          </p:nvSpPr>
          <p:spPr>
            <a:xfrm rot="2040000">
              <a:off x="4673160" y="5071680"/>
              <a:ext cx="571680" cy="208080"/>
            </a:xfrm>
            <a:prstGeom prst="rightArrow">
              <a:avLst>
                <a:gd name="adj1" fmla="val 50000"/>
                <a:gd name="adj2" fmla="val 50318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AutoShape 44"/>
            <p:cNvSpPr/>
            <p:nvPr/>
          </p:nvSpPr>
          <p:spPr>
            <a:xfrm rot="19740000">
              <a:off x="4671720" y="6146640"/>
              <a:ext cx="571320" cy="208080"/>
            </a:xfrm>
            <a:prstGeom prst="rightArrow">
              <a:avLst>
                <a:gd name="adj1" fmla="val 50000"/>
                <a:gd name="adj2" fmla="val 50286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Text Box 45"/>
            <p:cNvSpPr/>
            <p:nvPr/>
          </p:nvSpPr>
          <p:spPr>
            <a:xfrm>
              <a:off x="3511440" y="4067280"/>
              <a:ext cx="2867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Berlin Sans FB Demi"/>
                </a:rPr>
                <a:t>C. Varios  antecedentes pueden dar lugar a otro     consecuent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0" name="AutoShape 46"/>
          <p:cNvSpPr/>
          <p:nvPr/>
        </p:nvSpPr>
        <p:spPr>
          <a:xfrm>
            <a:off x="189000" y="8659800"/>
            <a:ext cx="260280" cy="376200"/>
          </a:xfrm>
          <a:custGeom>
            <a:avLst/>
            <a:gdLst>
              <a:gd name="textAreaLeft" fmla="*/ 16560 w 260280"/>
              <a:gd name="textAreaRight" fmla="*/ 243720 w 260280"/>
              <a:gd name="textAreaTop" fmla="*/ 16560 h 376200"/>
              <a:gd name="textAreaBottom" fmla="*/ 359640 h 376200"/>
            </a:gdLst>
            <a:ahLst/>
            <a:rect l="textAreaLeft" t="textAreaTop" r="textAreaRight" b="textAreaBottom"/>
            <a:pathLst>
              <a:path w="21600" h="31207">
                <a:moveTo>
                  <a:pt x="0" y="0"/>
                </a:moveTo>
                <a:lnTo>
                  <a:pt x="21600" y="0"/>
                </a:lnTo>
                <a:lnTo>
                  <a:pt x="21600" y="31207"/>
                </a:lnTo>
                <a:lnTo>
                  <a:pt x="0" y="31207"/>
                </a:lnTo>
                <a:close/>
              </a:path>
              <a:path fill="lightenLess" w="21600" h="312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1207">
                <a:moveTo>
                  <a:pt x="21600" y="0"/>
                </a:moveTo>
                <a:lnTo>
                  <a:pt x="21600" y="31207"/>
                </a:lnTo>
                <a:lnTo>
                  <a:pt x="20200" y="29807"/>
                </a:lnTo>
                <a:lnTo>
                  <a:pt x="20200" y="1400"/>
                </a:lnTo>
                <a:close/>
              </a:path>
              <a:path fill="darkenLess" w="21600" h="31207">
                <a:moveTo>
                  <a:pt x="21600" y="31207"/>
                </a:moveTo>
                <a:lnTo>
                  <a:pt x="0" y="31207"/>
                </a:lnTo>
                <a:lnTo>
                  <a:pt x="1400" y="29807"/>
                </a:lnTo>
                <a:lnTo>
                  <a:pt x="20200" y="29807"/>
                </a:lnTo>
                <a:close/>
              </a:path>
              <a:path fill="lighten" w="21600" h="31207">
                <a:moveTo>
                  <a:pt x="0" y="312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9807"/>
                </a:lnTo>
                <a:close/>
              </a:path>
              <a:path fill="darken" w="21600" h="31207">
                <a:moveTo>
                  <a:pt x="3794" y="12296"/>
                </a:moveTo>
                <a:lnTo>
                  <a:pt x="7301" y="12296"/>
                </a:lnTo>
                <a:lnTo>
                  <a:pt x="7301" y="17631"/>
                </a:lnTo>
                <a:cubicBezTo>
                  <a:pt x="7301" y="18554"/>
                  <a:pt x="8102" y="19285"/>
                  <a:pt x="9138" y="19285"/>
                </a:cubicBezTo>
                <a:lnTo>
                  <a:pt x="10800" y="19285"/>
                </a:lnTo>
                <a:cubicBezTo>
                  <a:pt x="11836" y="19285"/>
                  <a:pt x="12636" y="18554"/>
                  <a:pt x="12636" y="17631"/>
                </a:cubicBezTo>
                <a:lnTo>
                  <a:pt x="12636" y="12296"/>
                </a:lnTo>
                <a:lnTo>
                  <a:pt x="10800" y="12296"/>
                </a:lnTo>
                <a:lnTo>
                  <a:pt x="14308" y="8788"/>
                </a:lnTo>
                <a:lnTo>
                  <a:pt x="17981" y="12296"/>
                </a:lnTo>
                <a:lnTo>
                  <a:pt x="16144" y="12296"/>
                </a:lnTo>
                <a:lnTo>
                  <a:pt x="16144" y="17631"/>
                </a:lnTo>
                <a:cubicBezTo>
                  <a:pt x="16144" y="20399"/>
                  <a:pt x="13568" y="22958"/>
                  <a:pt x="10800" y="22958"/>
                </a:cubicBezTo>
                <a:lnTo>
                  <a:pt x="9138" y="22958"/>
                </a:lnTo>
                <a:cubicBezTo>
                  <a:pt x="6370" y="22958"/>
                  <a:pt x="3794" y="20399"/>
                  <a:pt x="3794" y="17631"/>
                </a:cubicBez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47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AutoShape 48"/>
          <p:cNvSpPr/>
          <p:nvPr/>
        </p:nvSpPr>
        <p:spPr>
          <a:xfrm>
            <a:off x="5805360" y="324000"/>
            <a:ext cx="792360" cy="647640"/>
          </a:xfrm>
          <a:custGeom>
            <a:avLst/>
            <a:gdLst>
              <a:gd name="textAreaLeft" fmla="*/ 41760 w 792360"/>
              <a:gd name="textAreaRight" fmla="*/ 750600 w 792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24" h="21600">
                <a:moveTo>
                  <a:pt x="0" y="0"/>
                </a:moveTo>
                <a:lnTo>
                  <a:pt x="26424" y="0"/>
                </a:lnTo>
                <a:lnTo>
                  <a:pt x="26424" y="21600"/>
                </a:lnTo>
                <a:lnTo>
                  <a:pt x="0" y="21600"/>
                </a:lnTo>
                <a:close/>
              </a:path>
              <a:path fill="lightenLess" w="26424" h="21600">
                <a:moveTo>
                  <a:pt x="0" y="0"/>
                </a:moveTo>
                <a:lnTo>
                  <a:pt x="26424" y="0"/>
                </a:lnTo>
                <a:lnTo>
                  <a:pt x="25024" y="1400"/>
                </a:lnTo>
                <a:lnTo>
                  <a:pt x="1400" y="1400"/>
                </a:lnTo>
                <a:close/>
              </a:path>
              <a:path fill="darken" w="26424" h="21600">
                <a:moveTo>
                  <a:pt x="26424" y="0"/>
                </a:moveTo>
                <a:lnTo>
                  <a:pt x="26424" y="21600"/>
                </a:lnTo>
                <a:lnTo>
                  <a:pt x="25024" y="20200"/>
                </a:lnTo>
                <a:lnTo>
                  <a:pt x="25024" y="1400"/>
                </a:lnTo>
                <a:close/>
              </a:path>
              <a:path fill="darkenLess" w="26424" h="21600">
                <a:moveTo>
                  <a:pt x="26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24" y="20200"/>
                </a:lnTo>
                <a:close/>
              </a:path>
              <a:path fill="lighten" w="26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24" h="21600">
                <a:moveTo>
                  <a:pt x="6206" y="7493"/>
                </a:moveTo>
                <a:lnTo>
                  <a:pt x="9713" y="7493"/>
                </a:lnTo>
                <a:lnTo>
                  <a:pt x="9713" y="12828"/>
                </a:lnTo>
                <a:cubicBezTo>
                  <a:pt x="9713" y="13751"/>
                  <a:pt x="10514" y="14482"/>
                  <a:pt x="11550" y="14482"/>
                </a:cubicBezTo>
                <a:lnTo>
                  <a:pt x="13212" y="14482"/>
                </a:lnTo>
                <a:cubicBezTo>
                  <a:pt x="14248" y="14482"/>
                  <a:pt x="15048" y="13751"/>
                  <a:pt x="15048" y="12828"/>
                </a:cubicBezTo>
                <a:lnTo>
                  <a:pt x="15048" y="7493"/>
                </a:lnTo>
                <a:lnTo>
                  <a:pt x="13212" y="7493"/>
                </a:lnTo>
                <a:lnTo>
                  <a:pt x="16720" y="3985"/>
                </a:lnTo>
                <a:lnTo>
                  <a:pt x="20393" y="7493"/>
                </a:lnTo>
                <a:lnTo>
                  <a:pt x="18556" y="7493"/>
                </a:lnTo>
                <a:lnTo>
                  <a:pt x="18556" y="12828"/>
                </a:lnTo>
                <a:cubicBezTo>
                  <a:pt x="18556" y="15596"/>
                  <a:pt x="15980" y="18155"/>
                  <a:pt x="13212" y="18155"/>
                </a:cubicBezTo>
                <a:lnTo>
                  <a:pt x="11550" y="18155"/>
                </a:lnTo>
                <a:cubicBezTo>
                  <a:pt x="8782" y="18155"/>
                  <a:pt x="6206" y="15596"/>
                  <a:pt x="6206" y="12828"/>
                </a:cubicBez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1"/>
          <p:cNvSpPr/>
          <p:nvPr/>
        </p:nvSpPr>
        <p:spPr>
          <a:xfrm>
            <a:off x="2343240" y="8562960"/>
            <a:ext cx="21715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000" spc="-1" strike="noStrike">
                <a:solidFill>
                  <a:srgbClr val="9b9a98"/>
                </a:solidFill>
                <a:latin typeface="Arial"/>
              </a:rPr>
              <a:t>Leer para comprender y aprende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2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0671D0-A63B-4AF4-98FB-61F24D3E2732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5" name="Group 3"/>
          <p:cNvGrpSpPr/>
          <p:nvPr/>
        </p:nvGrpSpPr>
        <p:grpSpPr>
          <a:xfrm>
            <a:off x="536400" y="165240"/>
            <a:ext cx="5348520" cy="812520"/>
            <a:chOff x="536400" y="165240"/>
            <a:chExt cx="5348520" cy="812520"/>
          </a:xfrm>
        </p:grpSpPr>
        <p:pic>
          <p:nvPicPr>
            <p:cNvPr id="396" name="Picture 4" descr=""/>
            <p:cNvPicPr/>
            <p:nvPr/>
          </p:nvPicPr>
          <p:blipFill>
            <a:blip r:embed="rId1"/>
            <a:stretch/>
          </p:blipFill>
          <p:spPr>
            <a:xfrm>
              <a:off x="536400" y="165240"/>
              <a:ext cx="5348520" cy="81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Text Box 5"/>
            <p:cNvSpPr/>
            <p:nvPr/>
          </p:nvSpPr>
          <p:spPr>
            <a:xfrm>
              <a:off x="620640" y="250920"/>
              <a:ext cx="5181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Berlin Sans FB Demi"/>
                </a:rPr>
                <a:t>DESCRIPCIÓN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8" name="Text Box 6"/>
          <p:cNvSpPr/>
          <p:nvPr/>
        </p:nvSpPr>
        <p:spPr>
          <a:xfrm>
            <a:off x="620640" y="1187280"/>
            <a:ext cx="58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a8c6d0"/>
                </a:solidFill>
                <a:latin typeface="Arial"/>
              </a:rPr>
              <a:t>¿</a:t>
            </a:r>
            <a:r>
              <a:rPr b="1" lang="es-ES" sz="1800" spc="-1" strike="noStrike">
                <a:solidFill>
                  <a:srgbClr val="a8c6d0"/>
                </a:solidFill>
                <a:latin typeface="Arial"/>
              </a:rPr>
              <a:t>Cómo lo detectáis</a:t>
            </a:r>
            <a:r>
              <a:rPr b="1" lang="es-ES" sz="1800" spc="-1" strike="noStrike">
                <a:solidFill>
                  <a:srgbClr val="fcf4c7"/>
                </a:solidFill>
                <a:latin typeface="Arial"/>
              </a:rPr>
              <a:t>? </a:t>
            </a:r>
            <a:r>
              <a:rPr b="0" lang="es-ES" sz="1800" spc="-1" strike="noStrike">
                <a:solidFill>
                  <a:srgbClr val="fcf4c7"/>
                </a:solidFill>
                <a:latin typeface="Arial"/>
              </a:rPr>
              <a:t>Cuando  un determinado acontecimiento o hecho (ejemplo: país), se describen diversos aspectos ( geografía, cultura, etc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a8c6d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a8c6d0"/>
                </a:solidFill>
                <a:latin typeface="Arial"/>
              </a:rPr>
              <a:t>¿Cómo actuar? </a:t>
            </a:r>
            <a:r>
              <a:rPr b="0" lang="es-ES" sz="1800" spc="-1" strike="noStrike">
                <a:solidFill>
                  <a:srgbClr val="a8c6d0"/>
                </a:solidFill>
                <a:latin typeface="Arial"/>
              </a:rPr>
              <a:t>Representación Gráf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AutoShape 7"/>
          <p:cNvSpPr/>
          <p:nvPr/>
        </p:nvSpPr>
        <p:spPr>
          <a:xfrm>
            <a:off x="404640" y="7451640"/>
            <a:ext cx="5977080" cy="1081080"/>
          </a:xfrm>
          <a:prstGeom prst="roundRect">
            <a:avLst>
              <a:gd name="adj" fmla="val 16667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erlin Sans FB Demi"/>
              </a:rPr>
              <a:t>“</a:t>
            </a:r>
            <a:r>
              <a:rPr b="1" lang="es-ES" sz="2400" spc="-1" strike="noStrike">
                <a:solidFill>
                  <a:srgbClr val="ffffff"/>
                </a:solidFill>
                <a:latin typeface="Berlin Sans FB Demi"/>
              </a:rPr>
              <a:t>RESPECTO A”  “POR UN LADO, POR OTRO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”  </a:t>
            </a:r>
            <a:r>
              <a:rPr b="0" lang="es-ES" sz="2400" spc="-1" strike="noStrike">
                <a:solidFill>
                  <a:srgbClr val="ffffff"/>
                </a:solidFill>
                <a:latin typeface="Berlin Sans FB Demi"/>
              </a:rPr>
              <a:t>“EN CUANTO A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8"/>
          <p:cNvSpPr/>
          <p:nvPr/>
        </p:nvSpPr>
        <p:spPr>
          <a:xfrm>
            <a:off x="333360" y="6948360"/>
            <a:ext cx="61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Berlin Sans FB Demi"/>
              </a:rPr>
              <a:t>Si tenéis dudas: recordad que se usan expresiones com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Group 9"/>
          <p:cNvGrpSpPr/>
          <p:nvPr/>
        </p:nvGrpSpPr>
        <p:grpSpPr>
          <a:xfrm>
            <a:off x="1052640" y="2843280"/>
            <a:ext cx="4460040" cy="3381480"/>
            <a:chOff x="1052640" y="2843280"/>
            <a:chExt cx="4460040" cy="3381480"/>
          </a:xfrm>
        </p:grpSpPr>
        <p:grpSp>
          <p:nvGrpSpPr>
            <p:cNvPr id="402" name="Group 10"/>
            <p:cNvGrpSpPr/>
            <p:nvPr/>
          </p:nvGrpSpPr>
          <p:grpSpPr>
            <a:xfrm>
              <a:off x="1052640" y="2843280"/>
              <a:ext cx="1963440" cy="1253880"/>
              <a:chOff x="1052640" y="2843280"/>
              <a:chExt cx="1963440" cy="1253880"/>
            </a:xfrm>
          </p:grpSpPr>
          <p:pic>
            <p:nvPicPr>
              <p:cNvPr id="403" name="Pictur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1052640" y="2843280"/>
                <a:ext cx="1963440" cy="125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4" name="Text Box 12"/>
              <p:cNvSpPr/>
              <p:nvPr/>
            </p:nvSpPr>
            <p:spPr>
              <a:xfrm>
                <a:off x="1187280" y="2979720"/>
                <a:ext cx="169236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ESPAÑ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5" name="Group 13"/>
            <p:cNvGrpSpPr/>
            <p:nvPr/>
          </p:nvGrpSpPr>
          <p:grpSpPr>
            <a:xfrm>
              <a:off x="3548880" y="4970520"/>
              <a:ext cx="1963800" cy="1254240"/>
              <a:chOff x="3548880" y="4970520"/>
              <a:chExt cx="1963800" cy="1254240"/>
            </a:xfrm>
          </p:grpSpPr>
          <p:pic>
            <p:nvPicPr>
              <p:cNvPr id="406" name="Pictur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3548880" y="4970520"/>
                <a:ext cx="1963800" cy="125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7" name="Text Box 15"/>
              <p:cNvSpPr/>
              <p:nvPr/>
            </p:nvSpPr>
            <p:spPr>
              <a:xfrm>
                <a:off x="3683880" y="5102280"/>
                <a:ext cx="169056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ECONOMÍ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8" name="Group 16"/>
            <p:cNvGrpSpPr/>
            <p:nvPr/>
          </p:nvGrpSpPr>
          <p:grpSpPr>
            <a:xfrm>
              <a:off x="3548880" y="3532320"/>
              <a:ext cx="1963800" cy="1253880"/>
              <a:chOff x="3548880" y="3532320"/>
              <a:chExt cx="1963800" cy="1253880"/>
            </a:xfrm>
          </p:grpSpPr>
          <p:pic>
            <p:nvPicPr>
              <p:cNvPr id="409" name="Picture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3548880" y="3532320"/>
                <a:ext cx="1963800" cy="125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0" name="Text Box 18"/>
              <p:cNvSpPr/>
              <p:nvPr/>
            </p:nvSpPr>
            <p:spPr>
              <a:xfrm>
                <a:off x="3683880" y="3664080"/>
                <a:ext cx="169056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GEOGRAFÍ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1" name="Line 19"/>
            <p:cNvSpPr/>
            <p:nvPr/>
          </p:nvSpPr>
          <p:spPr>
            <a:xfrm>
              <a:off x="1131840" y="3336840"/>
              <a:ext cx="1798920" cy="0"/>
            </a:xfrm>
            <a:prstGeom prst="line">
              <a:avLst/>
            </a:prstGeom>
            <a:ln w="41400">
              <a:solidFill>
                <a:srgbClr val="6657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Line 20"/>
            <p:cNvSpPr/>
            <p:nvPr/>
          </p:nvSpPr>
          <p:spPr>
            <a:xfrm>
              <a:off x="3629880" y="4022640"/>
              <a:ext cx="1798920" cy="0"/>
            </a:xfrm>
            <a:prstGeom prst="line">
              <a:avLst/>
            </a:prstGeom>
            <a:ln w="41400">
              <a:solidFill>
                <a:srgbClr val="6657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Line 21"/>
            <p:cNvSpPr/>
            <p:nvPr/>
          </p:nvSpPr>
          <p:spPr>
            <a:xfrm>
              <a:off x="3629880" y="5459400"/>
              <a:ext cx="1798920" cy="0"/>
            </a:xfrm>
            <a:prstGeom prst="line">
              <a:avLst/>
            </a:prstGeom>
            <a:ln w="41400">
              <a:solidFill>
                <a:srgbClr val="6657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Line 22"/>
            <p:cNvSpPr/>
            <p:nvPr/>
          </p:nvSpPr>
          <p:spPr>
            <a:xfrm>
              <a:off x="2588040" y="4022640"/>
              <a:ext cx="1038240" cy="544680"/>
            </a:xfrm>
            <a:prstGeom prst="line">
              <a:avLst/>
            </a:prstGeom>
            <a:ln w="38160">
              <a:solidFill>
                <a:srgbClr val="fcf4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Line 23"/>
            <p:cNvSpPr/>
            <p:nvPr/>
          </p:nvSpPr>
          <p:spPr>
            <a:xfrm>
              <a:off x="2518200" y="4091040"/>
              <a:ext cx="0" cy="1639800"/>
            </a:xfrm>
            <a:prstGeom prst="line">
              <a:avLst/>
            </a:prstGeom>
            <a:ln w="38160">
              <a:solidFill>
                <a:srgbClr val="fcf4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Line 24"/>
            <p:cNvSpPr/>
            <p:nvPr/>
          </p:nvSpPr>
          <p:spPr>
            <a:xfrm>
              <a:off x="2518200" y="5734080"/>
              <a:ext cx="1106280" cy="0"/>
            </a:xfrm>
            <a:prstGeom prst="line">
              <a:avLst/>
            </a:prstGeom>
            <a:ln w="38160">
              <a:solidFill>
                <a:srgbClr val="fcf4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7" name="AutoShape 25"/>
          <p:cNvSpPr/>
          <p:nvPr/>
        </p:nvSpPr>
        <p:spPr>
          <a:xfrm>
            <a:off x="5877000" y="250920"/>
            <a:ext cx="792000" cy="64908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6353" h="21600">
                <a:moveTo>
                  <a:pt x="0" y="0"/>
                </a:moveTo>
                <a:lnTo>
                  <a:pt x="26353" y="0"/>
                </a:lnTo>
                <a:lnTo>
                  <a:pt x="26353" y="21600"/>
                </a:lnTo>
                <a:lnTo>
                  <a:pt x="0" y="21600"/>
                </a:lnTo>
                <a:close/>
              </a:path>
              <a:path fill="lightenLess" w="26353" h="21600">
                <a:moveTo>
                  <a:pt x="0" y="0"/>
                </a:moveTo>
                <a:lnTo>
                  <a:pt x="26353" y="0"/>
                </a:lnTo>
                <a:lnTo>
                  <a:pt x="24953" y="1400"/>
                </a:lnTo>
                <a:lnTo>
                  <a:pt x="1400" y="1400"/>
                </a:lnTo>
                <a:close/>
              </a:path>
              <a:path fill="darken" w="26353" h="21600">
                <a:moveTo>
                  <a:pt x="26353" y="0"/>
                </a:moveTo>
                <a:lnTo>
                  <a:pt x="26353" y="21600"/>
                </a:lnTo>
                <a:lnTo>
                  <a:pt x="24953" y="20200"/>
                </a:lnTo>
                <a:lnTo>
                  <a:pt x="24953" y="1400"/>
                </a:lnTo>
                <a:close/>
              </a:path>
              <a:path fill="darkenLess" w="26353" h="21600">
                <a:moveTo>
                  <a:pt x="263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3" y="20200"/>
                </a:lnTo>
                <a:close/>
              </a:path>
              <a:path fill="lighten" w="263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3" h="21600">
                <a:moveTo>
                  <a:pt x="6170" y="7493"/>
                </a:moveTo>
                <a:lnTo>
                  <a:pt x="9678" y="7493"/>
                </a:lnTo>
                <a:lnTo>
                  <a:pt x="9678" y="12828"/>
                </a:lnTo>
                <a:cubicBezTo>
                  <a:pt x="9678" y="13751"/>
                  <a:pt x="10479" y="14482"/>
                  <a:pt x="11514" y="14482"/>
                </a:cubicBezTo>
                <a:lnTo>
                  <a:pt x="13177" y="14482"/>
                </a:lnTo>
                <a:cubicBezTo>
                  <a:pt x="14212" y="14482"/>
                  <a:pt x="15013" y="13751"/>
                  <a:pt x="15013" y="12828"/>
                </a:cubicBezTo>
                <a:lnTo>
                  <a:pt x="15013" y="7493"/>
                </a:lnTo>
                <a:lnTo>
                  <a:pt x="13177" y="7493"/>
                </a:lnTo>
                <a:lnTo>
                  <a:pt x="16684" y="3985"/>
                </a:lnTo>
                <a:lnTo>
                  <a:pt x="20357" y="7493"/>
                </a:lnTo>
                <a:lnTo>
                  <a:pt x="18521" y="7493"/>
                </a:lnTo>
                <a:lnTo>
                  <a:pt x="18521" y="12828"/>
                </a:lnTo>
                <a:cubicBezTo>
                  <a:pt x="18521" y="15596"/>
                  <a:pt x="15944" y="18155"/>
                  <a:pt x="13177" y="18155"/>
                </a:cubicBezTo>
                <a:lnTo>
                  <a:pt x="11514" y="18155"/>
                </a:lnTo>
                <a:cubicBezTo>
                  <a:pt x="8747" y="18155"/>
                  <a:pt x="6170" y="15596"/>
                  <a:pt x="6170" y="12828"/>
                </a:cubicBez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1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3FB820-7750-432C-B86E-020AA167EAF8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9" name="Group 2"/>
          <p:cNvGrpSpPr/>
          <p:nvPr/>
        </p:nvGrpSpPr>
        <p:grpSpPr>
          <a:xfrm>
            <a:off x="536400" y="165240"/>
            <a:ext cx="5348520" cy="812520"/>
            <a:chOff x="536400" y="165240"/>
            <a:chExt cx="5348520" cy="812520"/>
          </a:xfrm>
        </p:grpSpPr>
        <p:pic>
          <p:nvPicPr>
            <p:cNvPr id="420" name="Picture 3" descr=""/>
            <p:cNvPicPr/>
            <p:nvPr/>
          </p:nvPicPr>
          <p:blipFill>
            <a:blip r:embed="rId1"/>
            <a:stretch/>
          </p:blipFill>
          <p:spPr>
            <a:xfrm>
              <a:off x="536400" y="165240"/>
              <a:ext cx="5348520" cy="81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Text Box 4"/>
            <p:cNvSpPr/>
            <p:nvPr/>
          </p:nvSpPr>
          <p:spPr>
            <a:xfrm>
              <a:off x="620640" y="250920"/>
              <a:ext cx="5181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Berlin Sans FB Demi"/>
                </a:rPr>
                <a:t>SECUENCIA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2" name="Text Box 5"/>
          <p:cNvSpPr/>
          <p:nvPr/>
        </p:nvSpPr>
        <p:spPr>
          <a:xfrm>
            <a:off x="620640" y="826920"/>
            <a:ext cx="58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a8c6d0"/>
                </a:solidFill>
                <a:latin typeface="Arial"/>
              </a:rPr>
              <a:t>¿</a:t>
            </a:r>
            <a:r>
              <a:rPr b="1" lang="es-ES" sz="1800" spc="-1" strike="noStrike">
                <a:solidFill>
                  <a:srgbClr val="a8c6d0"/>
                </a:solidFill>
                <a:latin typeface="Arial"/>
              </a:rPr>
              <a:t>Cómo lo detectáis</a:t>
            </a:r>
            <a:r>
              <a:rPr b="1" lang="es-ES" sz="1800" spc="-1" strike="noStrike">
                <a:solidFill>
                  <a:srgbClr val="fcf4c7"/>
                </a:solidFill>
                <a:latin typeface="Arial"/>
              </a:rPr>
              <a:t>? </a:t>
            </a:r>
            <a:r>
              <a:rPr b="0" lang="es-ES" sz="1800" spc="-1" strike="noStrike">
                <a:solidFill>
                  <a:srgbClr val="fcf4c7"/>
                </a:solidFill>
                <a:latin typeface="Arial"/>
              </a:rPr>
              <a:t>Cuando  se describen los pasos o fases de un hecho a lo largo del tiemp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cf4c7"/>
                </a:solidFill>
                <a:latin typeface="Arial"/>
              </a:rPr>
              <a:t>Ejemplo: cómo se formó la tierr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a8c6d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a8c6d0"/>
                </a:solidFill>
                <a:latin typeface="Arial"/>
              </a:rPr>
              <a:t>¿Cómo actuar? </a:t>
            </a:r>
            <a:r>
              <a:rPr b="0" lang="es-ES" sz="1800" spc="-1" strike="noStrike">
                <a:solidFill>
                  <a:srgbClr val="a8c6d0"/>
                </a:solidFill>
                <a:latin typeface="Arial"/>
              </a:rPr>
              <a:t>Representación Gráf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AutoShape 6"/>
          <p:cNvSpPr/>
          <p:nvPr/>
        </p:nvSpPr>
        <p:spPr>
          <a:xfrm>
            <a:off x="404640" y="7451640"/>
            <a:ext cx="5977080" cy="1081080"/>
          </a:xfrm>
          <a:prstGeom prst="roundRect">
            <a:avLst>
              <a:gd name="adj" fmla="val 16667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erlin Sans FB Demi"/>
              </a:rPr>
              <a:t>“</a:t>
            </a:r>
            <a:r>
              <a:rPr b="1" lang="es-ES" sz="2400" spc="-1" strike="noStrike">
                <a:solidFill>
                  <a:srgbClr val="ffffff"/>
                </a:solidFill>
                <a:latin typeface="Berlin Sans FB Demi"/>
              </a:rPr>
              <a:t>PRIMERAMENTE”  “MÁS TARDE, POSTERIOEMENTE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”  </a:t>
            </a:r>
            <a:r>
              <a:rPr b="0" lang="es-ES" sz="2400" spc="-1" strike="noStrike">
                <a:solidFill>
                  <a:srgbClr val="ffffff"/>
                </a:solidFill>
                <a:latin typeface="Berlin Sans FB Demi"/>
              </a:rPr>
              <a:t>“SEGUIDAMENTE” “FINALMENTE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 Box 7"/>
          <p:cNvSpPr/>
          <p:nvPr/>
        </p:nvSpPr>
        <p:spPr>
          <a:xfrm>
            <a:off x="333360" y="6948360"/>
            <a:ext cx="61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Berlin Sans FB Demi"/>
              </a:rPr>
              <a:t>Si tenéis dudas: recordad que se usan expresiones com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5" name="Group 8"/>
          <p:cNvGrpSpPr/>
          <p:nvPr/>
        </p:nvGrpSpPr>
        <p:grpSpPr>
          <a:xfrm>
            <a:off x="692280" y="3059280"/>
            <a:ext cx="5470560" cy="2517480"/>
            <a:chOff x="692280" y="3059280"/>
            <a:chExt cx="5470560" cy="2517480"/>
          </a:xfrm>
        </p:grpSpPr>
        <p:grpSp>
          <p:nvGrpSpPr>
            <p:cNvPr id="426" name="Group 9"/>
            <p:cNvGrpSpPr/>
            <p:nvPr/>
          </p:nvGrpSpPr>
          <p:grpSpPr>
            <a:xfrm>
              <a:off x="692280" y="4745160"/>
              <a:ext cx="1695240" cy="831600"/>
              <a:chOff x="692280" y="4745160"/>
              <a:chExt cx="1695240" cy="831600"/>
            </a:xfrm>
          </p:grpSpPr>
          <p:pic>
            <p:nvPicPr>
              <p:cNvPr id="427" name="Picture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692280" y="4745160"/>
                <a:ext cx="1695240" cy="83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8" name="Text Box 11"/>
              <p:cNvSpPr/>
              <p:nvPr/>
            </p:nvSpPr>
            <p:spPr>
              <a:xfrm>
                <a:off x="806400" y="4859280"/>
                <a:ext cx="1467000" cy="60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Arial"/>
                  </a:rPr>
                  <a:t>FASE PRIMERA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9" name="Line 12"/>
            <p:cNvSpPr/>
            <p:nvPr/>
          </p:nvSpPr>
          <p:spPr>
            <a:xfrm>
              <a:off x="841320" y="5097600"/>
              <a:ext cx="1465200" cy="0"/>
            </a:xfrm>
            <a:prstGeom prst="line">
              <a:avLst/>
            </a:prstGeom>
            <a:ln w="38160">
              <a:solidFill>
                <a:srgbClr val="6657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0" name="Group 13"/>
            <p:cNvGrpSpPr/>
            <p:nvPr/>
          </p:nvGrpSpPr>
          <p:grpSpPr>
            <a:xfrm>
              <a:off x="4467240" y="4745160"/>
              <a:ext cx="1695600" cy="831600"/>
              <a:chOff x="4467240" y="4745160"/>
              <a:chExt cx="1695600" cy="831600"/>
            </a:xfrm>
          </p:grpSpPr>
          <p:pic>
            <p:nvPicPr>
              <p:cNvPr id="431" name="Pictur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4467240" y="4745160"/>
                <a:ext cx="1695600" cy="83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2" name="Text Box 15"/>
              <p:cNvSpPr/>
              <p:nvPr/>
            </p:nvSpPr>
            <p:spPr>
              <a:xfrm>
                <a:off x="4581360" y="4859280"/>
                <a:ext cx="1467000" cy="60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Arial"/>
                  </a:rPr>
                  <a:t>FASE TERCERA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3" name="Group 16"/>
            <p:cNvGrpSpPr/>
            <p:nvPr/>
          </p:nvGrpSpPr>
          <p:grpSpPr>
            <a:xfrm>
              <a:off x="2579760" y="4745160"/>
              <a:ext cx="1695240" cy="831600"/>
              <a:chOff x="2579760" y="4745160"/>
              <a:chExt cx="1695240" cy="831600"/>
            </a:xfrm>
          </p:grpSpPr>
          <p:pic>
            <p:nvPicPr>
              <p:cNvPr id="434" name="Picture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2579760" y="4745160"/>
                <a:ext cx="1695240" cy="83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5" name="Text Box 18"/>
              <p:cNvSpPr/>
              <p:nvPr/>
            </p:nvSpPr>
            <p:spPr>
              <a:xfrm>
                <a:off x="2693880" y="4859280"/>
                <a:ext cx="1467000" cy="60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Arial"/>
                  </a:rPr>
                  <a:t>FASE SEGUNDA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6" name="Line 19"/>
            <p:cNvSpPr/>
            <p:nvPr/>
          </p:nvSpPr>
          <p:spPr>
            <a:xfrm>
              <a:off x="2728800" y="5097600"/>
              <a:ext cx="1465200" cy="0"/>
            </a:xfrm>
            <a:prstGeom prst="line">
              <a:avLst/>
            </a:prstGeom>
            <a:ln w="38160">
              <a:solidFill>
                <a:srgbClr val="6657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Line 20"/>
            <p:cNvSpPr/>
            <p:nvPr/>
          </p:nvSpPr>
          <p:spPr>
            <a:xfrm>
              <a:off x="4616280" y="5097600"/>
              <a:ext cx="1465560" cy="0"/>
            </a:xfrm>
            <a:prstGeom prst="line">
              <a:avLst/>
            </a:prstGeom>
            <a:ln w="38160">
              <a:solidFill>
                <a:srgbClr val="6657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8" name="Group 21"/>
            <p:cNvGrpSpPr/>
            <p:nvPr/>
          </p:nvGrpSpPr>
          <p:grpSpPr>
            <a:xfrm>
              <a:off x="4467240" y="4002120"/>
              <a:ext cx="1671480" cy="493560"/>
              <a:chOff x="4467240" y="4002120"/>
              <a:chExt cx="1671480" cy="493560"/>
            </a:xfrm>
          </p:grpSpPr>
          <p:pic>
            <p:nvPicPr>
              <p:cNvPr id="439" name="Picture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4467240" y="4002120"/>
                <a:ext cx="1671480" cy="49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0" name="Text Box 23"/>
              <p:cNvSpPr/>
              <p:nvPr/>
            </p:nvSpPr>
            <p:spPr>
              <a:xfrm>
                <a:off x="4564080" y="4100400"/>
                <a:ext cx="1473120" cy="30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1" name="Group 24"/>
            <p:cNvGrpSpPr/>
            <p:nvPr/>
          </p:nvGrpSpPr>
          <p:grpSpPr>
            <a:xfrm>
              <a:off x="4467240" y="3059280"/>
              <a:ext cx="1671480" cy="493560"/>
              <a:chOff x="4467240" y="3059280"/>
              <a:chExt cx="1671480" cy="493560"/>
            </a:xfrm>
          </p:grpSpPr>
          <p:pic>
            <p:nvPicPr>
              <p:cNvPr id="442" name="Picture 25" descr=""/>
              <p:cNvPicPr/>
              <p:nvPr/>
            </p:nvPicPr>
            <p:blipFill>
              <a:blip r:embed="rId6"/>
              <a:stretch/>
            </p:blipFill>
            <p:spPr>
              <a:xfrm>
                <a:off x="4467240" y="3059280"/>
                <a:ext cx="1671480" cy="49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3" name="Text Box 26"/>
              <p:cNvSpPr/>
              <p:nvPr/>
            </p:nvSpPr>
            <p:spPr>
              <a:xfrm>
                <a:off x="4564080" y="3154320"/>
                <a:ext cx="1473120" cy="30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4" name="Group 27"/>
            <p:cNvGrpSpPr/>
            <p:nvPr/>
          </p:nvGrpSpPr>
          <p:grpSpPr>
            <a:xfrm>
              <a:off x="4467240" y="3533760"/>
              <a:ext cx="1671480" cy="493560"/>
              <a:chOff x="4467240" y="3533760"/>
              <a:chExt cx="1671480" cy="493560"/>
            </a:xfrm>
          </p:grpSpPr>
          <p:pic>
            <p:nvPicPr>
              <p:cNvPr id="445" name="Picture 28" descr=""/>
              <p:cNvPicPr/>
              <p:nvPr/>
            </p:nvPicPr>
            <p:blipFill>
              <a:blip r:embed="rId7"/>
              <a:stretch/>
            </p:blipFill>
            <p:spPr>
              <a:xfrm>
                <a:off x="4467240" y="3533760"/>
                <a:ext cx="1671480" cy="49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6" name="Text Box 29"/>
              <p:cNvSpPr/>
              <p:nvPr/>
            </p:nvSpPr>
            <p:spPr>
              <a:xfrm>
                <a:off x="4564080" y="3627360"/>
                <a:ext cx="1473120" cy="30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7" name="AutoShape 30"/>
            <p:cNvSpPr/>
            <p:nvPr/>
          </p:nvSpPr>
          <p:spPr>
            <a:xfrm>
              <a:off x="2309760" y="5029200"/>
              <a:ext cx="338040" cy="260280"/>
            </a:xfrm>
            <a:prstGeom prst="rightArrow">
              <a:avLst>
                <a:gd name="adj1" fmla="val 50000"/>
                <a:gd name="adj2" fmla="val 51770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AutoShape 31"/>
            <p:cNvSpPr/>
            <p:nvPr/>
          </p:nvSpPr>
          <p:spPr>
            <a:xfrm>
              <a:off x="4197240" y="5097600"/>
              <a:ext cx="338400" cy="258480"/>
            </a:xfrm>
            <a:prstGeom prst="rightArrow">
              <a:avLst>
                <a:gd name="adj1" fmla="val 50000"/>
                <a:gd name="adj2" fmla="val 51895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AutoShape 32"/>
            <p:cNvSpPr/>
            <p:nvPr/>
          </p:nvSpPr>
          <p:spPr>
            <a:xfrm>
              <a:off x="5316480" y="3273480"/>
              <a:ext cx="136440" cy="334800"/>
            </a:xfrm>
            <a:prstGeom prst="downArrow">
              <a:avLst>
                <a:gd name="adj1" fmla="val 50000"/>
                <a:gd name="adj2" fmla="val 49190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AutoShape 33"/>
            <p:cNvSpPr/>
            <p:nvPr/>
          </p:nvSpPr>
          <p:spPr>
            <a:xfrm>
              <a:off x="5316480" y="3813120"/>
              <a:ext cx="136440" cy="335160"/>
            </a:xfrm>
            <a:prstGeom prst="downArrow">
              <a:avLst>
                <a:gd name="adj1" fmla="val 50000"/>
                <a:gd name="adj2" fmla="val 49243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1" name="Rectangle 34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AutoShape 35"/>
          <p:cNvSpPr/>
          <p:nvPr/>
        </p:nvSpPr>
        <p:spPr>
          <a:xfrm>
            <a:off x="5950080" y="250920"/>
            <a:ext cx="647640" cy="64908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1600" h="21648">
                <a:moveTo>
                  <a:pt x="0" y="0"/>
                </a:moveTo>
                <a:lnTo>
                  <a:pt x="21600" y="0"/>
                </a:lnTo>
                <a:lnTo>
                  <a:pt x="21600" y="21648"/>
                </a:lnTo>
                <a:lnTo>
                  <a:pt x="0" y="21648"/>
                </a:lnTo>
                <a:close/>
              </a:path>
              <a:path fill="lightenLess" w="21600" h="216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8">
                <a:moveTo>
                  <a:pt x="21600" y="0"/>
                </a:moveTo>
                <a:lnTo>
                  <a:pt x="21600" y="21648"/>
                </a:lnTo>
                <a:lnTo>
                  <a:pt x="20200" y="20248"/>
                </a:lnTo>
                <a:lnTo>
                  <a:pt x="20200" y="1400"/>
                </a:lnTo>
                <a:close/>
              </a:path>
              <a:path fill="darkenLess" w="21600" h="21648">
                <a:moveTo>
                  <a:pt x="21600" y="21648"/>
                </a:moveTo>
                <a:lnTo>
                  <a:pt x="0" y="21648"/>
                </a:lnTo>
                <a:lnTo>
                  <a:pt x="1400" y="20248"/>
                </a:lnTo>
                <a:lnTo>
                  <a:pt x="20200" y="20248"/>
                </a:lnTo>
                <a:close/>
              </a:path>
              <a:path fill="lighten" w="21600" h="21648">
                <a:moveTo>
                  <a:pt x="0" y="216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8"/>
                </a:lnTo>
                <a:close/>
              </a:path>
              <a:path fill="darken" w="21600" h="21648">
                <a:moveTo>
                  <a:pt x="3794" y="7517"/>
                </a:moveTo>
                <a:lnTo>
                  <a:pt x="7301" y="7517"/>
                </a:lnTo>
                <a:lnTo>
                  <a:pt x="7301" y="12852"/>
                </a:lnTo>
                <a:cubicBezTo>
                  <a:pt x="7301" y="13775"/>
                  <a:pt x="8102" y="14506"/>
                  <a:pt x="9138" y="14506"/>
                </a:cubicBezTo>
                <a:lnTo>
                  <a:pt x="10800" y="14506"/>
                </a:lnTo>
                <a:cubicBezTo>
                  <a:pt x="11836" y="14506"/>
                  <a:pt x="12636" y="13775"/>
                  <a:pt x="12636" y="12852"/>
                </a:cubicBezTo>
                <a:lnTo>
                  <a:pt x="12636" y="7517"/>
                </a:lnTo>
                <a:lnTo>
                  <a:pt x="10800" y="7517"/>
                </a:lnTo>
                <a:lnTo>
                  <a:pt x="14308" y="4009"/>
                </a:lnTo>
                <a:lnTo>
                  <a:pt x="17981" y="7517"/>
                </a:lnTo>
                <a:lnTo>
                  <a:pt x="16144" y="7517"/>
                </a:lnTo>
                <a:lnTo>
                  <a:pt x="16144" y="12852"/>
                </a:lnTo>
                <a:cubicBezTo>
                  <a:pt x="16144" y="15620"/>
                  <a:pt x="13568" y="18179"/>
                  <a:pt x="10800" y="18179"/>
                </a:cubicBezTo>
                <a:lnTo>
                  <a:pt x="9138" y="18179"/>
                </a:lnTo>
                <a:cubicBezTo>
                  <a:pt x="6370" y="18179"/>
                  <a:pt x="3794" y="15620"/>
                  <a:pt x="3794" y="12852"/>
                </a:cubicBez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1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AB8B4E-1711-4758-82F4-A8B500F4D703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4" name="Group 2"/>
          <p:cNvGrpSpPr/>
          <p:nvPr/>
        </p:nvGrpSpPr>
        <p:grpSpPr>
          <a:xfrm>
            <a:off x="390600" y="457200"/>
            <a:ext cx="5854680" cy="1100160"/>
            <a:chOff x="390600" y="457200"/>
            <a:chExt cx="5854680" cy="1100160"/>
          </a:xfrm>
        </p:grpSpPr>
        <p:pic>
          <p:nvPicPr>
            <p:cNvPr id="455" name="Picture 3" descr=""/>
            <p:cNvPicPr/>
            <p:nvPr/>
          </p:nvPicPr>
          <p:blipFill>
            <a:blip r:embed="rId1"/>
            <a:stretch/>
          </p:blipFill>
          <p:spPr>
            <a:xfrm>
              <a:off x="390600" y="457200"/>
              <a:ext cx="5854680" cy="11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Text Box 4"/>
            <p:cNvSpPr/>
            <p:nvPr/>
          </p:nvSpPr>
          <p:spPr>
            <a:xfrm>
              <a:off x="522360" y="585720"/>
              <a:ext cx="5594400" cy="8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Berlin Sans FB Demi"/>
                </a:rPr>
                <a:t>5. </a:t>
              </a:r>
              <a:r>
                <a:rPr b="0" lang="es-ES" sz="2000" spc="-1" strike="noStrike">
                  <a:solidFill>
                    <a:srgbClr val="000000"/>
                  </a:solidFill>
                  <a:latin typeface="Berlin Sans FB Demi"/>
                </a:rPr>
                <a:t>LOCALIZACIÓN DE LOS COMPONENTES DE LA ORGANIZACIÓN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7" name="Text Box 5"/>
          <p:cNvSpPr/>
          <p:nvPr/>
        </p:nvSpPr>
        <p:spPr>
          <a:xfrm>
            <a:off x="765000" y="2050920"/>
            <a:ext cx="5328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nsiste en </a:t>
            </a:r>
            <a:r>
              <a:rPr b="0" lang="es-ES" sz="2800" spc="-1" strike="noStrike">
                <a:solidFill>
                  <a:srgbClr val="f9e98e"/>
                </a:solidFill>
                <a:latin typeface="Arial"/>
              </a:rPr>
              <a:t>averiguar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en qué párrafos se encuentran </a:t>
            </a:r>
            <a:r>
              <a:rPr b="0" lang="es-ES" sz="2800" spc="-1" strike="noStrike">
                <a:solidFill>
                  <a:srgbClr val="f9e98e"/>
                </a:solidFill>
                <a:latin typeface="Arial"/>
              </a:rPr>
              <a:t>los componentes básicos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 la organiz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ara ello debéis haceros las siguientes </a:t>
            </a:r>
            <a:r>
              <a:rPr b="0" lang="es-ES" sz="2800" spc="-1" strike="noStrike">
                <a:solidFill>
                  <a:srgbClr val="f9e98e"/>
                </a:solidFill>
                <a:latin typeface="Arial"/>
              </a:rPr>
              <a:t>preguntas: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¿Dónde están…. Las causas, las consecuencias, los problemas, las soluciones, las fases…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Rectangle 6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1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1B58A9-E7F5-4A27-9EC7-AF120F351EBC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Group 2"/>
          <p:cNvGrpSpPr/>
          <p:nvPr/>
        </p:nvGrpSpPr>
        <p:grpSpPr>
          <a:xfrm>
            <a:off x="390600" y="457200"/>
            <a:ext cx="5854680" cy="1100160"/>
            <a:chOff x="390600" y="457200"/>
            <a:chExt cx="5854680" cy="1100160"/>
          </a:xfrm>
        </p:grpSpPr>
        <p:pic>
          <p:nvPicPr>
            <p:cNvPr id="461" name="Picture 3" descr=""/>
            <p:cNvPicPr/>
            <p:nvPr/>
          </p:nvPicPr>
          <p:blipFill>
            <a:blip r:embed="rId1"/>
            <a:stretch/>
          </p:blipFill>
          <p:spPr>
            <a:xfrm>
              <a:off x="390600" y="457200"/>
              <a:ext cx="5854680" cy="11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Text Box 4"/>
            <p:cNvSpPr/>
            <p:nvPr/>
          </p:nvSpPr>
          <p:spPr>
            <a:xfrm>
              <a:off x="522360" y="585720"/>
              <a:ext cx="5594400" cy="8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Berlin Sans FB Demi"/>
                </a:rPr>
                <a:t>6 . CONSTRUCCIÓN DEL ESQUEMA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3" name="Text Box 5"/>
          <p:cNvSpPr/>
          <p:nvPr/>
        </p:nvSpPr>
        <p:spPr>
          <a:xfrm>
            <a:off x="620640" y="1835280"/>
            <a:ext cx="54007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nsiste en realizar el </a:t>
            </a:r>
            <a:r>
              <a:rPr b="1" lang="es-ES" sz="2000" spc="-1" strike="noStrike">
                <a:solidFill>
                  <a:srgbClr val="f9e98e"/>
                </a:solidFill>
                <a:latin typeface="Arial"/>
              </a:rPr>
              <a:t>GRÁFICO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que exprese la organización general del texto y refleje el número de componentes localizados en cada párraf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ebéis tener claro que el </a:t>
            </a:r>
            <a:r>
              <a:rPr b="1" lang="es-ES" sz="2000" spc="-1" strike="noStrike">
                <a:solidFill>
                  <a:srgbClr val="f9e98e"/>
                </a:solidFill>
                <a:latin typeface="Arial"/>
              </a:rPr>
              <a:t>esquem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es la </a:t>
            </a:r>
            <a:r>
              <a:rPr b="0" lang="es-ES" sz="2000" spc="-1" strike="noStrike">
                <a:solidFill>
                  <a:srgbClr val="f9e98e"/>
                </a:solidFill>
                <a:latin typeface="Arial"/>
              </a:rPr>
              <a:t>forma de organizar la información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xtraída del análisis del tex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s preciso hacerse las siguientes pregunta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¿</a:t>
            </a:r>
            <a:r>
              <a:rPr b="1" lang="es-ES" sz="2000" spc="-1" strike="noStrike">
                <a:solidFill>
                  <a:srgbClr val="f9e98e"/>
                </a:solidFill>
                <a:latin typeface="Arial"/>
                <a:ea typeface="Arial"/>
              </a:rPr>
              <a:t>Qué representación gráfica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corresponde a este tipo de organizació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¿</a:t>
            </a:r>
            <a:r>
              <a:rPr b="1" lang="es-ES" sz="2000" spc="-1" strike="noStrike">
                <a:solidFill>
                  <a:srgbClr val="f9e98e"/>
                </a:solidFill>
                <a:latin typeface="Arial"/>
                <a:ea typeface="Arial"/>
              </a:rPr>
              <a:t>Cuántos componentes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debo reflejar para poder interpretar el texto y poder organizar mis ide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o olvidéis que existen cinco formas básicas de organizar la información en los textos y que a cada una corresponde un tipo de representación gráf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Rectangle 6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1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12B203-AED7-4CAB-81DC-B2604F530555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6" name="Group 2"/>
          <p:cNvGrpSpPr/>
          <p:nvPr/>
        </p:nvGrpSpPr>
        <p:grpSpPr>
          <a:xfrm>
            <a:off x="390600" y="457200"/>
            <a:ext cx="5854680" cy="1100160"/>
            <a:chOff x="390600" y="457200"/>
            <a:chExt cx="5854680" cy="1100160"/>
          </a:xfrm>
        </p:grpSpPr>
        <p:pic>
          <p:nvPicPr>
            <p:cNvPr id="467" name="Picture 3" descr=""/>
            <p:cNvPicPr/>
            <p:nvPr/>
          </p:nvPicPr>
          <p:blipFill>
            <a:blip r:embed="rId1"/>
            <a:stretch/>
          </p:blipFill>
          <p:spPr>
            <a:xfrm>
              <a:off x="390600" y="457200"/>
              <a:ext cx="5854680" cy="11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Text Box 4"/>
            <p:cNvSpPr/>
            <p:nvPr/>
          </p:nvSpPr>
          <p:spPr>
            <a:xfrm>
              <a:off x="522360" y="585720"/>
              <a:ext cx="5594400" cy="8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Berlin Sans FB Demi"/>
                </a:rPr>
                <a:t>7. </a:t>
              </a:r>
              <a:r>
                <a:rPr b="0" lang="es-ES" sz="2000" spc="-1" strike="noStrike">
                  <a:solidFill>
                    <a:srgbClr val="000000"/>
                  </a:solidFill>
                  <a:latin typeface="Berlin Sans FB Demi"/>
                </a:rPr>
                <a:t>CONSTRUCCIÓN DEL SIGNIFICADO: RESUME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9" name="Text Box 5"/>
          <p:cNvSpPr/>
          <p:nvPr/>
        </p:nvSpPr>
        <p:spPr>
          <a:xfrm>
            <a:off x="620640" y="1979640"/>
            <a:ext cx="5400720" cy="57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9e98e"/>
                </a:solidFill>
                <a:latin typeface="Arial"/>
              </a:rPr>
              <a:t>Debéis tener clar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Qué un resum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9e98e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f9e98e"/>
                </a:solidFill>
                <a:latin typeface="Arial"/>
                <a:ea typeface="Arial"/>
              </a:rPr>
              <a:t>No es un simple títu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9e98e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f9e98e"/>
                </a:solidFill>
                <a:latin typeface="Arial"/>
                <a:ea typeface="Arial"/>
              </a:rPr>
              <a:t>No consiste en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subrayar, quitar lo redundante y copiar literalmente una lista de elementos, sin ninguna organización, continuidad y coherenc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Un buen resum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9e98e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f9e98e"/>
                </a:solidFill>
                <a:latin typeface="Arial"/>
                <a:ea typeface="Arial"/>
              </a:rPr>
              <a:t>Debe ser breve y precis</a:t>
            </a:r>
            <a:r>
              <a:rPr b="0" lang="es-ES" sz="2000" spc="-1" strike="noStrike">
                <a:solidFill>
                  <a:srgbClr val="f9e98e"/>
                </a:solidFill>
                <a:latin typeface="Arial"/>
                <a:ea typeface="Arial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Consiste en </a:t>
            </a:r>
            <a:r>
              <a:rPr b="1" lang="es-ES" sz="2000" spc="-1" strike="noStrike">
                <a:solidFill>
                  <a:srgbClr val="f9e98e"/>
                </a:solidFill>
                <a:latin typeface="Arial"/>
                <a:ea typeface="Arial"/>
              </a:rPr>
              <a:t>expresar con vuestras propias palabr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ES" sz="2000" spc="-1" strike="noStrike">
                <a:solidFill>
                  <a:srgbClr val="f9e98e"/>
                </a:solidFill>
                <a:latin typeface="Arial"/>
                <a:ea typeface="Arial"/>
              </a:rPr>
              <a:t>las ideas principales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del análisis global del texto, con organización, continuidad y coherenc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artir de la información que ya conocéis y ampliarla con la información nueva que os aporta el texto para aumentar vuestros conocimien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Rectangle 6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1"/>
          <p:cNvSpPr/>
          <p:nvPr/>
        </p:nvSpPr>
        <p:spPr>
          <a:xfrm>
            <a:off x="2343240" y="8562960"/>
            <a:ext cx="39654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2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2CA181-006C-441C-9773-2E050967998E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476280" y="826920"/>
            <a:ext cx="5977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Arial"/>
              </a:rPr>
              <a:t>¿Qué podemos hacer para comprender y aprender de forma eficaz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1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74ADDB-C846-4222-952A-AF0EEE5500F8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2"/>
          <p:cNvSpPr/>
          <p:nvPr/>
        </p:nvSpPr>
        <p:spPr>
          <a:xfrm>
            <a:off x="981000" y="684360"/>
            <a:ext cx="46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erlin Sans FB Demi"/>
              </a:rPr>
              <a:t>Para comprender bien cualquier texto escrito, debéis seguir los pasos siguien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3" descr=""/>
          <p:cNvPicPr/>
          <p:nvPr/>
        </p:nvPicPr>
        <p:blipFill>
          <a:blip r:embed="rId1"/>
          <a:stretch/>
        </p:blipFill>
        <p:spPr>
          <a:xfrm>
            <a:off x="1133640" y="1504800"/>
            <a:ext cx="4724280" cy="624852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4"/>
          <p:cNvSpPr/>
          <p:nvPr/>
        </p:nvSpPr>
        <p:spPr>
          <a:xfrm>
            <a:off x="1557360" y="845964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1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683B8C-1922-4281-8F8B-33EF3C224270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0" name="Group 2"/>
          <p:cNvGrpSpPr/>
          <p:nvPr/>
        </p:nvGrpSpPr>
        <p:grpSpPr>
          <a:xfrm>
            <a:off x="390600" y="457200"/>
            <a:ext cx="5854680" cy="1100160"/>
            <a:chOff x="390600" y="457200"/>
            <a:chExt cx="5854680" cy="1100160"/>
          </a:xfrm>
        </p:grpSpPr>
        <p:pic>
          <p:nvPicPr>
            <p:cNvPr id="231" name="Picture 3" descr=""/>
            <p:cNvPicPr/>
            <p:nvPr/>
          </p:nvPicPr>
          <p:blipFill>
            <a:blip r:embed="rId1"/>
            <a:stretch/>
          </p:blipFill>
          <p:spPr>
            <a:xfrm>
              <a:off x="390600" y="457200"/>
              <a:ext cx="5854680" cy="11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Text Box 4"/>
            <p:cNvSpPr/>
            <p:nvPr/>
          </p:nvSpPr>
          <p:spPr>
            <a:xfrm>
              <a:off x="522360" y="585720"/>
              <a:ext cx="5594400" cy="8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Berlin Sans FB Demi"/>
                </a:rPr>
                <a:t>1. </a:t>
              </a:r>
              <a:r>
                <a:rPr b="0" lang="es-ES" sz="2400" spc="-1" strike="noStrike">
                  <a:solidFill>
                    <a:srgbClr val="000000"/>
                  </a:solidFill>
                  <a:latin typeface="Berlin Sans FB Demi"/>
                </a:rPr>
                <a:t>LECTURA GLOBAL DEL TEXT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3" name="Text Box 5"/>
          <p:cNvSpPr/>
          <p:nvPr/>
        </p:nvSpPr>
        <p:spPr>
          <a:xfrm>
            <a:off x="692280" y="2195640"/>
            <a:ext cx="5545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¿</a:t>
            </a: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Cómo ha de ser esa lectura? </a:t>
            </a:r>
            <a:r>
              <a:rPr b="0" lang="es-ES" sz="4000" spc="-1" strike="noStrike">
                <a:solidFill>
                  <a:srgbClr val="f7df56"/>
                </a:solidFill>
                <a:latin typeface="Arial"/>
              </a:rPr>
              <a:t>RÁPID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¿Para qué? </a:t>
            </a:r>
            <a:r>
              <a:rPr b="0" lang="es-ES" sz="4000" spc="-1" strike="noStrike">
                <a:solidFill>
                  <a:srgbClr val="f7df56"/>
                </a:solidFill>
                <a:latin typeface="Arial"/>
              </a:rPr>
              <a:t>Para hacernos una idea general del text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1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AB7AB9-711B-4CC1-845C-D3FCC9D103B6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Group 2"/>
          <p:cNvGrpSpPr/>
          <p:nvPr/>
        </p:nvGrpSpPr>
        <p:grpSpPr>
          <a:xfrm>
            <a:off x="390600" y="457200"/>
            <a:ext cx="5854680" cy="1100160"/>
            <a:chOff x="390600" y="457200"/>
            <a:chExt cx="5854680" cy="1100160"/>
          </a:xfrm>
        </p:grpSpPr>
        <p:pic>
          <p:nvPicPr>
            <p:cNvPr id="237" name="Picture 3" descr=""/>
            <p:cNvPicPr/>
            <p:nvPr/>
          </p:nvPicPr>
          <p:blipFill>
            <a:blip r:embed="rId1"/>
            <a:stretch/>
          </p:blipFill>
          <p:spPr>
            <a:xfrm>
              <a:off x="390600" y="457200"/>
              <a:ext cx="5854680" cy="11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Text Box 4"/>
            <p:cNvSpPr/>
            <p:nvPr/>
          </p:nvSpPr>
          <p:spPr>
            <a:xfrm>
              <a:off x="522360" y="585720"/>
              <a:ext cx="5594400" cy="8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Berlin Sans FB Demi"/>
                </a:rPr>
                <a:t>2. </a:t>
              </a:r>
              <a:r>
                <a:rPr b="0" lang="es-ES" sz="2400" spc="-1" strike="noStrike">
                  <a:solidFill>
                    <a:srgbClr val="000000"/>
                  </a:solidFill>
                  <a:latin typeface="Berlin Sans FB Demi"/>
                </a:rPr>
                <a:t>LECTURA DE CADA PÁRRAF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9" name="Text Box 5"/>
          <p:cNvSpPr/>
          <p:nvPr/>
        </p:nvSpPr>
        <p:spPr>
          <a:xfrm>
            <a:off x="692280" y="1692360"/>
            <a:ext cx="5545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a8c6d0"/>
                </a:solidFill>
                <a:latin typeface="Arial"/>
              </a:rPr>
              <a:t>¿</a:t>
            </a:r>
            <a:r>
              <a:rPr b="1" lang="es-ES" sz="2400" spc="-1" strike="noStrike">
                <a:solidFill>
                  <a:srgbClr val="a8c6d0"/>
                </a:solidFill>
                <a:latin typeface="Arial"/>
              </a:rPr>
              <a:t>Cómo ha de ser esa lectura? </a:t>
            </a:r>
            <a:r>
              <a:rPr b="0" lang="es-ES" sz="2400" spc="-1" strike="noStrike">
                <a:solidFill>
                  <a:srgbClr val="f7df56"/>
                </a:solidFill>
                <a:latin typeface="Arial"/>
              </a:rPr>
              <a:t>DETENI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a8c6d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a8c6d0"/>
                </a:solidFill>
                <a:latin typeface="Arial"/>
              </a:rPr>
              <a:t>¿Para qué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7df56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7df56"/>
                </a:solidFill>
                <a:latin typeface="Arial"/>
                <a:ea typeface="Arial"/>
              </a:rPr>
              <a:t>Para determinar cuál es el asunto central sobre el que giran las ideas contenidas en cada párra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7df56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7df56"/>
                </a:solidFill>
                <a:latin typeface="Arial"/>
                <a:ea typeface="Arial"/>
              </a:rPr>
              <a:t>Debéis poner </a:t>
            </a:r>
            <a:r>
              <a:rPr b="1" lang="es-ES" sz="2400" spc="-1" strike="noStrike">
                <a:solidFill>
                  <a:srgbClr val="f2f2f2"/>
                </a:solidFill>
                <a:latin typeface="Berlin Sans FB Demi"/>
                <a:ea typeface="Arial"/>
              </a:rPr>
              <a:t>UN TÍTULO</a:t>
            </a:r>
            <a:r>
              <a:rPr b="1" lang="es-ES" sz="2400" spc="-1" strike="noStrike">
                <a:solidFill>
                  <a:srgbClr val="f7df56"/>
                </a:solidFill>
                <a:latin typeface="Berlin Sans FB Demi"/>
                <a:ea typeface="Arial"/>
              </a:rPr>
              <a:t> </a:t>
            </a:r>
            <a:r>
              <a:rPr b="0" lang="es-ES" sz="2400" spc="-1" strike="noStrike">
                <a:solidFill>
                  <a:srgbClr val="f7df56"/>
                </a:solidFill>
                <a:latin typeface="Arial"/>
                <a:ea typeface="Arial"/>
              </a:rPr>
              <a:t>a cada párrafo y colocarlo al lado , en el margen izquierdo de la ho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a8c6d0"/>
                </a:solidFill>
                <a:latin typeface="Arial"/>
              </a:rPr>
              <a:t>Debéis tener cla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7df56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7df56"/>
                </a:solidFill>
                <a:latin typeface="Arial"/>
                <a:ea typeface="Arial"/>
              </a:rPr>
              <a:t>Que </a:t>
            </a:r>
            <a:r>
              <a:rPr b="0" lang="es-ES" sz="2400" spc="-1" strike="noStrike">
                <a:solidFill>
                  <a:srgbClr val="f2f2f2"/>
                </a:solidFill>
                <a:latin typeface="Berlin Sans FB Demi"/>
                <a:ea typeface="Arial"/>
              </a:rPr>
              <a:t>el título no es un resumen</a:t>
            </a:r>
            <a:r>
              <a:rPr b="0" lang="es-ES" sz="2400" spc="-1" strike="noStrike">
                <a:solidFill>
                  <a:srgbClr val="f7df56"/>
                </a:solidFill>
                <a:latin typeface="Arial"/>
                <a:ea typeface="Arial"/>
              </a:rPr>
              <a:t>, basta con una palabra o un par de ell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7df56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7df56"/>
                </a:solidFill>
                <a:latin typeface="Arial"/>
                <a:ea typeface="Arial"/>
              </a:rPr>
              <a:t>El título </a:t>
            </a:r>
            <a:r>
              <a:rPr b="0" lang="es-ES" sz="2400" spc="-1" strike="noStrike">
                <a:solidFill>
                  <a:srgbClr val="f2f2f2"/>
                </a:solidFill>
                <a:latin typeface="Berlin Sans FB Demi"/>
                <a:ea typeface="Arial"/>
              </a:rPr>
              <a:t>no es el primer nombre </a:t>
            </a:r>
            <a:r>
              <a:rPr b="0" lang="es-ES" sz="2400" spc="-1" strike="noStrike">
                <a:solidFill>
                  <a:srgbClr val="f7df56"/>
                </a:solidFill>
                <a:latin typeface="Arial"/>
                <a:ea typeface="Arial"/>
              </a:rPr>
              <a:t>que aparece en el párraf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7df56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7df56"/>
                </a:solidFill>
                <a:latin typeface="Arial"/>
                <a:ea typeface="Arial"/>
              </a:rPr>
              <a:t>El título </a:t>
            </a:r>
            <a:r>
              <a:rPr b="0" lang="es-ES" sz="2400" spc="-1" strike="noStrike">
                <a:solidFill>
                  <a:srgbClr val="f2f2f2"/>
                </a:solidFill>
                <a:latin typeface="Berlin Sans FB Demi"/>
                <a:ea typeface="Arial"/>
              </a:rPr>
              <a:t>debe reflejar el tema específico del párrafo </a:t>
            </a:r>
            <a:r>
              <a:rPr b="0" lang="es-ES" sz="2400" spc="-1" strike="noStrike">
                <a:solidFill>
                  <a:srgbClr val="f7df56"/>
                </a:solidFill>
                <a:latin typeface="Arial"/>
                <a:ea typeface="Arial"/>
              </a:rPr>
              <a:t>y no el tema general del text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1"/>
          <p:cNvSpPr/>
          <p:nvPr/>
        </p:nvSpPr>
        <p:spPr>
          <a:xfrm>
            <a:off x="2343240" y="8562960"/>
            <a:ext cx="21715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000" spc="-1" strike="noStrike">
                <a:solidFill>
                  <a:srgbClr val="9b9a98"/>
                </a:solidFill>
                <a:latin typeface="Arial"/>
              </a:rPr>
              <a:t>Leer para comprender y aprende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2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AEFF2B-DF10-4C52-B67D-FA34C167564B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" name="Group 3"/>
          <p:cNvGrpSpPr/>
          <p:nvPr/>
        </p:nvGrpSpPr>
        <p:grpSpPr>
          <a:xfrm>
            <a:off x="390600" y="457200"/>
            <a:ext cx="5854680" cy="1100160"/>
            <a:chOff x="390600" y="457200"/>
            <a:chExt cx="5854680" cy="1100160"/>
          </a:xfrm>
        </p:grpSpPr>
        <p:pic>
          <p:nvPicPr>
            <p:cNvPr id="244" name="Picture 4" descr=""/>
            <p:cNvPicPr/>
            <p:nvPr/>
          </p:nvPicPr>
          <p:blipFill>
            <a:blip r:embed="rId1"/>
            <a:stretch/>
          </p:blipFill>
          <p:spPr>
            <a:xfrm>
              <a:off x="390600" y="457200"/>
              <a:ext cx="5854680" cy="11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Text Box 5"/>
            <p:cNvSpPr/>
            <p:nvPr/>
          </p:nvSpPr>
          <p:spPr>
            <a:xfrm>
              <a:off x="522360" y="585720"/>
              <a:ext cx="5594400" cy="8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Berlin Sans FB Demi"/>
                </a:rPr>
                <a:t>3. </a:t>
              </a:r>
              <a:r>
                <a:rPr b="0" lang="es-ES" sz="2400" spc="-1" strike="noStrike">
                  <a:solidFill>
                    <a:srgbClr val="000000"/>
                  </a:solidFill>
                  <a:latin typeface="Berlin Sans FB Demi"/>
                </a:rPr>
                <a:t>REPASO DE LOS TÍTULO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6" name="Text Box 6"/>
          <p:cNvSpPr/>
          <p:nvPr/>
        </p:nvSpPr>
        <p:spPr>
          <a:xfrm>
            <a:off x="692280" y="2195640"/>
            <a:ext cx="55450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Debéis repasar todos los título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¿Para qué? </a:t>
            </a:r>
            <a:r>
              <a:rPr b="0" lang="es-ES" sz="4000" spc="-1" strike="noStrike">
                <a:solidFill>
                  <a:srgbClr val="f7df56"/>
                </a:solidFill>
                <a:latin typeface="Arial"/>
              </a:rPr>
              <a:t>Para quedaros con el título más válido de cada párraf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1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49853F-346D-45C6-9B58-8E08D253365E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8" name="Group 2"/>
          <p:cNvGrpSpPr/>
          <p:nvPr/>
        </p:nvGrpSpPr>
        <p:grpSpPr>
          <a:xfrm>
            <a:off x="390600" y="457200"/>
            <a:ext cx="5854680" cy="1100160"/>
            <a:chOff x="390600" y="457200"/>
            <a:chExt cx="5854680" cy="1100160"/>
          </a:xfrm>
        </p:grpSpPr>
        <p:pic>
          <p:nvPicPr>
            <p:cNvPr id="249" name="Picture 3" descr=""/>
            <p:cNvPicPr/>
            <p:nvPr/>
          </p:nvPicPr>
          <p:blipFill>
            <a:blip r:embed="rId1"/>
            <a:stretch/>
          </p:blipFill>
          <p:spPr>
            <a:xfrm>
              <a:off x="390600" y="457200"/>
              <a:ext cx="5854680" cy="11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Text Box 4"/>
            <p:cNvSpPr/>
            <p:nvPr/>
          </p:nvSpPr>
          <p:spPr>
            <a:xfrm>
              <a:off x="522360" y="585720"/>
              <a:ext cx="5594400" cy="8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Berlin Sans FB Demi"/>
                </a:rPr>
                <a:t>4. ORGANIZACIÓN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1" name="Text Box 5"/>
          <p:cNvSpPr/>
          <p:nvPr/>
        </p:nvSpPr>
        <p:spPr>
          <a:xfrm>
            <a:off x="692280" y="1692360"/>
            <a:ext cx="58323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onsiste </a:t>
            </a:r>
            <a:r>
              <a:rPr b="0" lang="es-ES" sz="2800" spc="-1" strike="noStrike">
                <a:solidFill>
                  <a:srgbClr val="f7df56"/>
                </a:solidFill>
                <a:latin typeface="Arial"/>
              </a:rPr>
              <a:t>en reconocer la organización interna del tex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Debéis tener cla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7df56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7df56"/>
                </a:solidFill>
                <a:latin typeface="Arial"/>
                <a:ea typeface="Arial"/>
              </a:rPr>
              <a:t>Que todo texto escrito tiene una organiz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7df56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7df56"/>
                </a:solidFill>
                <a:latin typeface="Arial"/>
                <a:ea typeface="Arial"/>
              </a:rPr>
              <a:t>Qué existen formas distintas de organizarl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7df56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7df56"/>
                </a:solidFill>
                <a:latin typeface="Arial"/>
                <a:ea typeface="Arial"/>
              </a:rPr>
              <a:t>Qué estas formas pueden ser detectadas y representadas gráficam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¿Qué formas hay de organizar el text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1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4DEE6A-3E85-40F3-B6DF-8ECFF5F312B9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2"/>
          <p:cNvSpPr/>
          <p:nvPr/>
        </p:nvSpPr>
        <p:spPr>
          <a:xfrm>
            <a:off x="692280" y="611280"/>
            <a:ext cx="5832360" cy="82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¿Qué formas hay de organizar el text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c8c3"/>
              </a:buClr>
              <a:buFont typeface="Berlin Sans FB Demi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800" spc="-1" strike="noStrike">
                <a:solidFill>
                  <a:srgbClr val="ccccff"/>
                </a:solidFill>
                <a:latin typeface="Berlin Sans FB Demi"/>
              </a:rPr>
              <a:t>COMPARACIÓ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c8c3"/>
              </a:buClr>
              <a:buFont typeface="Berlin Sans FB Demi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800" spc="-1" strike="noStrike">
                <a:solidFill>
                  <a:srgbClr val="ccccff"/>
                </a:solidFill>
                <a:latin typeface="Berlin Sans FB Demi"/>
              </a:rPr>
              <a:t>PROBLEMA-SOLUCIÓ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c8c3"/>
              </a:buClr>
              <a:buFont typeface="Berlin Sans FB Demi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800" spc="-1" strike="noStrike">
                <a:solidFill>
                  <a:srgbClr val="ccccff"/>
                </a:solidFill>
                <a:latin typeface="Berlin Sans FB Demi"/>
              </a:rPr>
              <a:t>CAUSALIDA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c8c3"/>
              </a:buClr>
              <a:buFont typeface="Berlin Sans FB Demi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800" spc="-1" strike="noStrike">
                <a:solidFill>
                  <a:srgbClr val="ccccff"/>
                </a:solidFill>
                <a:latin typeface="Berlin Sans FB Demi"/>
              </a:rPr>
              <a:t>DESCRIPCIÓ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c8c3"/>
              </a:buClr>
              <a:buFont typeface="Berlin Sans FB Demi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800" spc="-1" strike="noStrike">
                <a:solidFill>
                  <a:srgbClr val="ccccff"/>
                </a:solidFill>
                <a:latin typeface="Berlin Sans FB Demi"/>
              </a:rPr>
              <a:t>SECUENCI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1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B5729B-36E2-4DC0-8CBB-42BB826AE51C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7" name="Group 2"/>
          <p:cNvGrpSpPr/>
          <p:nvPr/>
        </p:nvGrpSpPr>
        <p:grpSpPr>
          <a:xfrm>
            <a:off x="1109520" y="311040"/>
            <a:ext cx="4416480" cy="874800"/>
            <a:chOff x="1109520" y="311040"/>
            <a:chExt cx="4416480" cy="874800"/>
          </a:xfrm>
        </p:grpSpPr>
        <p:pic>
          <p:nvPicPr>
            <p:cNvPr id="258" name="Picture 3" descr=""/>
            <p:cNvPicPr/>
            <p:nvPr/>
          </p:nvPicPr>
          <p:blipFill>
            <a:blip r:embed="rId1"/>
            <a:stretch/>
          </p:blipFill>
          <p:spPr>
            <a:xfrm>
              <a:off x="1109520" y="311040"/>
              <a:ext cx="4416480" cy="87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Text Box 4"/>
            <p:cNvSpPr/>
            <p:nvPr/>
          </p:nvSpPr>
          <p:spPr>
            <a:xfrm>
              <a:off x="1197000" y="395280"/>
              <a:ext cx="4245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4000" spc="-1" strike="noStrike">
                  <a:solidFill>
                    <a:srgbClr val="000000"/>
                  </a:solidFill>
                  <a:latin typeface="Berlin Sans FB Demi"/>
                </a:rPr>
                <a:t>COMPARACIÓN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0" name="Text Box 5"/>
          <p:cNvSpPr/>
          <p:nvPr/>
        </p:nvSpPr>
        <p:spPr>
          <a:xfrm>
            <a:off x="620640" y="1619280"/>
            <a:ext cx="554508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a8c6d0"/>
                </a:solidFill>
                <a:latin typeface="Arial"/>
              </a:rPr>
              <a:t>¿</a:t>
            </a:r>
            <a:r>
              <a:rPr b="1" lang="es-ES" sz="2400" spc="-1" strike="noStrike">
                <a:solidFill>
                  <a:srgbClr val="a8c6d0"/>
                </a:solidFill>
                <a:latin typeface="Arial"/>
              </a:rPr>
              <a:t>Cómo lo detectáis? </a:t>
            </a:r>
            <a:r>
              <a:rPr b="0" lang="es-ES" sz="2400" spc="-1" strike="noStrike">
                <a:solidFill>
                  <a:srgbClr val="f7df56"/>
                </a:solidFill>
                <a:latin typeface="Arial"/>
              </a:rPr>
              <a:t>Cuando el texto consiste en comparar dos o más elementos o fenóme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a8c6d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a8c6d0"/>
                </a:solidFill>
                <a:latin typeface="Arial"/>
              </a:rPr>
              <a:t>¿Cómo actuar? </a:t>
            </a:r>
            <a:r>
              <a:rPr b="0" lang="es-ES" sz="2000" spc="-1" strike="noStrike">
                <a:solidFill>
                  <a:srgbClr val="a8c6d0"/>
                </a:solidFill>
                <a:latin typeface="Arial"/>
              </a:rPr>
              <a:t>Representación Gráf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Group 6"/>
          <p:cNvGrpSpPr/>
          <p:nvPr/>
        </p:nvGrpSpPr>
        <p:grpSpPr>
          <a:xfrm>
            <a:off x="836640" y="3708360"/>
            <a:ext cx="5110200" cy="2948040"/>
            <a:chOff x="836640" y="3708360"/>
            <a:chExt cx="5110200" cy="2948040"/>
          </a:xfrm>
        </p:grpSpPr>
        <p:grpSp>
          <p:nvGrpSpPr>
            <p:cNvPr id="262" name="Group 7"/>
            <p:cNvGrpSpPr/>
            <p:nvPr/>
          </p:nvGrpSpPr>
          <p:grpSpPr>
            <a:xfrm>
              <a:off x="836640" y="3708360"/>
              <a:ext cx="1565280" cy="838080"/>
              <a:chOff x="836640" y="3708360"/>
              <a:chExt cx="1565280" cy="838080"/>
            </a:xfrm>
          </p:grpSpPr>
          <p:pic>
            <p:nvPicPr>
              <p:cNvPr id="263" name="Pictur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836640" y="3708360"/>
                <a:ext cx="1565280" cy="83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" name="Text Box 9"/>
              <p:cNvSpPr/>
              <p:nvPr/>
            </p:nvSpPr>
            <p:spPr>
              <a:xfrm>
                <a:off x="954000" y="3824280"/>
                <a:ext cx="1332000" cy="61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5" name="Group 10"/>
            <p:cNvGrpSpPr/>
            <p:nvPr/>
          </p:nvGrpSpPr>
          <p:grpSpPr>
            <a:xfrm>
              <a:off x="4381560" y="3708360"/>
              <a:ext cx="1565280" cy="838080"/>
              <a:chOff x="4381560" y="3708360"/>
              <a:chExt cx="1565280" cy="838080"/>
            </a:xfrm>
          </p:grpSpPr>
          <p:pic>
            <p:nvPicPr>
              <p:cNvPr id="266" name="Pictu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4381560" y="3708360"/>
                <a:ext cx="1565280" cy="83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7" name="Text Box 12"/>
              <p:cNvSpPr/>
              <p:nvPr/>
            </p:nvSpPr>
            <p:spPr>
              <a:xfrm>
                <a:off x="4498920" y="3824280"/>
                <a:ext cx="1332000" cy="61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8" name="Group 13"/>
            <p:cNvGrpSpPr/>
            <p:nvPr/>
          </p:nvGrpSpPr>
          <p:grpSpPr>
            <a:xfrm>
              <a:off x="1425600" y="4797360"/>
              <a:ext cx="1565280" cy="838440"/>
              <a:chOff x="1425600" y="4797360"/>
              <a:chExt cx="1565280" cy="838440"/>
            </a:xfrm>
          </p:grpSpPr>
          <p:pic>
            <p:nvPicPr>
              <p:cNvPr id="269" name="Pictur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425600" y="4797360"/>
                <a:ext cx="1565280" cy="83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0" name="Text Box 15"/>
              <p:cNvSpPr/>
              <p:nvPr/>
            </p:nvSpPr>
            <p:spPr>
              <a:xfrm>
                <a:off x="1544760" y="4913280"/>
                <a:ext cx="1331640" cy="61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1" name="Group 16"/>
            <p:cNvGrpSpPr/>
            <p:nvPr/>
          </p:nvGrpSpPr>
          <p:grpSpPr>
            <a:xfrm>
              <a:off x="1425600" y="5818320"/>
              <a:ext cx="1565280" cy="838080"/>
              <a:chOff x="1425600" y="5818320"/>
              <a:chExt cx="1565280" cy="838080"/>
            </a:xfrm>
          </p:grpSpPr>
          <p:pic>
            <p:nvPicPr>
              <p:cNvPr id="272" name="Picture 17" descr=""/>
              <p:cNvPicPr/>
              <p:nvPr/>
            </p:nvPicPr>
            <p:blipFill>
              <a:blip r:embed="rId5"/>
              <a:stretch/>
            </p:blipFill>
            <p:spPr>
              <a:xfrm>
                <a:off x="1425600" y="5818320"/>
                <a:ext cx="1565280" cy="83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3" name="Text Box 18"/>
              <p:cNvSpPr/>
              <p:nvPr/>
            </p:nvSpPr>
            <p:spPr>
              <a:xfrm>
                <a:off x="1544760" y="5934240"/>
                <a:ext cx="1331640" cy="61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4" name="Group 19"/>
            <p:cNvGrpSpPr/>
            <p:nvPr/>
          </p:nvGrpSpPr>
          <p:grpSpPr>
            <a:xfrm>
              <a:off x="3419640" y="4797360"/>
              <a:ext cx="1565280" cy="838440"/>
              <a:chOff x="3419640" y="4797360"/>
              <a:chExt cx="1565280" cy="838440"/>
            </a:xfrm>
          </p:grpSpPr>
          <p:pic>
            <p:nvPicPr>
              <p:cNvPr id="275" name="Picture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3419640" y="4797360"/>
                <a:ext cx="1565280" cy="83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6" name="Text Box 21"/>
              <p:cNvSpPr/>
              <p:nvPr/>
            </p:nvSpPr>
            <p:spPr>
              <a:xfrm>
                <a:off x="3538440" y="4913280"/>
                <a:ext cx="1332000" cy="61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7" name="Group 22"/>
            <p:cNvGrpSpPr/>
            <p:nvPr/>
          </p:nvGrpSpPr>
          <p:grpSpPr>
            <a:xfrm>
              <a:off x="3419640" y="5818320"/>
              <a:ext cx="1565280" cy="838080"/>
              <a:chOff x="3419640" y="5818320"/>
              <a:chExt cx="1565280" cy="838080"/>
            </a:xfrm>
          </p:grpSpPr>
          <p:pic>
            <p:nvPicPr>
              <p:cNvPr id="278" name="Picture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3419640" y="5818320"/>
                <a:ext cx="1565280" cy="83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9" name="Text Box 24"/>
              <p:cNvSpPr/>
              <p:nvPr/>
            </p:nvSpPr>
            <p:spPr>
              <a:xfrm>
                <a:off x="3538440" y="5934240"/>
                <a:ext cx="1332000" cy="61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80" name="Picture 25" descr=""/>
            <p:cNvPicPr/>
            <p:nvPr/>
          </p:nvPicPr>
          <p:blipFill>
            <a:blip r:embed="rId8"/>
            <a:stretch/>
          </p:blipFill>
          <p:spPr>
            <a:xfrm>
              <a:off x="1143000" y="4464000"/>
              <a:ext cx="44280" cy="17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Picture 26" descr=""/>
            <p:cNvPicPr/>
            <p:nvPr/>
          </p:nvPicPr>
          <p:blipFill>
            <a:blip r:embed="rId9"/>
            <a:stretch/>
          </p:blipFill>
          <p:spPr>
            <a:xfrm>
              <a:off x="5207040" y="4464000"/>
              <a:ext cx="44280" cy="17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Picture 27" descr=""/>
            <p:cNvPicPr/>
            <p:nvPr/>
          </p:nvPicPr>
          <p:blipFill>
            <a:blip r:embed="rId10"/>
            <a:stretch/>
          </p:blipFill>
          <p:spPr>
            <a:xfrm>
              <a:off x="4741920" y="4451400"/>
              <a:ext cx="550800" cy="4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28" descr=""/>
            <p:cNvPicPr/>
            <p:nvPr/>
          </p:nvPicPr>
          <p:blipFill>
            <a:blip r:embed="rId11"/>
            <a:stretch/>
          </p:blipFill>
          <p:spPr>
            <a:xfrm>
              <a:off x="1197000" y="4451400"/>
              <a:ext cx="47448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29" descr=""/>
            <p:cNvPicPr/>
            <p:nvPr/>
          </p:nvPicPr>
          <p:blipFill>
            <a:blip r:embed="rId12"/>
            <a:stretch/>
          </p:blipFill>
          <p:spPr>
            <a:xfrm>
              <a:off x="4976640" y="6107040"/>
              <a:ext cx="303480" cy="4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30" descr=""/>
            <p:cNvPicPr/>
            <p:nvPr/>
          </p:nvPicPr>
          <p:blipFill>
            <a:blip r:embed="rId13"/>
            <a:stretch/>
          </p:blipFill>
          <p:spPr>
            <a:xfrm>
              <a:off x="1208160" y="6107040"/>
              <a:ext cx="303120" cy="4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Line 31"/>
            <p:cNvSpPr/>
            <p:nvPr/>
          </p:nvSpPr>
          <p:spPr>
            <a:xfrm>
              <a:off x="1511280" y="5083200"/>
              <a:ext cx="1398600" cy="0"/>
            </a:xfrm>
            <a:prstGeom prst="line">
              <a:avLst/>
            </a:prstGeom>
            <a:ln w="9360">
              <a:solidFill>
                <a:srgbClr val="219a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Line 32"/>
            <p:cNvSpPr/>
            <p:nvPr/>
          </p:nvSpPr>
          <p:spPr>
            <a:xfrm>
              <a:off x="3432240" y="5083200"/>
              <a:ext cx="1473120" cy="0"/>
            </a:xfrm>
            <a:prstGeom prst="line">
              <a:avLst/>
            </a:prstGeom>
            <a:ln w="9360">
              <a:solidFill>
                <a:srgbClr val="219a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Line 33"/>
            <p:cNvSpPr/>
            <p:nvPr/>
          </p:nvSpPr>
          <p:spPr>
            <a:xfrm>
              <a:off x="1511280" y="6105600"/>
              <a:ext cx="1398600" cy="0"/>
            </a:xfrm>
            <a:prstGeom prst="line">
              <a:avLst/>
            </a:prstGeom>
            <a:ln w="9360">
              <a:solidFill>
                <a:srgbClr val="219a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Line 34"/>
            <p:cNvSpPr/>
            <p:nvPr/>
          </p:nvSpPr>
          <p:spPr>
            <a:xfrm>
              <a:off x="3505320" y="6105600"/>
              <a:ext cx="1398600" cy="0"/>
            </a:xfrm>
            <a:prstGeom prst="line">
              <a:avLst/>
            </a:prstGeom>
            <a:ln w="9360">
              <a:solidFill>
                <a:srgbClr val="219a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0" name="AutoShape 35"/>
          <p:cNvSpPr/>
          <p:nvPr/>
        </p:nvSpPr>
        <p:spPr>
          <a:xfrm>
            <a:off x="620640" y="7451640"/>
            <a:ext cx="5761080" cy="1081080"/>
          </a:xfrm>
          <a:prstGeom prst="roundRect">
            <a:avLst>
              <a:gd name="adj" fmla="val 16667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erlin Sans FB Demi"/>
              </a:rPr>
              <a:t>“</a:t>
            </a:r>
            <a:r>
              <a:rPr b="1" lang="es-ES" sz="2400" spc="-1" strike="noStrike">
                <a:solidFill>
                  <a:srgbClr val="ffffff"/>
                </a:solidFill>
                <a:latin typeface="Berlin Sans FB Demi"/>
              </a:rPr>
              <a:t>A SEMEJANZA”  “A DIFERENCI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”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36"/>
          <p:cNvSpPr/>
          <p:nvPr/>
        </p:nvSpPr>
        <p:spPr>
          <a:xfrm>
            <a:off x="476280" y="694836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Berlin Sans FB Demi"/>
              </a:rPr>
              <a:t>Si tenéis dudas: recordad que se usan expresiones com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AutoShape 37"/>
          <p:cNvSpPr/>
          <p:nvPr/>
        </p:nvSpPr>
        <p:spPr>
          <a:xfrm>
            <a:off x="5732640" y="684360"/>
            <a:ext cx="792000" cy="6476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12" h="21600">
                <a:moveTo>
                  <a:pt x="0" y="0"/>
                </a:moveTo>
                <a:lnTo>
                  <a:pt x="26412" y="0"/>
                </a:lnTo>
                <a:lnTo>
                  <a:pt x="26412" y="21600"/>
                </a:lnTo>
                <a:lnTo>
                  <a:pt x="0" y="21600"/>
                </a:lnTo>
                <a:close/>
              </a:path>
              <a:path fill="lightenLess" w="26412" h="21600">
                <a:moveTo>
                  <a:pt x="0" y="0"/>
                </a:moveTo>
                <a:lnTo>
                  <a:pt x="26412" y="0"/>
                </a:lnTo>
                <a:lnTo>
                  <a:pt x="25012" y="1400"/>
                </a:lnTo>
                <a:lnTo>
                  <a:pt x="1400" y="1400"/>
                </a:lnTo>
                <a:close/>
              </a:path>
              <a:path fill="darken" w="26412" h="21600">
                <a:moveTo>
                  <a:pt x="26412" y="0"/>
                </a:moveTo>
                <a:lnTo>
                  <a:pt x="26412" y="21600"/>
                </a:lnTo>
                <a:lnTo>
                  <a:pt x="25012" y="20200"/>
                </a:lnTo>
                <a:lnTo>
                  <a:pt x="25012" y="1400"/>
                </a:lnTo>
                <a:close/>
              </a:path>
              <a:path fill="darkenLess" w="26412" h="21600">
                <a:moveTo>
                  <a:pt x="26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12" y="20200"/>
                </a:lnTo>
                <a:close/>
              </a:path>
              <a:path fill="lighten" w="26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12" h="21600">
                <a:moveTo>
                  <a:pt x="6200" y="7493"/>
                </a:moveTo>
                <a:lnTo>
                  <a:pt x="9707" y="7493"/>
                </a:lnTo>
                <a:lnTo>
                  <a:pt x="9707" y="12828"/>
                </a:lnTo>
                <a:cubicBezTo>
                  <a:pt x="9707" y="13751"/>
                  <a:pt x="10508" y="14482"/>
                  <a:pt x="11544" y="14482"/>
                </a:cubicBezTo>
                <a:lnTo>
                  <a:pt x="13206" y="14482"/>
                </a:lnTo>
                <a:cubicBezTo>
                  <a:pt x="14242" y="14482"/>
                  <a:pt x="15042" y="13751"/>
                  <a:pt x="15042" y="12828"/>
                </a:cubicBezTo>
                <a:lnTo>
                  <a:pt x="15042" y="7493"/>
                </a:lnTo>
                <a:lnTo>
                  <a:pt x="13206" y="7493"/>
                </a:lnTo>
                <a:lnTo>
                  <a:pt x="16714" y="3985"/>
                </a:lnTo>
                <a:lnTo>
                  <a:pt x="20387" y="7493"/>
                </a:lnTo>
                <a:lnTo>
                  <a:pt x="18550" y="7493"/>
                </a:lnTo>
                <a:lnTo>
                  <a:pt x="18550" y="12828"/>
                </a:lnTo>
                <a:cubicBezTo>
                  <a:pt x="18550" y="15596"/>
                  <a:pt x="15974" y="18155"/>
                  <a:pt x="13206" y="18155"/>
                </a:cubicBezTo>
                <a:lnTo>
                  <a:pt x="11544" y="18155"/>
                </a:lnTo>
                <a:cubicBezTo>
                  <a:pt x="8776" y="18155"/>
                  <a:pt x="6200" y="15596"/>
                  <a:pt x="6200" y="12828"/>
                </a:cubicBez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Rectangle 38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6:13:06Z</dcterms:created>
  <dc:creator>Usuario</dc:creator>
  <dc:description/>
  <dc:language>en-US</dc:language>
  <cp:lastModifiedBy>Usuario</cp:lastModifiedBy>
  <dcterms:modified xsi:type="dcterms:W3CDTF">2012-02-03T14:41:59Z</dcterms:modified>
  <cp:revision>35</cp:revision>
  <dc:subject/>
  <dc:title>Leer Para comprender y aprender</dc:title>
</cp:coreProperties>
</file>